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2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2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04F8E-0FB7-40ED-B55C-6E3A6736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7E082-B7CC-413F-AA6F-E64069E9F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3" name="Date Placeholder 1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 your doctors and hospital to make sure they are on your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he insurance company’s website to double check that your doctors and hospital are on the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e Evidence of co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 the insurance company and ask lots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03C1B-5999-4E40-9655-F1BC5708D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9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r groups have different rules and their OE period may not be the same as Medicare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CB001-273E-44FB-8583-481F25356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2A507-D034-4B46-973F-A3CA3E878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options during Medicare open enroll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Original Medicare, you can join, drop, or switch to another Medicare standalone prescription drug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 Medicare Advantage plan with drug coverage, you can switch to another Medicare Advantage plan with drug coverage available in your coun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Original Medicare, you can switch to a Medicare Advantage plan with drug coverage available in your county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 Medicare Advantage plan, you can switch to Original Medicare and buy a standalone Medicare Part D prescription drug plan, and if you the plan accepts you, a Medigap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5715D-8DCB-4427-8FA9-D4F72FF6C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74591-C578-47DD-84A9-6C33D1FF0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-PD means Medicare Advantage plan with prescription drug co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0530A-77ED-477D-802E-F17AEF4E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pply for the new Medigap plan you want. Make sure the plan accepts you - and you get it in wri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you decide to get a Medigap plan, there are important rules you should be aware of. We recommend you read our booklet about What you need to know about Medigaps and talk to a SHIBA counselor if you are un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ill want to choose your Medicare Part D prescription drug plan. You can find plans and enroll at medicare.gov, using the Plan Finder tool or call the plan di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1C6CB-BCB1-40C3-B835-23666E90B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348E-0706-4C8A-A451-CC78F265B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9CB3A-7814-4D2E-984B-9A3D9F2D8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F9C72-277B-4A8E-B4AB-265104B5F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Volunteers are the heart and soul of the SHIBA progra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In most cases, when you call or write, we will refer you to one of our highly-trained and very caring local volunte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 might consider joining us to help oth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8388-D7CA-43DC-90EB-1A5963CBF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0" name="Footer Placeholder 1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3414C-855C-45EA-BAD1-A99B40FE1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4" name="Footer Placeholder 1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F4C-4AB5-4404-A1BB-8DBF01D5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38D-31DD-4169-863D-97DF9AC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2C9E8-E995-417C-B813-B28410F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DC9518-26E7-465C-8738-76898973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F6362-6CA9-45DF-ABE0-FAD8DB2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B6FFA-BECE-4762-9165-730885D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B74541-2697-4546-B1AA-4967ADF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E2A1E-6127-48ED-B0B4-EBD9669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0AE29-F57B-42FC-9A6F-3636BC3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3203C0-3EDE-4B17-B163-F799AD03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0441F-F562-4C87-9C58-BD13DDB4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BC6FD-CF18-4C17-9D0D-2199E822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5F4-A2E3-4BD9-88BB-ADD5127D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D21FE-7F22-4A35-8AEB-C93F9F0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B83AF-54D1-4A33-9698-44B37F4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C87FD0-8D33-4327-8E7E-61EFED4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5E48B-56E8-4F45-A2D2-DEC0832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65AF9-23B9-4056-B59B-DB596915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EA114-9278-4102-A03D-BD4CBB2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8FF83-5EE9-4340-AD9A-FBB56B0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300CA-14D7-43D1-8829-7812170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9F88A-091C-4DB1-AA4E-3B1B7DF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579D4-951E-427A-8EC7-2B487C3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A03-D685-4143-BD5A-680599F4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96BAC-079B-4541-A652-A610DD90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704D-E1AB-43FA-937E-08BD7D08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F656-9F9A-4C58-A99D-874847C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1F05-01EF-4571-9F1C-6E0C26CF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867-0D20-480F-B619-11C285C0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15A-C857-4CEC-87FC-A07E3C2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DD74-DF2B-4D80-91FC-408B804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3306-38FC-4510-8DCA-87BC3FD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F9C-E84F-4110-853D-203D88D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A41F-BE03-4FC1-87E2-EE250F1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8C19-6F02-4093-9AB0-51AB68F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3CF-58B3-4D7A-B069-EBAA2A4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939-AF42-409A-A7D6-82F3FBC9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5BF1-B86D-453C-A988-3671A0C3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2B5-7292-4FF7-9CB7-0650927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A2B-22A4-4C54-A528-8FDCE6C4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61D28-F008-41F6-BF10-AE65EA5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517-F67B-4D5F-B18D-601680A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F85EA-8C4A-40B4-B8A5-E50FD4D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9AB55-1559-4944-A04D-2A093AC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92622-75A5-4700-906E-CA7EE22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5917D-3CA8-411E-A80C-BBD55EB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BE758-B023-4824-9AA5-1626D4C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5ABD3-1A7A-4685-904B-51CD798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CA114-6CFE-49C6-A52B-BE641A0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C1301-00B6-4014-A1DB-8E50AB7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08D24-81ED-42B8-8C57-BDF1D168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0F572-1338-4B12-A406-2D531F98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6CC-9FDF-4E51-9E25-74F23C6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2C1F9-235D-46E7-AAD5-B94DFB1E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4C9CE-08D4-446F-B5AF-DECDCDC6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582EE-2501-4522-AF33-EB4EF6F4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E8A7B-974A-4313-9BE3-BFCBE911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D25BE-5777-4534-8BCF-C9D4D97A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AB074-EC8D-415D-AE50-572E16B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0E58B-D63A-4D0F-AA79-F753712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203CC-E2BA-48C3-A851-E936789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1B12E-CAB2-4E93-8809-31DB606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189F0-318C-4285-82B2-946841B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B6F-D4A4-48BC-A3A0-0AF4FB1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B4932-DE0D-47C3-A4FC-7729A02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E53F5-194D-4537-8A61-DEF70137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C22C7-B46C-42F1-A93F-37B6187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76A17-6FE2-4FFA-B838-12F36C2F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DD6C0-BFCA-4FD0-B506-AB5E7B56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40C89-8444-4A02-BEBB-B2D89F2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BF8DA-D220-4535-BF16-6673165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53CA0-C573-4520-A14E-97F12B0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094DF-2D77-4723-B868-13951EA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0854A-658A-49B0-B325-C9889FC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CD1-88BB-46CA-95AB-6FA92F6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CD857-2375-4F35-9101-9363F3E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B7D15-248B-4BDD-BB65-B9C0B5A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012AC-9D4B-4319-88D0-76DC4A9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33416-2D78-4871-8CA3-4B66BFFA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CD57E-DB51-466A-BBA3-5E8AD03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455F8-F612-4064-8FED-E9ACFF6B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212FB-979D-4817-88E2-6F6EF927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C5CC8-7D74-4C39-8224-99914A3A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E0D7F-18F9-4F7A-B114-E1FA7615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452AD-76B6-4025-9D28-1691DDD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F25-531A-4D54-9AB1-56497C0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DBA87-3F84-4ADF-AAF6-F912A0F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EE2A4-0C00-465C-81FF-7A5807B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A4DE9-FF8F-4189-88F6-F5FF71B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AE4E6-465C-4FEB-A062-AE01750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0EEB1-1F07-4D38-B629-0AF5EB6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13752-B74B-4CD2-9913-6C208451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FE90A-37E2-4946-BA0D-8C4B1DB2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116DE-A375-49E2-A23E-4E709A00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5CECF-1EEF-476D-8559-905ECBCD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7BD73F-0EC7-4B7B-97C3-A81FB29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E940A-8844-47DB-81E7-4777D698FF3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B019A-3C54-4576-8594-FE19AF6EE90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/18/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dicare Open Enroll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474BF-0B7E-4106-B2C2-F3161A8D5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87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88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0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hispanic over 65 couple.JPG"/>
          <p:cNvPicPr/>
          <p:nvPr/>
        </p:nvPicPr>
        <p:blipFill>
          <a:blip r:embed="rId6"/>
          <a:srcRect l="0" t="-10" r="0" b="0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3/18/20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135" name="Rectangle 2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36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138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0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8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84678"/>
                </a:solidFill>
                <a:latin typeface="Segoe UI"/>
                <a:ea typeface="Segoe UI"/>
              </a:rPr>
              <a:t>3/18/2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8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85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6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D8EF3-2D33-4B2C-B111-315D8903A7E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29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0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1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2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3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4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EABFA-0A24-40AD-8F5F-3774A895ED4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75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76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77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5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6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7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E8C09-F2A3-4174-8A9C-D7A9864D586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8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9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BE3A-CF78-41A6-B4FD-A7FFD4ACF71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6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6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A8D07-C99A-45EB-8C21-CFA35C5450E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81000" y="3754080"/>
            <a:ext cx="692460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2025 Medicare </a:t>
            </a:r>
            <a:br>
              <a:rPr sz="3600"/>
            </a:b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pen Enrollment 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3562200" y="6019920"/>
            <a:ext cx="5243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Update 9.9.2025</a:t>
            </a:r>
            <a:endParaRPr b="0" lang="en-US" sz="11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as your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plan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changed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r insurance plan migh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iscontinue servi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duce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st mo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 network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483C7-D1EA-445E-876D-01D6FB55ECF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ave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your needs 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hanged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New treatmen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oved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ncome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escription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7FD74-8409-4D1A-9B8C-64187BCDD46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a notice from the company or government agenc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newsletter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They might use a different company to manage benefit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E3DC0-C4A4-465A-9726-EF6DD9235D3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letters from DSHS or HCA or your community services office (CSO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mail from Social Security (SSA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 web site for your insurance company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DSH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20A92-F0D1-445B-9238-7A321100C14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Advantage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Advantage plans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send you an Annual Notice of Chang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mai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email (spam or junk folder?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number on your insurance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6A985-FF5F-4B43-9696-EF488EBF338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hanges to watch out for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 network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escription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vered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ules about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ior authorization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ferral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-pays, co-insurance, deductibl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D406-101A-4BC4-8EC0-308518847CC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Part D pla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Part D plans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send you an Annual Notice of Chan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mail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email (spam or junk folder?)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number on your insurance card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89B43-6994-4C10-81BB-F825FB299DF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the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60360" y="1310760"/>
            <a:ext cx="79106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Medicare supplement plans and other insuranc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F510C-4E01-4EE5-930B-3D81AC0496A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3: Compare optio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4FBE0-259A-42BF-BA28-9530886F5B3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 might be best to stay with your grou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group might offer more than one opt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Get help from the company or union or health plan to comp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0561-A15D-495B-8D1A-CADF140656B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Four step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EBDC6-AD85-43C0-8057-5A35601CDA2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71" name="Picture 10" descr=""/>
          <p:cNvPicPr/>
          <p:nvPr/>
        </p:nvPicPr>
        <p:blipFill>
          <a:blip r:embed="rId1"/>
          <a:stretch/>
        </p:blipFill>
        <p:spPr>
          <a:xfrm>
            <a:off x="411120" y="1233360"/>
            <a:ext cx="832176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’re on Medicaid, and have Medicare Advantage plan &amp; you want to change to a different Medicare Advantage plan in your county, you can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E978C-61D9-4E14-A27E-94C93A46E1D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Advantage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detai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0ADD2-9310-4A7E-9480-DDFE913C5FE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Part D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detai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A73C5-1E0A-4169-B6E9-305E75E338F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ro tip: Read the fine prin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“Evidence of Coverage” document is the most complete explanation of your rights and protection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details about your insurance, get this document and read it carefully – you can ask the company to send it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explain i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81CFF-9403-4F01-A355-3E38AB71AEF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lan Finder tool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Create an account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t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ists your drug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hows your providers and bil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ave your work for later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asy to make chang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97AB8-4D39-4107-93F6-EAA30E7344E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Do your researc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98400" y="1310760"/>
            <a:ext cx="78184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Your #1 priority is to make sure you have access to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cal hospital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vered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7" name="Slide Number Placeholder 6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D25C0-3589-4C64-BC79-C6DF5AD6A4B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ke not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rite down the names and dates and phone numbers and websit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 talk with an insurance agent, write down their license number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10853-813F-4FD9-A57B-96120EFB9E8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ake act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7AD68-304C-4934-9657-7E9CE0AD3B4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Know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your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deadlin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Medicare Open Enrollment period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ctober 15 – December 7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mployer group plans –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Set their own Open Enrollment Peri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Be sure to ask and confirm the dat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hich forms you need to us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7B146-650B-4781-AD9D-D9823036FBF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insurance approach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03BD3-2BC1-4B60-AE69-CBA45F6C194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06" name="Picture 10" descr="Diagram&#10;&#10;AI-generated content may be incorrect."/>
          <p:cNvPicPr/>
          <p:nvPr/>
        </p:nvPicPr>
        <p:blipFill>
          <a:blip r:embed="rId1"/>
          <a:stretch/>
        </p:blipFill>
        <p:spPr>
          <a:xfrm>
            <a:off x="2367000" y="1135080"/>
            <a:ext cx="4491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1: Know  you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DD15A-B8B9-4A9E-8589-2597F7AB5DF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Arial"/>
                <a:ea typeface="Aptos"/>
              </a:rPr>
              <a:t>Let’s explore your options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719280" y="1349280"/>
          <a:ext cx="7549920" cy="4389480"/>
        </p:xfrm>
        <a:graphic>
          <a:graphicData uri="http://schemas.openxmlformats.org/drawingml/2006/table">
            <a:tbl>
              <a:tblPr/>
              <a:tblGrid>
                <a:gridCol w="2814480"/>
                <a:gridCol w="1920960"/>
                <a:gridCol w="281448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Part D 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Part D 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Original Medi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Original Medi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Arrow: Right 9"/>
          <p:cNvSpPr/>
          <p:nvPr/>
        </p:nvSpPr>
        <p:spPr>
          <a:xfrm>
            <a:off x="3944880" y="496080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Arrow: Right 10"/>
          <p:cNvSpPr/>
          <p:nvPr/>
        </p:nvSpPr>
        <p:spPr>
          <a:xfrm>
            <a:off x="3944880" y="386712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2" name="Arrow: Right 11"/>
          <p:cNvSpPr/>
          <p:nvPr/>
        </p:nvSpPr>
        <p:spPr>
          <a:xfrm>
            <a:off x="3944880" y="259236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3" name="Arrow: Right 12"/>
          <p:cNvSpPr/>
          <p:nvPr/>
        </p:nvSpPr>
        <p:spPr>
          <a:xfrm>
            <a:off x="3944880" y="171612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7A762-0755-458F-B7B8-7D26E7FF2F9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D to Part 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Every yea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anges to formulary: List of covered drugs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twork of retail pharmac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Your costs for each dru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2B9F1-DD16-4334-A4EA-131009A2E20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-PD to MA-P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Every yea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anges to formulary: List of covered drugs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twork for doctors, retail pharmac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Your costs for doctor visits, drugs, other services and suppl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  <a:ea typeface="Aptos"/>
              </a:rPr>
              <a:t>Plan Finder tool: </a:t>
            </a:r>
            <a:r>
              <a:rPr b="0" lang="en-US" sz="3200" spc="-1" strike="noStrike" u="sng">
                <a:solidFill>
                  <a:srgbClr val="0c42d7"/>
                </a:solidFill>
                <a:uFillTx/>
                <a:latin typeface="Segoe UI"/>
                <a:ea typeface="Aptos"/>
                <a:hlinkClick r:id="rId1"/>
              </a:rPr>
              <a:t>www.medicare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egoe UI"/>
                <a:ea typeface="Apto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1F54C-4007-45A1-A240-E449BA8314D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-PD to Original Medicar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Step 1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oose your new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First apply for the new Medigap plan you wa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08440" indent="-2214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Aptos"/>
              </a:rPr>
              <a:t>NOTE: There are certain rules you need to know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xt, choose and buy your Part D Rx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Plan Finder tool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Aptos"/>
                <a:hlinkClick r:id="rId1"/>
              </a:rPr>
              <a:t>www.medicare.gov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Be sure to talk with your doctor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Step 2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ancel your Medicare Advantage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At the end of 2025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  <a:ea typeface="Apto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 earlier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735120" y="6329520"/>
            <a:ext cx="36226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8ABD2-2F75-4811-8C15-A1A17651E25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39480" y="4920840"/>
            <a:ext cx="846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84678"/>
                </a:solidFill>
                <a:latin typeface="Segoe UI"/>
              </a:rPr>
              <a:t>We care. We can help with Medicare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971C-F714-4E0D-8771-11108472272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It’s complex and we can hel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journey is personal – it’s not the same for everyon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most people, challenges happen all along the way – over the course of a lifetim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systems are changing quickly and constantly – technology matters a lo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are here for YOU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E1B6B-BFE4-4A8A-809E-90D556CA311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Beware of fraud!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are the Senior Medicare Patrol project in Washington sta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Prevent, detect, report fraud.”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us or send a complaint on-line at our web sit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</a:rPr>
              <a:t>www.insurance.wa.gov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B3A5B-B659-46B5-A187-FB00F88FD46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Frau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I got supplies that I did not order. The invoice says no cost to me: Medicare paid. Is that OK?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I got a bill from a doctor, but I don't recognize the provider's name. Is this fraud?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62759-6F7B-4B49-AC98-346DE8B6033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  <a:ea typeface="Aptos"/>
              </a:rPr>
              <a:t>Volunteers welcome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If you’d like to learn more and meet interesting people and help your community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We provide great, free training – you can do this from home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It’s fun and meaningful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1D250-2D99-4DA9-978A-3E72B279D29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Become a SHIBA volunteer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39960" y="1481040"/>
            <a:ext cx="7014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elp others within your local community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warding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timulatin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ntinuous learning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would love to have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olunteer with SHIBA!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5284800" y="1963800"/>
            <a:ext cx="3279600" cy="3355920"/>
          </a:xfrm>
          <a:prstGeom prst="rect">
            <a:avLst/>
          </a:prstGeom>
          <a:ln w="0">
            <a:noFill/>
          </a:ln>
        </p:spPr>
      </p:pic>
      <p:sp>
        <p:nvSpPr>
          <p:cNvPr id="65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1" name="Slide Number Placeholder 1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01617-F628-442C-86D1-7F2A8F18DD9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and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additional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7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8" name="Footer Placeholder 5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9" name="Slide Number Placeholder 6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746D9-E238-477C-83DB-5E3AACB3AFD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60360" y="2416320"/>
            <a:ext cx="413532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Graphic 1" descr="Credit card outline"/>
          <p:cNvPicPr/>
          <p:nvPr/>
        </p:nvPicPr>
        <p:blipFill>
          <a:blip r:embed="rId2"/>
          <a:stretch/>
        </p:blipFill>
        <p:spPr>
          <a:xfrm>
            <a:off x="6269040" y="2741760"/>
            <a:ext cx="1281240" cy="1279440"/>
          </a:xfrm>
          <a:prstGeom prst="rect">
            <a:avLst/>
          </a:prstGeom>
          <a:ln w="0">
            <a:noFill/>
          </a:ln>
        </p:spPr>
      </p:pic>
      <p:pic>
        <p:nvPicPr>
          <p:cNvPr id="482" name="Graphic 1" descr="Credit card outline"/>
          <p:cNvPicPr/>
          <p:nvPr/>
        </p:nvPicPr>
        <p:blipFill>
          <a:blip r:embed="rId3"/>
          <a:stretch/>
        </p:blipFill>
        <p:spPr>
          <a:xfrm>
            <a:off x="6269040" y="3881520"/>
            <a:ext cx="1281240" cy="1279440"/>
          </a:xfrm>
          <a:prstGeom prst="rect">
            <a:avLst/>
          </a:prstGeom>
          <a:ln w="0">
            <a:noFill/>
          </a:ln>
        </p:spPr>
      </p:pic>
      <p:pic>
        <p:nvPicPr>
          <p:cNvPr id="483" name="Graphic 1" descr="Credit card outline"/>
          <p:cNvPicPr/>
          <p:nvPr/>
        </p:nvPicPr>
        <p:blipFill>
          <a:blip r:embed="rId4"/>
          <a:stretch/>
        </p:blipFill>
        <p:spPr>
          <a:xfrm>
            <a:off x="6269040" y="1528920"/>
            <a:ext cx="1281240" cy="1279440"/>
          </a:xfrm>
          <a:prstGeom prst="rect">
            <a:avLst/>
          </a:prstGeom>
          <a:ln w="0">
            <a:noFill/>
          </a:ln>
        </p:spPr>
      </p:pic>
      <p:sp>
        <p:nvSpPr>
          <p:cNvPr id="484" name="Cross 11"/>
          <p:cNvSpPr/>
          <p:nvPr/>
        </p:nvSpPr>
        <p:spPr>
          <a:xfrm>
            <a:off x="5187960" y="3149640"/>
            <a:ext cx="731880" cy="7318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008af0"/>
              </a:gs>
              <a:gs pos="100000">
                <a:srgbClr val="82c0ff"/>
              </a:gs>
            </a:gsLst>
            <a:lin ang="16200000"/>
          </a:gradFill>
          <a:ln w="9360">
            <a:solidFill>
              <a:srgbClr val="0b82d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84678"/>
                </a:solidFill>
                <a:latin typeface="Segoe UI"/>
              </a:rPr>
              <a:t>Need help with other insurance questions?</a:t>
            </a:r>
            <a:endParaRPr b="0" lang="en-US" sz="35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60360" y="131112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Office of the Insurance Commissioner can also help you with questions, information and complaints about all types of insurance, such a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Content Placeholder 2"/>
          <p:cNvSpPr/>
          <p:nvPr/>
        </p:nvSpPr>
        <p:spPr>
          <a:xfrm>
            <a:off x="180828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omeowne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uto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5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nuiti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6" name="Content Placeholder 2"/>
          <p:cNvSpPr/>
          <p:nvPr/>
        </p:nvSpPr>
        <p:spPr>
          <a:xfrm>
            <a:off x="512640" y="4308480"/>
            <a:ext cx="8029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ll our Insurance Consumer Hotline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n the web at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1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FADC5-0802-42F2-B412-F073BD1F65A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is insurance you have as former employee or as the dependent of on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tate of Washington: HCA PEBB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ederal government agency, also TRICARE for Lif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Boeing and other private compan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EA8B8-D0FA-42A1-83DA-A9717BD5BE3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nsurance you have due to low monthly income, and you applied for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have a “Provider 1” card with an ID number like WA12345678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might have a managed care plan called a ‘dual-eligible special needs plan or D-SN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5DB93-EDFE-4987-ACC4-DD3B68DF222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ommercial marke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is insurance you get from eithe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Advantage plan, with additional services like vision, dental, hearing and 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supplement plan – like Plan 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3E42A-1386-473C-AA47-AAB6A0BD393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the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Part D prescription drug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ental insuran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A – Veteran’s Administratio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HS – Indian Health Servi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ore…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B7945-B6FE-4A1F-9781-3DF88BEAF48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2: Learn about chang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9C8D3-DC86-4871-AA22-A4C542ED505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dc:language>en-US</dc:language>
  <cp:lastModifiedBy>Wells, Donna (OIC)</cp:lastModifiedBy>
  <cp:lastPrinted>2025-03-18T01:19:26Z</cp:lastPrinted>
  <dcterms:modified xsi:type="dcterms:W3CDTF">2025-09-09T20:58:45Z</dcterms:modified>
  <cp:revision>355</cp:revision>
  <dc:subject>Public slide show about all the ins and outs of Medicare Open Enrollment</dc:subject>
  <dc:title>Medicare Open Enrollment Period - What you need to know</dc:title>
</cp:coreProperties>
</file>