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2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3/18/2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82240" y="698400"/>
            <a:ext cx="464508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move the slid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2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51B32-8B93-416A-83A3-594C7728A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349BF-3ECC-428F-A409-0D7789774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3" name="Date Placeholder 1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3/18/2025</a:t>
            </a:r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4" name="Footer Placeholder 2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 your doctors and hospital to make sure they are on your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the insurance company’s website to double check that your doctors and hospital are on the pl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e Evidence of co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 the insurance company and ask lots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3/18/2025</a:t>
            </a:r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F83B3-4278-4992-8907-F985F5579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9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loyer groups have different rules and their OE period may not be the same as Medicare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3/18/2025</a:t>
            </a:r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9C79E-209E-4FC9-98BD-F6B37A506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86582-F98E-4514-B0AD-650270887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options during Medicare open enroll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Original Medicare, you can join, drop, or switch to another Medicare standalone prescription drug pl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 Medicare Advantage plan with drug coverage, you can switch to another Medicare Advantage plan with drug coverage available in your coun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Original Medicare, you can switch to a Medicare Advantage plan with drug coverage available in your county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 Medicare Advantage plan, you can switch to Original Medicare and buy a standalone Medicare Part D prescription drug plan, and if you the plan accepts you, a Medigap pl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4F08C-ADE3-4068-BA59-24147D93F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D08E4-1777-42FF-A008-8F45F5DB7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-PD means Medicare Advantage plan with prescription drug co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C84F4-200F-4B60-8BD6-20CA21F34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pply for the new Medigap plan you want. Make sure the plan accepts you - and you get it in writ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you decide to get a Medigap plan, there are important rules you should be aware of. We recommend you read our booklet about What you need to know about Medigaps and talk to a SHIBA counselor if you are un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ill want to choose your Medicare Part D prescription drug plan. You can find plans and enroll at medicare.gov, using the Plan Finder tool or call the plan di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F7B29-28ED-43CB-A802-44D917B1A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2BD68-AFCF-44B7-AD98-06B738CE0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BDD0E-B0E8-4F3E-B896-C170FC489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737E3-AC9E-45CE-8DF4-6013AA21C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Volunteers are the heart and soul of the SHIBA progra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In most cases, when you call or write, we will refer you to one of our highly-trained and very caring local voluntee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 might consider joining us to help othe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0AF53-AE93-4282-B7B9-99EF66B23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0" name="Footer Placeholder 1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4D9A6-8528-41A0-A0E3-7059D3563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4" name="Footer Placeholder 1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938-7C30-4331-8469-8AD6725C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0A5-79D5-4414-9195-126A9B6B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B40600-70D3-4565-95AA-39DDAA0E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08E7E-D0AB-4DEF-967D-1279FF4F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D92009-00D8-47DF-86D6-7F5C2C4C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2433F8-D47F-48DA-A576-8BCB9FEF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F2F480-A5B7-4929-A6D1-4480AD0E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BF815F-D4DA-4582-B05A-18FC6B4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EFC35-1C8C-4C69-A5F5-36747610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A27CA-4050-4F15-BD96-F20AE51E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4C625-C3A4-4A82-86E4-97B722C7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DC157E-2352-4EA5-870B-7357D5C2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0EE-D9B0-4B9C-815E-FA30455B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7A7EB3-2C59-482C-8852-210E66C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45C66-E5F9-4DBF-90A0-A6477957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FD115E-EA96-43F8-80BB-94131D35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2C92ED-FB83-44B4-B544-F3B183C8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B69C91-1B4E-4174-8E52-C38677D9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36DC04-8B36-4531-9586-66D3A327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681AD-0B10-4A07-BFD3-F5E2962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608FD6-8FF3-4017-BEF1-058C7CC6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02E592-E502-412B-A026-8FD0D199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A754EC-0156-4FC2-982A-419D6F05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437-A688-4A8E-9FF6-023920C1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C255DA-07D8-4BCD-97AE-F73A3B25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3D4E-F463-47D1-AB98-C719F89E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AAC9-325C-4B62-B742-C5389788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E3DF-FE9A-46CE-BDA8-62BD8A70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38D6-116B-46DC-8874-E55FCE50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BE44-AE43-474A-A6AE-7332F2A5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33EB-7222-4AE9-9629-C83E7178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FDD-E139-4525-A134-13172D45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7D9-C55C-494B-B311-2419C89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3481-6556-494F-8FE5-CDB77DA8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EC68-F698-480B-8AE2-80D00D4C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7D51-97AB-46C4-A89C-E8A4BA60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7523-2450-4C1F-ACB4-DC741952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5D68-7450-424F-B97F-4ED18289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2AE-3415-4086-8F4C-5A53FB6B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8A5-51DA-4910-B3DC-5422DA10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63B12-0904-431F-99A6-6D84D312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D67-F3FF-491B-8DEB-60042129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A34E2-4235-494E-9B1D-0CC8E4D8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F9461-FE7F-4211-B968-B3BFD38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9B0B4-C40C-4755-86A3-D38146C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1863D-24ED-4E05-93F4-7869A600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D67E7-BC67-4DCC-8E45-05AEF538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2EA30-582A-4454-AFC3-B439E3D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91640-1AC6-43E3-B37F-44FBEDC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DD089-1442-4C95-9423-6C4C6C2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D5577-6DD9-438A-BCA0-E10918A4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AB1A2-20F3-4A57-92B9-7DFCB529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943-8355-4A89-BA44-DDB5FC48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4C726-5D0F-49B3-80A8-08D9AA27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96AFE-0983-45C5-82D0-8C2D34A3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88FE7-E215-4A08-9919-2A15F336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47106-7D8A-4E2C-BD30-3CBC5AFD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25A64-0CEB-4236-9FA0-4A1DF857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5F6B6-3A01-431E-90FC-3DCA3CC8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DDB9B-FA08-456B-86C3-658E3ECA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120E0-1761-4D35-AA38-4EF5CC08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FE63D-F142-45E3-A27C-DB5E9AA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53836-32B3-44BF-A269-02607049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1C9-15C2-4C7C-BF28-56F9984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47714-F4F2-4510-82B3-5413BC87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21129-88CE-4A30-9DD9-DBBF675C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68BB5-A31E-46BE-BF0D-29BC1FB9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C80CD-9908-41D3-9AE0-00A2FAB5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5747B-4F35-4DDE-8850-FF6D7D97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A9CEB-02DE-441F-AE3E-A28C6BEA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F37D2-A878-4D30-846C-D9C6C742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5DB93-B459-4FCA-A259-DC4A4285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CED55-1061-4E11-8252-DFD913FB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1F810-BE1B-4028-8A3F-3EF1895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829-C470-421A-A7DB-8758BE6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144D7-62F4-43EB-B9FF-31C060F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B1901-C39E-4662-9409-CDE169B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EC395-C24E-4A21-AE05-E9F54E9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01B82-4F93-4527-B7DA-C8B1CEC8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D4D83-0946-4CA5-B3D8-84DF9356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9A055-5928-474C-9BE6-B883FA6F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E1883-8DA2-4B56-921C-7ECB580B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75D94-C712-4060-AC17-1CB72E2C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B9FAB-9892-49F7-B79E-168859B0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A5CD3-BCDF-4FFB-9A99-A0D752CF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B03-1708-453E-927D-FA1AD71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69BC1-EF72-4876-93F7-AC62B772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7ACA4-6F11-451A-88A9-ABD1B996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FD459-59F9-43F2-8702-E179D95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168A1-C300-4121-AB61-C3E22B1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9A45F-8403-4390-9826-5612CC0C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98F22-A1E5-444F-ACEE-4C2865E1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9EAFC2-0AB0-4A5D-954B-6D1B8FC1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61E8B-25D0-4E5C-81AE-8F394091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44AB19-FBA0-4D0F-A277-7E0FEEA3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ECA44E-E570-4A9B-8A34-D8B77392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729BF-F922-4D53-AE12-B2DDBEA560F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13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14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15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4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5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C8138-3391-4457-ACB0-03D374A53FC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/18/2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dicare Open Enroll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97DD7-4601-4C03-BDA9-2153A10B8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3846600"/>
            <a:ext cx="9144000" cy="30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87" name="Group 11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88" name="Rectangle 7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90" name="Picture 16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9" descr="C:\Documents and Settings\ab29\Local Settings\Temporary Internet Files\Content.IE5\8SIXVW2N\MP900409640[1].jpg"/>
          <p:cNvPicPr/>
          <p:nvPr/>
        </p:nvPicPr>
        <p:blipFill>
          <a:blip r:embed="rId3"/>
          <a:stretch/>
        </p:blipFill>
        <p:spPr>
          <a:xfrm>
            <a:off x="4784760" y="3240"/>
            <a:ext cx="2128680" cy="353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Documents and Settings\ab29\Local Settings\Temporary Internet Files\Content.IE5\7ZND71FB\MP900309115[1].jpg"/>
          <p:cNvPicPr/>
          <p:nvPr/>
        </p:nvPicPr>
        <p:blipFill>
          <a:blip r:embed="rId4"/>
          <a:stretch/>
        </p:blipFill>
        <p:spPr>
          <a:xfrm>
            <a:off x="2473200" y="3240"/>
            <a:ext cx="2354400" cy="3535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C:\Documents and Settings\ab29\Local Settings\Temporary Internet Files\Content.IE5\I0WIJ97D\MP900438813[1].jpg"/>
          <p:cNvPicPr/>
          <p:nvPr/>
        </p:nvPicPr>
        <p:blipFill>
          <a:blip r:embed="rId5"/>
          <a:stretch/>
        </p:blipFill>
        <p:spPr>
          <a:xfrm>
            <a:off x="0" y="-7920"/>
            <a:ext cx="2575080" cy="3543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hispanic over 65 couple.JPG"/>
          <p:cNvPicPr/>
          <p:nvPr/>
        </p:nvPicPr>
        <p:blipFill>
          <a:blip r:embed="rId6"/>
          <a:srcRect l="0" t="-10" r="0" b="0"/>
          <a:stretch/>
        </p:blipFill>
        <p:spPr>
          <a:xfrm>
            <a:off x="6870600" y="7920"/>
            <a:ext cx="2273400" cy="3525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562200" y="521604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84678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84678"/>
                </a:solidFill>
                <a:latin typeface="Segoe UI"/>
                <a:ea typeface="Segoe UI"/>
              </a:rPr>
              <a:t>3/18/20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0"/>
          <p:cNvGrpSpPr/>
          <p:nvPr/>
        </p:nvGrpSpPr>
        <p:grpSpPr>
          <a:xfrm>
            <a:off x="0" y="0"/>
            <a:ext cx="9144000" cy="5340240"/>
            <a:chOff x="0" y="0"/>
            <a:chExt cx="9144000" cy="5340240"/>
          </a:xfrm>
        </p:grpSpPr>
        <p:sp>
          <p:nvSpPr>
            <p:cNvPr id="135" name="Rectangle 2"/>
            <p:cNvSpPr/>
            <p:nvPr/>
          </p:nvSpPr>
          <p:spPr>
            <a:xfrm>
              <a:off x="0" y="0"/>
              <a:ext cx="9144000" cy="534024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36" name="Right Triangle 7"/>
            <p:cNvSpPr/>
            <p:nvPr/>
          </p:nvSpPr>
          <p:spPr>
            <a:xfrm>
              <a:off x="0" y="1065240"/>
              <a:ext cx="8148600" cy="42750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grpSp>
        <p:nvGrpSpPr>
          <p:cNvPr id="137" name="Group 14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138" name="Rectangle 10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40" name="Picture 18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8"/>
          </p:nvPr>
        </p:nvSpPr>
        <p:spPr>
          <a:xfrm>
            <a:off x="3562200" y="323172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84678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84678"/>
                </a:solidFill>
                <a:latin typeface="Segoe UI"/>
                <a:ea typeface="Segoe UI"/>
              </a:rPr>
              <a:t>3/18/2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8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8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0"/>
          <p:cNvGrpSpPr/>
          <p:nvPr/>
        </p:nvGrpSpPr>
        <p:grpSpPr>
          <a:xfrm>
            <a:off x="0" y="0"/>
            <a:ext cx="9144000" cy="3846600"/>
            <a:chOff x="0" y="0"/>
            <a:chExt cx="9144000" cy="3846600"/>
          </a:xfrm>
        </p:grpSpPr>
        <p:sp>
          <p:nvSpPr>
            <p:cNvPr id="185" name="Rectangle 2"/>
            <p:cNvSpPr/>
            <p:nvPr/>
          </p:nvSpPr>
          <p:spPr>
            <a:xfrm>
              <a:off x="0" y="0"/>
              <a:ext cx="9144000" cy="3846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6" name="Right Triangle 7"/>
            <p:cNvSpPr/>
            <p:nvPr/>
          </p:nvSpPr>
          <p:spPr>
            <a:xfrm>
              <a:off x="0" y="766800"/>
              <a:ext cx="5870520" cy="30798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9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0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1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D76D4-D875-4B69-8DB1-A55696A56BC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29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30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31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2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3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4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C77B6-07C6-4408-865A-02AC7844166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75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76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77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5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6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7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8FA7D-E991-4D89-9E77-CB70A1A30A0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2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2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8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9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0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D7EFF-BAE5-4087-B7AA-41E982B7A86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6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6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6E7E9-A532-4A6E-83FB-9D6BC8E5632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insurance.wa.gov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81000" y="3754080"/>
            <a:ext cx="692460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2025 Medicare </a:t>
            </a:r>
            <a:br>
              <a:rPr sz="3600"/>
            </a:b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Open Enrollment 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6" name="Date Placeholder 1"/>
          <p:cNvSpPr/>
          <p:nvPr/>
        </p:nvSpPr>
        <p:spPr>
          <a:xfrm>
            <a:off x="3562200" y="6019920"/>
            <a:ext cx="5243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84678"/>
                </a:solidFill>
                <a:latin typeface="Segoe UI"/>
                <a:ea typeface="Segoe UI"/>
              </a:rPr>
              <a:t>Update 9.9.2025</a:t>
            </a:r>
            <a:endParaRPr b="0" lang="en-US" sz="11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as your </a:t>
            </a: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plan</a:t>
            </a: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 changed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r insurance plan migh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Discontinue servic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duce benefi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st mor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ovider network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x drug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34A50-EE56-4D48-BFB4-EFB3FE167FB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Have </a:t>
            </a: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your needs </a:t>
            </a: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hanged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New treatmen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oved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ncome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escription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B8FEA-21F7-4D27-9BD2-29C84940C3E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Employer group plan - retire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ook for a notice from the company or government agency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their websit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customer service number on your card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newsletter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ask lots of questions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egoe UI"/>
              </a:rPr>
              <a:t>They might use a different company to manage benefits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7A291-D3AD-475E-99BA-5F71A94A101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id – Apple Health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ook for letters from DSHS or HCA or your community services office (CSO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ook for mail from Social Security (SSA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the web site for your insurance company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customer service number on your card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DSH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ask lots of questions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52E58-C0B6-4C3C-85B4-FB009454DD7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Advantage plan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Advantage plans are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required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send you an Annual Notice of Chang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your mail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your email (spam or junk folder?)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number on your insurance card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their websit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ask lots of questions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D9005-F9A9-406C-970B-7366DC6BB72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hanges to watch out for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ovider network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escription drug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vered benefi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ules about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12002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ior authorization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12002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ferral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-pays, co-insurance, deductibl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E3F60-D1D2-4E15-A62A-F85C0C4166D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Part D pla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Part D plans are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required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send you an Annual Notice of Chang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your mail,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your email (spam or junk folder?),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number on your insurance card,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heck their websit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’s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to ask lots of questions!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383A8-EB04-488D-8650-98D103F4B84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Other insuranc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60360" y="1310760"/>
            <a:ext cx="79106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r Medicare supplement plans and other insuranc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the customer service number on your card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3C760-061A-47F0-8CA5-FC4E5C248DC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art 3: Compare option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68910-9AAD-41BD-A937-98BD49ED581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Employer group plan - retire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t might be best to stay with your group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group might offer more than one optio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Get help from the company or union or health plan to compar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8B932-79CB-44E5-9471-0836CBC0D72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Four step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7FB70-4B98-4C4C-8677-7B7F6010A4D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71" name="Picture 10" descr=""/>
          <p:cNvPicPr/>
          <p:nvPr/>
        </p:nvPicPr>
        <p:blipFill>
          <a:blip r:embed="rId1"/>
          <a:stretch/>
        </p:blipFill>
        <p:spPr>
          <a:xfrm>
            <a:off x="411120" y="1233360"/>
            <a:ext cx="832176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id – Apple Health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you’re on Medicaid, and have Medicare Advantage plan &amp; you want to change to a different Medicare Advantage plan in your county, you can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Use the Plan Finder tool on the Medicare websi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hlinkClick r:id="rId1"/>
              </a:rPr>
              <a:t>www.medicare.gov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check our website for tips and how to’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30452-10DE-4297-8B5D-4D31E816FED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Advantage plan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lots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egoe UI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detai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Use the Plan Finder tool on the Medicare websi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hlinkClick r:id="rId1"/>
              </a:rPr>
              <a:t>www.medicare.gov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check our website for tips and how to’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DF71A-C148-4A75-9F2D-3763117CDB8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Part D plan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lots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detai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Use the Plan Finder tool on the Medicare websi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hlinkClick r:id="rId1"/>
              </a:rPr>
              <a:t>www.medicare.gov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can check our website for tips and how to’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0DECA-3506-4847-9D89-06A16FEF262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ro tip: Read the fine prin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“Evidence of Coverage” document is the most complete explanation of your rights and protection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r details about your insurance, get this document and read it carefully – you can ask the company to send it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 explain i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49BFF-17BA-4FB6-BA73-574AE7730E8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lan Finder tool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Create an account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at the Medicare websi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ists your drug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hows your providers and bill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ave your work for later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Easy to make chang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9BB6A-6406-4E3F-B78A-3527F8AFA13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Do your research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98400" y="1310760"/>
            <a:ext cx="78184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Your #1 priority is to make sure you have access to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Provider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12002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12002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Local hospital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x drug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vered benefi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5" name="Date Placeholder 4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86" name="Footer Placeholder 5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87" name="Slide Number Placeholder 6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D0C45-B59B-40A7-B0B3-57CA9689E64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ake not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rite down the names and dates and phone numbers and website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f you talk with an insurance agent, write down their license number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FB07B-2E2D-4949-9053-D1CBB9582F7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Take action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430F9-A988-454B-9CD4-86467D4B21C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Know </a:t>
            </a: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your</a:t>
            </a: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 deadlin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Medicare Open Enrollment period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October 15 – December 7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Employer group plans – 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Set their own Open Enrollment Peri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Be sure to ask and confirm the dat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hich forms you need to us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3EF99-2C17-43D9-AD47-7772413C3C8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insurance approach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7DFC4-2886-4CCD-9899-2AE53479C56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06" name="Picture 10" descr="Diagram&#10;&#10;AI-generated content may be incorrect."/>
          <p:cNvPicPr/>
          <p:nvPr/>
        </p:nvPicPr>
        <p:blipFill>
          <a:blip r:embed="rId1"/>
          <a:stretch/>
        </p:blipFill>
        <p:spPr>
          <a:xfrm>
            <a:off x="2367000" y="1135080"/>
            <a:ext cx="4491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art 1: Know  your insuranc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C778F-6C10-4D6F-A18F-815B30204C6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Arial"/>
                <a:ea typeface="Aptos"/>
              </a:rPr>
              <a:t>Let’s explore your options</a:t>
            </a:r>
            <a:br>
              <a:rPr sz="3600"/>
            </a:b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719280" y="1349280"/>
          <a:ext cx="7549920" cy="4389480"/>
        </p:xfrm>
        <a:graphic>
          <a:graphicData uri="http://schemas.openxmlformats.org/drawingml/2006/table">
            <a:tbl>
              <a:tblPr/>
              <a:tblGrid>
                <a:gridCol w="2814480"/>
                <a:gridCol w="1920960"/>
                <a:gridCol w="281448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Part D 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Part D 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Medicare Advantage w/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Medicare Advantage w/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Original Medic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Medicare Advantage w/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Medicare Advantage w/Rx co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Original Medic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0" name="Arrow: Right 9"/>
          <p:cNvSpPr/>
          <p:nvPr/>
        </p:nvSpPr>
        <p:spPr>
          <a:xfrm>
            <a:off x="3944880" y="4960800"/>
            <a:ext cx="650880" cy="20016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5a00"/>
              </a:gs>
              <a:gs pos="100000">
                <a:srgbClr val="ff8c69"/>
              </a:gs>
            </a:gsLst>
            <a:lin ang="16200000"/>
          </a:gradFill>
          <a:ln w="9360">
            <a:solidFill>
              <a:srgbClr val="fd5f0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1" name="Arrow: Right 10"/>
          <p:cNvSpPr/>
          <p:nvPr/>
        </p:nvSpPr>
        <p:spPr>
          <a:xfrm>
            <a:off x="3944880" y="3867120"/>
            <a:ext cx="650880" cy="20016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5a00"/>
              </a:gs>
              <a:gs pos="100000">
                <a:srgbClr val="ff8c69"/>
              </a:gs>
            </a:gsLst>
            <a:lin ang="16200000"/>
          </a:gradFill>
          <a:ln w="9360">
            <a:solidFill>
              <a:srgbClr val="fd5f0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2" name="Arrow: Right 11"/>
          <p:cNvSpPr/>
          <p:nvPr/>
        </p:nvSpPr>
        <p:spPr>
          <a:xfrm>
            <a:off x="3944880" y="2592360"/>
            <a:ext cx="650880" cy="20016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5a00"/>
              </a:gs>
              <a:gs pos="100000">
                <a:srgbClr val="ff8c69"/>
              </a:gs>
            </a:gsLst>
            <a:lin ang="16200000"/>
          </a:gradFill>
          <a:ln w="9360">
            <a:solidFill>
              <a:srgbClr val="fd5f0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3" name="Arrow: Right 12"/>
          <p:cNvSpPr/>
          <p:nvPr/>
        </p:nvSpPr>
        <p:spPr>
          <a:xfrm>
            <a:off x="3944880" y="1716120"/>
            <a:ext cx="650880" cy="20016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5a00"/>
              </a:gs>
              <a:gs pos="100000">
                <a:srgbClr val="ff8c69"/>
              </a:gs>
            </a:gsLst>
            <a:lin ang="16200000"/>
          </a:gradFill>
          <a:ln w="9360">
            <a:solidFill>
              <a:srgbClr val="fd5f0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41618-2A7B-4A24-9384-4F162DA8562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art D to Part D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Every year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Changes to formulary: List of covered drugs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Network of retail pharmaci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Your costs for each drug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9202E-378E-4080-8B5C-E1698EC26A6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A-PD to MA-PD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Every year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Changes to formulary: List of covered drugs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Network for doctors, retail pharmaci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Your costs for doctor visits, drugs, other services and suppli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  <a:ea typeface="Aptos"/>
              </a:rPr>
              <a:t>Plan Finder tool: </a:t>
            </a:r>
            <a:r>
              <a:rPr b="0" lang="en-US" sz="3200" spc="-1" strike="noStrike" u="sng">
                <a:solidFill>
                  <a:srgbClr val="0c42d7"/>
                </a:solidFill>
                <a:uFillTx/>
                <a:latin typeface="Segoe UI"/>
                <a:ea typeface="Aptos"/>
                <a:hlinkClick r:id="rId1"/>
              </a:rPr>
              <a:t>www.medicare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egoe UI"/>
                <a:ea typeface="Apto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59274-AED7-4F4A-9581-D5BD1D282AC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A-PD to Original Medicar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Step 1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Choose your new plan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First apply for the new Medigap plan you wan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08440" indent="-2214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Aptos"/>
              </a:rPr>
              <a:t>NOTE: There are certain rules you need to know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Next, choose and buy your Part D Rx plan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Plan Finder tool: </a:t>
            </a: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ea typeface="Aptos"/>
                <a:hlinkClick r:id="rId1"/>
              </a:rPr>
              <a:t>www.medicare.gov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Be sure to talk with your doctor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Step 2: 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Cancel your Medicare Advantage plan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20720" indent="-27720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At the end of 2025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egoe UI"/>
                <a:ea typeface="Apto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Aptos"/>
              </a:rPr>
              <a:t> earlier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735120" y="6329520"/>
            <a:ext cx="36226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B3C95-B580-4D15-8F1A-1D9A8EA623C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39480" y="4920840"/>
            <a:ext cx="846612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84678"/>
                </a:solidFill>
                <a:latin typeface="Segoe UI"/>
              </a:rPr>
              <a:t>We care. We can help with Medicare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BEA09-E671-4C74-AE98-587FC76C028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It’s complex and we can help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s journey is personal – it’s not the same for everyon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r most people, challenges happen all along the way – over the course of a lifetim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e systems are changing quickly and constantly – technology matters a lot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e are here for YOU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5676D-8951-4BCF-8CA2-3AE4026CAD9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Beware of fraud!</a:t>
            </a:r>
            <a:br>
              <a:rPr sz="3600"/>
            </a:b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e are the Senior Medicare Patrol project in Washington stat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</a:rPr>
              <a:t>Prevent, detect, report fraud.”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all us or send a complaint on-line at our web sit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egoe UI"/>
              </a:rPr>
              <a:t>www.insurance.wa.gov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B46B4-F5E6-4DED-8CB1-53FA76FEACD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Fraud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I got supplies that I did not order. The invoice says no cost to me: Medicare paid. Is that OK?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I got a bill from a doctor, but I don't recognize the provider's name. Is this fraud?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10416-D560-4C8F-A5E2-EDBC439BB3D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  <a:ea typeface="Aptos"/>
              </a:rPr>
              <a:t>Volunteers welcome</a:t>
            </a:r>
            <a:br>
              <a:rPr sz="3600"/>
            </a:b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  <a:ea typeface="Aptos"/>
              </a:rPr>
              <a:t>If you’d like to learn more and meet interesting people and help your community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  <a:p>
            <a:pPr marL="2858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  <a:ea typeface="Aptos"/>
              </a:rPr>
              <a:t>We provide great, free training – you can do this from home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  <a:p>
            <a:pPr marL="285840" indent="-285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  <a:ea typeface="Aptos"/>
              </a:rPr>
              <a:t>It’s fun and meaningful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  <a:p>
            <a:pPr marL="285840" indent="-28584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D54BF-3B35-4562-A04E-003634B29DEF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Become a SHIBA volunteer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939960" y="1481040"/>
            <a:ext cx="7014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Help others within your local community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Rewarding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timulating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ontinuous learning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We would love to have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volunteer with SHIBA!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58" name="Picture 1" descr=""/>
          <p:cNvPicPr/>
          <p:nvPr/>
        </p:nvPicPr>
        <p:blipFill>
          <a:blip r:embed="rId1"/>
          <a:stretch/>
        </p:blipFill>
        <p:spPr>
          <a:xfrm>
            <a:off x="5284800" y="1963800"/>
            <a:ext cx="3279600" cy="3355920"/>
          </a:xfrm>
          <a:prstGeom prst="rect">
            <a:avLst/>
          </a:prstGeom>
          <a:ln w="0">
            <a:noFill/>
          </a:ln>
        </p:spPr>
      </p:pic>
      <p:sp>
        <p:nvSpPr>
          <p:cNvPr id="65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1" name="Slide Number Placeholder 1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175F1-23EE-4BD7-AE06-2930EBDF800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re </a:t>
            </a:r>
            <a:r>
              <a:rPr b="1" lang="en-US" sz="3600" spc="-1" strike="noStrike">
                <a:solidFill>
                  <a:srgbClr val="084678"/>
                </a:solidFill>
                <a:latin typeface="Segoe UI"/>
              </a:rPr>
              <a:t>and</a:t>
            </a: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 additional insuranc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7" name="Date Placeholder 4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8" name="Footer Placeholder 5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79" name="Slide Number Placeholder 6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F84CC-7A4F-4490-997B-6B69F741A84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60360" y="2416320"/>
            <a:ext cx="4135320" cy="26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Graphic 1" descr="Credit card outline"/>
          <p:cNvPicPr/>
          <p:nvPr/>
        </p:nvPicPr>
        <p:blipFill>
          <a:blip r:embed="rId2"/>
          <a:stretch/>
        </p:blipFill>
        <p:spPr>
          <a:xfrm>
            <a:off x="6269040" y="2741760"/>
            <a:ext cx="1281240" cy="1279440"/>
          </a:xfrm>
          <a:prstGeom prst="rect">
            <a:avLst/>
          </a:prstGeom>
          <a:ln w="0">
            <a:noFill/>
          </a:ln>
        </p:spPr>
      </p:pic>
      <p:pic>
        <p:nvPicPr>
          <p:cNvPr id="482" name="Graphic 1" descr="Credit card outline"/>
          <p:cNvPicPr/>
          <p:nvPr/>
        </p:nvPicPr>
        <p:blipFill>
          <a:blip r:embed="rId3"/>
          <a:stretch/>
        </p:blipFill>
        <p:spPr>
          <a:xfrm>
            <a:off x="6269040" y="3881520"/>
            <a:ext cx="1281240" cy="1279440"/>
          </a:xfrm>
          <a:prstGeom prst="rect">
            <a:avLst/>
          </a:prstGeom>
          <a:ln w="0">
            <a:noFill/>
          </a:ln>
        </p:spPr>
      </p:pic>
      <p:pic>
        <p:nvPicPr>
          <p:cNvPr id="483" name="Graphic 1" descr="Credit card outline"/>
          <p:cNvPicPr/>
          <p:nvPr/>
        </p:nvPicPr>
        <p:blipFill>
          <a:blip r:embed="rId4"/>
          <a:stretch/>
        </p:blipFill>
        <p:spPr>
          <a:xfrm>
            <a:off x="6269040" y="1528920"/>
            <a:ext cx="1281240" cy="1279440"/>
          </a:xfrm>
          <a:prstGeom prst="rect">
            <a:avLst/>
          </a:prstGeom>
          <a:ln w="0">
            <a:noFill/>
          </a:ln>
        </p:spPr>
      </p:pic>
      <p:sp>
        <p:nvSpPr>
          <p:cNvPr id="484" name="Cross 11"/>
          <p:cNvSpPr/>
          <p:nvPr/>
        </p:nvSpPr>
        <p:spPr>
          <a:xfrm>
            <a:off x="5187960" y="3149640"/>
            <a:ext cx="731880" cy="73188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008af0"/>
              </a:gs>
              <a:gs pos="100000">
                <a:srgbClr val="82c0ff"/>
              </a:gs>
            </a:gsLst>
            <a:lin ang="16200000"/>
          </a:gradFill>
          <a:ln w="9360">
            <a:solidFill>
              <a:srgbClr val="0b82d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84678"/>
                </a:solidFill>
                <a:latin typeface="Segoe UI"/>
              </a:rPr>
              <a:t>Need help with other insurance questions?</a:t>
            </a:r>
            <a:endParaRPr b="0" lang="en-US" sz="35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60360" y="1311120"/>
            <a:ext cx="84456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egoe UI"/>
              </a:rPr>
              <a:t>The Office of the Insurance Commissioner can also help you with questions, information and complaints about all types of insurance, such as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4" name="Content Placeholder 2"/>
          <p:cNvSpPr/>
          <p:nvPr/>
        </p:nvSpPr>
        <p:spPr>
          <a:xfrm>
            <a:off x="1808280" y="2684520"/>
            <a:ext cx="2460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omeowner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uto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5" name="Content Placeholder 2"/>
          <p:cNvSpPr/>
          <p:nvPr/>
        </p:nvSpPr>
        <p:spPr>
          <a:xfrm>
            <a:off x="4781520" y="2701800"/>
            <a:ext cx="273384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nuitie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6" name="Content Placeholder 2"/>
          <p:cNvSpPr/>
          <p:nvPr/>
        </p:nvSpPr>
        <p:spPr>
          <a:xfrm>
            <a:off x="512640" y="4308480"/>
            <a:ext cx="8029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all our Insurance Consumer Hotline: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On the web at: </a:t>
            </a:r>
            <a:r>
              <a:rPr b="0" lang="en-US" sz="2800" spc="-1" strike="noStrike" u="sng">
                <a:solidFill>
                  <a:srgbClr val="0c42d7"/>
                </a:solidFill>
                <a:uFillTx/>
                <a:latin typeface="Segoe UI"/>
                <a:ea typeface="Segoe UI"/>
                <a:hlinkClick r:id="rId1"/>
              </a:rPr>
              <a:t>www.insurance.wa.gov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9" name="Slide Number Placeholder 1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BA70E-154F-4F21-813C-0B7BEFBC029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Employer group plan - retire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s is insurance you have as former employee or as the dependent of one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tate of Washington: HCA PEBB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ederal government agency, also TRICARE for Lif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Boeing and other private compani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207C5-232B-4912-9E7E-3EEB697B028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Medicaid – Apple Health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nsurance you have due to low monthly income, and you applied for benefit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have a “Provider 1” card with an ID number like WA12345678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You might have a managed care plan called a ‘dual-eligible special needs plan or D-SNP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D3726-C2A5-4662-AB58-F3F48DD7533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ommercial marke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s is insurance you get from either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Advantage plan, with additional services like vision, dental, hearing and Rx drug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supplement plan – like Plan G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25481-1425-4282-A943-ED924311DA1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Other insuranc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edicare Part D prescription drug plan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Dental insuranc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VA – Veteran’s Administration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IHS – Indian Health Servic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More…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FCC5C-6413-49E1-A854-AB1FBA7346A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39480" y="4270320"/>
            <a:ext cx="8466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Part 2: Learn about chang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3/18/2025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Medicare Open Enrollment 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289D3-E603-4FCB-9A1C-B72B163F337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06:02Z</dcterms:created>
  <dc:creator>SHIBA</dc:creator>
  <dc:description/>
  <dc:language>en-US</dc:language>
  <cp:lastModifiedBy>Wells, Donna (OIC)</cp:lastModifiedBy>
  <cp:lastPrinted>2025-03-18T01:19:26Z</cp:lastPrinted>
  <dcterms:modified xsi:type="dcterms:W3CDTF">2025-09-09T20:58:45Z</dcterms:modified>
  <cp:revision>355</cp:revision>
  <dc:subject>Public slide show about all the ins and outs of Medicare Open Enrollment</dc:subject>
  <dc:title>Medicare Open Enrollment Period - What you need to know</dc:title>
</cp:coreProperties>
</file>