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5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3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5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5" name="PlaceHolder 5"/>
          <p:cNvSpPr>
            <a:spLocks noGrp="1"/>
          </p:cNvSpPr>
          <p:nvPr>
            <p:ph type="ftr" idx="3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3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104A1-3812-4424-B7A9-358BB61177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04840" y="696960"/>
            <a:ext cx="4648320" cy="3486240"/>
          </a:xfrm>
          <a:prstGeom prst="rect">
            <a:avLst/>
          </a:prstGeom>
          <a:ln w="0">
            <a:noFill/>
          </a:ln>
        </p:spPr>
      </p:sp>
      <p:sp>
        <p:nvSpPr>
          <p:cNvPr id="7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co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usekeeping remind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rtual:</a:t>
            </a:r>
            <a:r>
              <a:rPr b="0" lang="en-US" sz="1200" spc="-1" strike="noStrike">
                <a:solidFill>
                  <a:srgbClr val="000000"/>
                </a:solidFill>
                <a:latin typeface="Calibri"/>
              </a:rPr>
              <a:t> keep muted except when you have a question or something to share. Can also use the Chat fe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In person</a:t>
            </a:r>
            <a:r>
              <a:rPr b="0" lang="en-US" sz="1200" spc="-1" strike="noStrike">
                <a:solidFill>
                  <a:srgbClr val="000000"/>
                </a:solidFill>
                <a:latin typeface="Calibri"/>
              </a:rPr>
              <a:t>: remind folks of your preferences around asking questions – any time, at the end of a section, end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 where facilities are; to connect with you after the presentation if they have personal information or cases to discuss.</a:t>
            </a:r>
            <a:endParaRPr b="0" lang="en-US" sz="1200" spc="-1" strike="noStrike">
              <a:solidFill>
                <a:srgbClr val="000000"/>
              </a:solidFill>
              <a:latin typeface="Calibri"/>
            </a:endParaRPr>
          </a:p>
        </p:txBody>
      </p:sp>
      <p:sp>
        <p:nvSpPr>
          <p:cNvPr id="7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C6E28-0762-4F2E-BF50-E5A6F15C37A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04840" y="696960"/>
            <a:ext cx="4648320" cy="3486240"/>
          </a:xfrm>
          <a:prstGeom prst="rect">
            <a:avLst/>
          </a:prstGeom>
          <a:ln w="0">
            <a:noFill/>
          </a:ln>
        </p:spPr>
      </p:sp>
      <p:sp>
        <p:nvSpPr>
          <p:cNvPr id="7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ffices and volunteers hold a variety of outreach and educational events to empower consumers to make smart and informed choices about their healthcare op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8C18C-1B03-4EDA-B122-3E2E42BD9EB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04840" y="696960"/>
            <a:ext cx="4648320" cy="3486240"/>
          </a:xfrm>
          <a:prstGeom prst="rect">
            <a:avLst/>
          </a:prstGeom>
          <a:ln w="0">
            <a:noFill/>
          </a:ln>
        </p:spPr>
      </p:sp>
      <p:sp>
        <p:nvSpPr>
          <p:cNvPr id="7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very proud of our volunteers and our program. Our biased opinion aside, consumers also share their appreciation for SHIBA services.</a:t>
            </a:r>
            <a:endParaRPr b="0" lang="en-US" sz="1200" spc="-1" strike="noStrike">
              <a:solidFill>
                <a:srgbClr val="000000"/>
              </a:solidFill>
              <a:latin typeface="Calibri"/>
            </a:endParaRPr>
          </a:p>
        </p:txBody>
      </p:sp>
      <p:sp>
        <p:nvSpPr>
          <p:cNvPr id="7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E886A-48BA-4E18-982A-7F4AAFB0BE3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04840" y="696960"/>
            <a:ext cx="4648320" cy="3486240"/>
          </a:xfrm>
          <a:prstGeom prst="rect">
            <a:avLst/>
          </a:prstGeom>
          <a:ln w="0">
            <a:noFill/>
          </a:ln>
        </p:spPr>
      </p:sp>
      <p:sp>
        <p:nvSpPr>
          <p:cNvPr id="7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and SMP volunteer training is comprehensive and thorough. We prepare volunteers to serve their community confidently.</a:t>
            </a:r>
            <a:endParaRPr b="0" lang="en-US" sz="1200" spc="-1" strike="noStrike">
              <a:solidFill>
                <a:srgbClr val="000000"/>
              </a:solidFill>
              <a:latin typeface="Calibri"/>
            </a:endParaRPr>
          </a:p>
        </p:txBody>
      </p:sp>
      <p:sp>
        <p:nvSpPr>
          <p:cNvPr id="7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2B790-3C93-4331-A4ED-E23DD7D2018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04840" y="696960"/>
            <a:ext cx="4648320" cy="3486240"/>
          </a:xfrm>
          <a:prstGeom prst="rect">
            <a:avLst/>
          </a:prstGeom>
          <a:ln w="0">
            <a:noFill/>
          </a:ln>
        </p:spPr>
      </p:sp>
      <p:sp>
        <p:nvSpPr>
          <p:cNvPr id="7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B7A5E-A205-452F-A26E-AA88DC08B17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04840" y="696960"/>
            <a:ext cx="4648320" cy="3486240"/>
          </a:xfrm>
          <a:prstGeom prst="rect">
            <a:avLst/>
          </a:prstGeom>
          <a:ln w="0">
            <a:noFill/>
          </a:ln>
        </p:spPr>
      </p:sp>
      <p:sp>
        <p:nvSpPr>
          <p:cNvPr id="7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nior Medicare Patrol programs, or SMPs, help Medicare beneficiaries prevent, detect, and report health care fraud. They not only protect older persons, but they also help preserve the integrity of the Medicare program. </a:t>
            </a:r>
            <a:endParaRPr b="0" lang="en-US" sz="1200" spc="-1" strike="noStrike">
              <a:solidFill>
                <a:srgbClr val="000000"/>
              </a:solidFill>
              <a:latin typeface="Calibri"/>
            </a:endParaRPr>
          </a:p>
        </p:txBody>
      </p:sp>
      <p:sp>
        <p:nvSpPr>
          <p:cNvPr id="7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5986D-46DA-47DA-A9F4-C1906825B5E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04840" y="696960"/>
            <a:ext cx="4648320" cy="3486240"/>
          </a:xfrm>
          <a:prstGeom prst="rect">
            <a:avLst/>
          </a:prstGeom>
          <a:ln w="0">
            <a:noFill/>
          </a:ln>
        </p:spPr>
      </p:sp>
      <p:sp>
        <p:nvSpPr>
          <p:cNvPr id="7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re not familiar with the Senior Medicare Patrol program, like SHIBA, SMP is a grant-funded, community based, volunteer driven program that is in all 50 sta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four US territories. SMP focuses on issues of Medicare fraud, errors, and ab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s mission demonstrates this commitment to protecting older persons’ health, finances, and medical identity by sta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o</a:t>
            </a:r>
            <a:r>
              <a:rPr b="0" lang="en-US" sz="1200" spc="-1" strike="noStrike">
                <a:solidFill>
                  <a:srgbClr val="000000"/>
                </a:solidFill>
                <a:latin typeface="Calibri"/>
              </a:rPr>
              <a:t>: we serve Medicare beneficiaries, their families, and caregiv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is our purpose</a:t>
            </a:r>
            <a:r>
              <a:rPr b="0" lang="en-US" sz="1200" spc="-1" strike="noStrike">
                <a:solidFill>
                  <a:srgbClr val="000000"/>
                </a:solidFill>
                <a:latin typeface="Calibri"/>
              </a:rPr>
              <a:t>: Empower and assist to prevent, detect, and report heal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 fraud, errors, and ab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w do we do this</a:t>
            </a:r>
            <a:r>
              <a:rPr b="0" lang="en-US" sz="1200" spc="-1" strike="noStrike">
                <a:solidFill>
                  <a:srgbClr val="000000"/>
                </a:solidFill>
                <a:latin typeface="Calibri"/>
              </a:rPr>
              <a:t>: outreach, education,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BA660-1E92-426B-8E8D-36C73535F6A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04840" y="696960"/>
            <a:ext cx="4648320" cy="3486240"/>
          </a:xfrm>
          <a:prstGeom prst="rect">
            <a:avLst/>
          </a:prstGeom>
          <a:ln w="0">
            <a:noFill/>
          </a:ln>
        </p:spPr>
      </p:sp>
      <p:sp>
        <p:nvSpPr>
          <p:cNvPr id="7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loses billions of dollars each year due to fraud, errors, and abuse. Estimates place these losses at more than $60 billion annually, though the exact figure is impossible to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MP program’s unique role is to work at the grassroots level with the people directly affected by Medicare fraud, errors, and abuse – beneficiaries, their families, and caregiv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dvocate for older adults and Medicare beneficiaries in three important way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a:t>
            </a:r>
            <a:r>
              <a:rPr b="1" lang="en-US" sz="1200" spc="-1" strike="noStrike">
                <a:solidFill>
                  <a:srgbClr val="000000"/>
                </a:solidFill>
                <a:latin typeface="Calibri"/>
              </a:rPr>
              <a:t>outreach and education </a:t>
            </a:r>
            <a:r>
              <a:rPr b="0" lang="en-US" sz="1200" spc="-1" strike="noStrike">
                <a:solidFill>
                  <a:srgbClr val="000000"/>
                </a:solidFill>
                <a:latin typeface="Calibri"/>
              </a:rPr>
              <a:t>on how to prevent, detect and report fraud, errors or abuse of Medicare and healthcare progr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ssist consumers </a:t>
            </a:r>
            <a:r>
              <a:rPr b="0" lang="en-US" sz="1200" spc="-1" strike="noStrike">
                <a:solidFill>
                  <a:srgbClr val="000000"/>
                </a:solidFill>
                <a:latin typeface="Calibri"/>
              </a:rPr>
              <a:t>when they experience fraud, errors, or abuse of Medicare and the health care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t>
            </a:r>
            <a:r>
              <a:rPr b="1" lang="en-US" sz="1200" spc="-1" strike="noStrike">
                <a:solidFill>
                  <a:srgbClr val="000000"/>
                </a:solidFill>
                <a:latin typeface="Calibri"/>
              </a:rPr>
              <a:t>act as good partners</a:t>
            </a:r>
            <a:r>
              <a:rPr b="0" lang="en-US" sz="1200" spc="-1" strike="noStrike">
                <a:solidFill>
                  <a:srgbClr val="000000"/>
                </a:solidFill>
                <a:latin typeface="Calibri"/>
              </a:rPr>
              <a:t> for our federal and local enforcement agenc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do this by enlisting the help of civic-minded volunteers who feel strong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out helping their neighbors and community members live healthy and fulfilling lives.</a:t>
            </a:r>
            <a:endParaRPr b="0" lang="en-US" sz="1200" spc="-1" strike="noStrike">
              <a:solidFill>
                <a:srgbClr val="000000"/>
              </a:solidFill>
              <a:latin typeface="Calibri"/>
            </a:endParaRPr>
          </a:p>
        </p:txBody>
      </p:sp>
      <p:sp>
        <p:nvSpPr>
          <p:cNvPr id="7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05020-945F-4F6F-B1CC-CF8AB28933D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04840" y="696960"/>
            <a:ext cx="4648320" cy="3486240"/>
          </a:xfrm>
          <a:prstGeom prst="rect">
            <a:avLst/>
          </a:prstGeom>
          <a:ln w="0">
            <a:noFill/>
          </a:ln>
        </p:spPr>
      </p:sp>
      <p:sp>
        <p:nvSpPr>
          <p:cNvPr id="7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 educates consumers to take three key actions with respect to Medicare and healthcare fraud, errors, or abu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47DD7-D3FF-49B6-ADB8-0AF0815A3EE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04840" y="696960"/>
            <a:ext cx="4648320" cy="3486240"/>
          </a:xfrm>
          <a:prstGeom prst="rect">
            <a:avLst/>
          </a:prstGeom>
          <a:ln w="0">
            <a:noFill/>
          </a:ln>
        </p:spPr>
      </p:sp>
      <p:sp>
        <p:nvSpPr>
          <p:cNvPr id="7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Medicare benefit has the potential to be exploited by fraud. Through public awareness consumers learn that certain prevention measures can protect them from the impact of fraud. The single most important is to avoid giving out Medicare ID information to unknown individuals, callers, or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Prevent</a:t>
            </a:r>
            <a:r>
              <a:rPr b="0" lang="en-US" sz="1200" spc="-1" strike="noStrike">
                <a:solidFill>
                  <a:srgbClr val="333333"/>
                </a:solidFill>
                <a:latin typeface="Open Sans"/>
              </a:rPr>
              <a:t> health care fraud by protecting your medical identification cards and numbers.</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Treat your Medicare card and number like you would a credit card.</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Only share Medicare and other health care identification cards and numbers with trusted sources who need that information to serve you, such as your health care providers.</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Don’t share ID numbers with a stranger who calls, visits, or approaches you in a public setting.</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Medicare already has your Medicare number. They will not call you to ask for it, and they certainly don’t need your bank account number. </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If </a:t>
            </a:r>
            <a:r>
              <a:rPr b="1" lang="en-US" sz="1200" spc="-1" strike="noStrike">
                <a:solidFill>
                  <a:srgbClr val="333333"/>
                </a:solidFill>
                <a:latin typeface="Open Sans"/>
              </a:rPr>
              <a:t>you</a:t>
            </a:r>
            <a:r>
              <a:rPr b="0" lang="en-US" sz="1200" spc="-1" strike="noStrike">
                <a:solidFill>
                  <a:srgbClr val="333333"/>
                </a:solidFill>
                <a:latin typeface="Open Sans"/>
              </a:rPr>
              <a:t> call 1-800-Medicare (1-800-633-4227) for assistance, they </a:t>
            </a:r>
            <a:r>
              <a:rPr b="1" i="1" lang="en-US" sz="1200" spc="-1" strike="noStrike">
                <a:solidFill>
                  <a:srgbClr val="333333"/>
                </a:solidFill>
                <a:latin typeface="Open Sans"/>
              </a:rPr>
              <a:t>will</a:t>
            </a:r>
            <a:r>
              <a:rPr b="0" lang="en-US" sz="1200" spc="-1" strike="noStrike">
                <a:solidFill>
                  <a:srgbClr val="333333"/>
                </a:solidFill>
                <a:latin typeface="Open Sans"/>
              </a:rPr>
              <a:t> ask for your Medicare number, to verify you and your Medicare account.</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Be suspicious of any offer of free services in exchange for your Medicare or health care identification number.</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Rely on your doctors for medical advice and prescriptions, not advice or offers of medical services from unknown persons who call, visit, or approach you in public.</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Never sign a blank medical or insurance form.</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Do not sign on the spot unless you know and agree with the plan or service you are agreeing to.</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Always read and make sure you understand the content before you sign.</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Request a copy of the form or document you sign for your own records.</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684CE-1B8C-4EB5-8933-0F84F9150C7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04840" y="696960"/>
            <a:ext cx="4648320" cy="3486240"/>
          </a:xfrm>
          <a:prstGeom prst="rect">
            <a:avLst/>
          </a:prstGeom>
          <a:ln w="0">
            <a:noFill/>
          </a:ln>
        </p:spPr>
      </p:sp>
      <p:sp>
        <p:nvSpPr>
          <p:cNvPr id="7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Prevention alone cannot stop all fraud, errors, and abuse. Detect potential problems by taking the following steps:</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Keep records of health care visits, services or equipment received, test results, etc.</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2. File copies of bills received from your doctor, hospital, pharmacist, supplier, or other health care provider.</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3. Save your Medicare Summary Notices (MSNs) and Explanations of Benefits (EOBs) and review them for accuracy.</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Compare the dates, providers, and services received, shown on MSNs and EOBs, to what is documented in your personal health care records.</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Beware of charges for services not received, duplicate charges, or services that were not ordered by your doctor.</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4. Call and ask questions of your provider, Medicare plan, or 1-800-Medicare when:</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don’t understand the charges billed</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don’t think you received the service</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feel the service was unnecessary</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were charged for the same thing twice</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Volunteers can help beneficiaries read their Medicare stat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3D787-93D0-4703-91E5-E0FC688822A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04840" y="696960"/>
            <a:ext cx="4648320" cy="3486240"/>
          </a:xfrm>
          <a:prstGeom prst="rect">
            <a:avLst/>
          </a:prstGeom>
          <a:ln w="0">
            <a:noFill/>
          </a:ln>
        </p:spPr>
      </p:sp>
      <p:sp>
        <p:nvSpPr>
          <p:cNvPr id="7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223e4d"/>
                </a:solidFill>
                <a:latin typeface="Open Sans"/>
              </a:rPr>
              <a:t>Who are we and what do we d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Washington’s Statewide Health Insurance Benefits Advisors (SHIBA) is comprised primarily of volunteers who can help consumers understand the different parts of Medicare, assess healthcare coverage needs and help with enrollment in Medicare and assistance progra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Medicare is federal health insurance for people aged 65 and older, are under age 65 on Social Security Disability Income or diagnosed with certain diseases. SHIBA is available to help consumers learn about Medicare, answer their questions and explain their righ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Washington’s Senior Medicare Patrol is also comprised of volunteers who help Medicare beneficiaries, their families, and caregivers prevent, identify, and report Medicare fraud, billing errors, or abuse of the Medicare program.</a:t>
            </a:r>
            <a:endParaRPr b="0" lang="en-US" sz="1200" spc="-1" strike="noStrike">
              <a:solidFill>
                <a:srgbClr val="000000"/>
              </a:solidFill>
              <a:latin typeface="Calibri"/>
            </a:endParaRPr>
          </a:p>
        </p:txBody>
      </p:sp>
      <p:sp>
        <p:nvSpPr>
          <p:cNvPr id="7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23541-FBF5-413F-BB15-32897C6E30A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04840" y="696960"/>
            <a:ext cx="4648320" cy="3486240"/>
          </a:xfrm>
          <a:prstGeom prst="rect">
            <a:avLst/>
          </a:prstGeom>
          <a:ln w="0">
            <a:noFill/>
          </a:ln>
        </p:spPr>
      </p:sp>
      <p:sp>
        <p:nvSpPr>
          <p:cNvPr id="7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f suspicious activity is discovered</a:t>
            </a:r>
            <a:r>
              <a:rPr b="1" lang="en-US" sz="1200" spc="-1" strike="noStrike">
                <a:solidFill>
                  <a:srgbClr val="000000"/>
                </a:solidFill>
                <a:latin typeface="Arial"/>
                <a:ea typeface="Arial"/>
              </a:rPr>
              <a:t>, </a:t>
            </a:r>
            <a:r>
              <a:rPr b="0" lang="en-US" sz="1200" spc="-1" strike="noStrike">
                <a:solidFill>
                  <a:srgbClr val="333333"/>
                </a:solidFill>
                <a:latin typeface="Open Sans"/>
              </a:rPr>
              <a:t>SMP volunteers educate beneficiaries to report suspected fraud, errors, or abuse immediately!</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Here are steps to report concerns:</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all the health care provider. </a:t>
            </a:r>
            <a:r>
              <a:rPr b="0" lang="en-US" sz="1200" spc="-1" strike="noStrike">
                <a:solidFill>
                  <a:srgbClr val="333333"/>
                </a:solidFill>
                <a:latin typeface="Open Sans"/>
              </a:rPr>
              <a:t>Call the provider or supplier first to question the charge. If it was a mistake, ask them to correct it.</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all the insurance carrier, Medicare or other health insurance plan, that paid the bill.</a:t>
            </a:r>
            <a:r>
              <a:rPr b="0" lang="en-US" sz="1200" spc="-1" strike="noStrike">
                <a:solidFill>
                  <a:srgbClr val="333333"/>
                </a:solidFill>
                <a:latin typeface="Open Sans"/>
              </a:rPr>
              <a:t> If the provider or supplier can’t answer the question about the claim, contact your insurance plan that paid the bill.  </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For Medicare, it would be 1-800-Medicare (1-800-633-4227).  If you are not sure, contact information can be found on your Medicare Summary Notice (MSN) or Explanation of Benefits (EOB).</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ontact the SMP.</a:t>
            </a:r>
            <a:r>
              <a:rPr b="0" lang="en-US" sz="1200" spc="-1" strike="noStrike">
                <a:solidFill>
                  <a:srgbClr val="333333"/>
                </a:solidFill>
                <a:latin typeface="Open Sans"/>
              </a:rPr>
              <a:t> If you are not satisfied with the response you get from a provider, supplier, or insurance company, you can contact your Washington SMP. </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SMP will help beneficiaries determine if the issue involves suspected fraud, errors, or abuse and the correct action to take. </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Report Fraud: </a:t>
            </a:r>
            <a:r>
              <a:rPr b="0" lang="en-US" sz="1200" spc="-1" strike="noStrike">
                <a:solidFill>
                  <a:srgbClr val="333333"/>
                </a:solidFill>
                <a:latin typeface="Open Sans"/>
              </a:rPr>
              <a:t>if potential fraud, like charges for medical equipment not received or ordered, are discovered on your insurance statement, report it. SMP will collect important details, compile a case report, and refer the case for further investigation by the appropriate authoriti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B18DF-98CB-42FD-AE82-55199FC6E7C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04840" y="696960"/>
            <a:ext cx="4648320" cy="3486240"/>
          </a:xfrm>
          <a:prstGeom prst="rect">
            <a:avLst/>
          </a:prstGeom>
          <a:ln w="0">
            <a:noFill/>
          </a:ln>
        </p:spPr>
      </p:sp>
      <p:sp>
        <p:nvSpPr>
          <p:cNvPr id="7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imes consumers ask for help with situations that are outside the scope of the SMP pro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is happens SMP does it’s best to refer the consumer to the appropriate agency or individual for hel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955C4-DDED-4346-9A91-1D8828B8981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04840" y="696960"/>
            <a:ext cx="4648320" cy="3486240"/>
          </a:xfrm>
          <a:prstGeom prst="rect">
            <a:avLst/>
          </a:prstGeom>
          <a:ln w="0">
            <a:noFill/>
          </a:ln>
        </p:spPr>
      </p:sp>
      <p:sp>
        <p:nvSpPr>
          <p:cNvPr id="7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times when a situation seems fraudulent and in fact it is really a billing mistake, or a provider has become accustomed to certain billing practices that are no longer in compliance with Medicare r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determine if it is fraud or an error, SMP will suggest the beneficiary contact the provider’s office or supplier to correct the err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provider or supplier is unwilling to work with the beneficiary to make a correction, SMPs may step in to assist or refer the case to partner agencies for further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11163-D63A-4892-942D-70285D84419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fraud is part of frequent discussion, and we may feel sure we understand what it is, let’s take a couple of minutes to examine what fraud, errors and abuse look like through the lens of Medicare and health insurance.</a:t>
            </a: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5225F-4C66-4870-AE1C-CF5386A27EB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an called me when she noticed claims on her Medicare statement for labs she didn’t recall hav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checked the dates of service on her statement against her calendar where she listed doctor’s appointments and other health care services and saw she did not have any healthcare appointments on those d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didn’t recognize the name of the lab or the provider that order the t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was concerned because the statement showed she would owe almost $4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EAF83-C835-4561-A7AC-F1BC5FC848B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an did something very sma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kept a written record of all doctor and healthcare related appointments on her calend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he had a new service, like a lab, or saw a new doctor she would note that with the appoint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record helped us resolve the mystery of the la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alled her own provider’s office and talked to the billing person. It took a little investigating by the billing office, but ultimately the claim was for a different patient but had been billed using Susan’s Medicare 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one was worrisome but not impossible to solve. The provider’s billing office agreed to rebill the claims using the correct patient information and to contact Medicare to ask the claims be removed from Susan’s account. </a:t>
            </a: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30096-C60A-435E-BE24-90B6A49AD40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n a case reviewed by Centers for Medicare and Medicaid Services, a psychiatrist had been billing Medicare for 60-minute sessions when he was only spending 15 minutes with each patien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hen it is determined that incorrect billing codes are used to receive higher reimbursement, called upcoding, Medicare may determine the provider would need to pay back what Medicare paid.</a:t>
            </a: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F8375-AF6B-45C8-9793-83F2FB9B267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Medicare abuse involves practices that lead to unnecessary costs for the Medicare program, often without direct intent to deceiv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Unlike fraud, which involves deliberate misrepresentation, abuse can stem from misunderstandings, errors, or even careless billing practices that still result in higher expenses for the progra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n this case, the abuse involved a billing practice in the providers office that needed to be updated and more carefully checked to be compliant with Medicare reimbursement ru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A beneficiary can help identify something like this by carefully reviewing Medicare and healthcare claims and statements to make sure the date, time, name of provider, and service are all corre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Like with errors, if something doesn’t seem right, contact the provider’s billing office first and ask ques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illing office is not able or unwilling to make a change, contact SMP.</a:t>
            </a: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1D35D-4E35-43B4-AB33-889D86493C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is receiving scam calls daily at all different times of the d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tries to ignore them, but she finally gets fed up and ans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ller says he is a Medicare representative who wants to verify her address, Medicare ID, date of birth, and full name so he can make sure her Medicare card is up to d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is suspicious and tells him she doesn’t want to share any information over the ph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relentless and even gets a bit aggressive, telling her she will lose her Medicare if she doesn’t verify her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reluctantly gives the caller her Medica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says, ‘thank you’ and hangs 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has a sinking feeling she has just been scammed.</a:t>
            </a: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A72CB-B5BB-4A10-98FB-7F748C46F49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 helped Mary contact Medicare at 1-800-Medicare to report a compromised Medicare ID number and request a new one be issu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mmers are </a:t>
            </a:r>
            <a:r>
              <a:rPr b="1" i="1" lang="en-US" sz="1200" spc="-1" strike="noStrike">
                <a:solidFill>
                  <a:srgbClr val="000000"/>
                </a:solidFill>
                <a:latin typeface="Calibri"/>
              </a:rPr>
              <a:t>very</a:t>
            </a:r>
            <a:r>
              <a:rPr b="0" lang="en-US" sz="1200" spc="-1" strike="noStrike">
                <a:solidFill>
                  <a:srgbClr val="000000"/>
                </a:solidFill>
                <a:latin typeface="Calibri"/>
              </a:rPr>
              <a:t> persistent and convincing. They literally make a living by deceiving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feel compelled to answer that unknown call, remember that scammers flag your number to target it and keep calling until they get the information they w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re receiving scam calls let unknown numbers, go to voicemail. You can let important people in your life, like your doctor, friends, family, know you are screening your ca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e to too many scam calls and that they should leave a voicemai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 take a call and inadvertently give our personal information, especially your Medicare ID or S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Medicare scams and stolen ID to Medicare and to SM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SS Scams to SSA.gov.</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TC provides good information about scam and robo calls and provides a way to report them. See: https://consumer.ftc.gov/unwanted-calls-emails-and-texts/unwanted-ca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https://reportfraud.ftc.gov/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to us at SMP and to Medicare if you give out your Medicare ID.</a:t>
            </a: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25B86-D8DD-47BC-BBF9-B0CB77896D2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04840" y="696960"/>
            <a:ext cx="4648320" cy="3486240"/>
          </a:xfrm>
          <a:prstGeom prst="rect">
            <a:avLst/>
          </a:prstGeom>
          <a:ln w="0">
            <a:noFill/>
          </a:ln>
        </p:spPr>
      </p:sp>
      <p:sp>
        <p:nvSpPr>
          <p:cNvPr id="7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and SMP are part of the Consumer Protection Division of the Washington state Office of the Insurance Commissio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complimentary programs in that SHIBA assists consumers understand and navigate the Medicare program and SMP educates and assists consumers to protect themselves and the Medicare program from healthcare fraud, errors, and abuse and how to report if it occurs.</a:t>
            </a:r>
            <a:endParaRPr b="0" lang="en-US" sz="1200" spc="-1" strike="noStrike">
              <a:solidFill>
                <a:srgbClr val="000000"/>
              </a:solidFill>
              <a:latin typeface="Calibri"/>
            </a:endParaRPr>
          </a:p>
        </p:txBody>
      </p:sp>
      <p:sp>
        <p:nvSpPr>
          <p:cNvPr id="7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79A7E-5E65-4A68-9795-33D9C966040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ny called SMP when he noticed 9 months worth of glucose monitoring claims on his Medicare statement that were unfamili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ach claim charged Medicare $600, totaling $5,400.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ny was concerned because he isn’t diabetic at this point in his life and though he doesn’t have any reason to believe he will become diabetic, he is worried that if he do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false claims will interfere with his ability to get supplies or services cov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also worried about medical identity theft, which occurs when someone uses your personal and medical IDs and information to obtain care or payment without your permission or even without you knowing.</a:t>
            </a: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2AC64-861C-4B7E-A35F-2A9054AD7EE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ony shared copies of his Medicare statements with us which included a business name, address, and contact information for t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upplier of the glucose monit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he SMP counselor called the number for the supply company. No answer and no voicemail set up, which are red flag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he counselor was able to determine the supply company had other complaints of fraudulent claims being submitted using other consumer’s inform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ith Tony’s help to get all the necessary details and documentation, SMP compiled a detailed report and referred the case to the Office Of the Inspector Gener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MP also helped Tony to call Medicare and notify them of the fraud, requesting a fraud alert be put on his account and a new Medicare ID be issued so fraudsters could not keep using it for fraudulent clai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f you notice suspicious claims, please report it to us at SMP as well as to Medica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e refer cases to partner agencies for further investigation. Documentation is important to move the investigation forward.</a:t>
            </a: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4B7B8-19A4-40E9-8870-7A5074E71C3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Remember SMP is here to help you protect your information and to detect and report fraud if it occu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e teach consumers how to read their insurance and medical statements and how to locate helpful resources.</a:t>
            </a: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2698F-8FB8-43F9-BAF2-22CAB5E6317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HIBA and SMP volunteers are our greatest asse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Volunteers serve their local community, helping their neighbors understand the complexities of Medica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Opportunities at all levels are available, from one-on-one counseling to public presentation to behind-the-scenes administrative help.</a:t>
            </a: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25409-37BC-4394-9D3E-C3A0F7F237B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ptos"/>
            </a:endParaRPr>
          </a:p>
        </p:txBody>
      </p:sp>
      <p:sp>
        <p:nvSpPr>
          <p:cNvPr id="8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A1B41-2B33-4AFB-BFFF-DB1BBE429C0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04840" y="696960"/>
            <a:ext cx="4648320" cy="3486240"/>
          </a:xfrm>
          <a:prstGeom prst="rect">
            <a:avLst/>
          </a:prstGeom>
          <a:ln w="0">
            <a:noFill/>
          </a:ln>
        </p:spPr>
      </p:sp>
      <p:sp>
        <p:nvSpPr>
          <p:cNvPr id="7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a:t>
            </a:r>
            <a:r>
              <a:rPr b="0" lang="en-US" sz="1200" spc="-1" strike="noStrike">
                <a:solidFill>
                  <a:srgbClr val="000000"/>
                </a:solidFill>
                <a:latin typeface="Arial"/>
              </a:rPr>
              <a:t> = we do not charge for our servic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biased</a:t>
            </a:r>
            <a:r>
              <a:rPr b="0" lang="en-US" sz="1200" spc="-1" strike="noStrike">
                <a:solidFill>
                  <a:srgbClr val="000000"/>
                </a:solidFill>
                <a:latin typeface="Arial"/>
              </a:rPr>
              <a:t> = we are not affiliated with any health insurance plan, company or produc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really want to reach those that would normally not reach out to us.</a:t>
            </a:r>
            <a:endParaRPr b="0" lang="en-US" sz="1200" spc="-1" strike="noStrike">
              <a:solidFill>
                <a:srgbClr val="000000"/>
              </a:solidFill>
              <a:latin typeface="Calibri"/>
            </a:endParaRPr>
          </a:p>
        </p:txBody>
      </p:sp>
      <p:sp>
        <p:nvSpPr>
          <p:cNvPr id="7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53644-66AF-4FC1-8FBC-E80C8930A44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04840" y="696960"/>
            <a:ext cx="4648320" cy="3486240"/>
          </a:xfrm>
          <a:prstGeom prst="rect">
            <a:avLst/>
          </a:prstGeom>
          <a:ln w="0">
            <a:noFill/>
          </a:ln>
        </p:spPr>
      </p:sp>
      <p:sp>
        <p:nvSpPr>
          <p:cNvPr id="7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BA is a special program of the Consumer Protection Division at the Washington State Office of the Insurance Commissi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someone is new to Medicare, reviewing Medicare plan options, or has questions about Medicare benefits, State Health Insurance Programs (SHIPs) as they are referred to nationally, are available to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rogram is SHIBA and is the SHIP program in WA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BA was the first SHIP ever which got it’s start in WA state in 197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3D6B9-DBF2-4CFF-9BFD-34E854EDA73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04840" y="696960"/>
            <a:ext cx="4648320" cy="3486240"/>
          </a:xfrm>
          <a:prstGeom prst="rect">
            <a:avLst/>
          </a:prstGeom>
          <a:ln w="0">
            <a:noFill/>
          </a:ln>
        </p:spPr>
      </p:sp>
      <p:sp>
        <p:nvSpPr>
          <p:cNvPr id="7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ffices are in counties throughout Washington s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d volunteers assist beneficiaries through free, unbiased, and confidential one-on-one counseling ses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Our network of SHIBA volunteers assist people across the state t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Understanding the Medicare coverage that is best for th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Review eligibility for health care coverage assistance progra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Compare Medicare plans and progra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Assist in Medicare and insurance plan enroll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Calling 1-800 Medicare on behalf of a beneficiar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Referring beneficiaries to other agencies and programs when need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Educate consumers how to protect personal and health insurance information and how to report possible Medicare frau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D8E58-4434-4749-A452-5B9319B7F9A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04840" y="696960"/>
            <a:ext cx="4648320" cy="3486240"/>
          </a:xfrm>
          <a:prstGeom prst="rect">
            <a:avLst/>
          </a:prstGeom>
          <a:ln w="0">
            <a:noFill/>
          </a:ln>
        </p:spPr>
      </p:sp>
      <p:sp>
        <p:nvSpPr>
          <p:cNvPr id="7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serve and help more than 94,000 people a year with counseling and another 2,400 people to navigate Medicare through public information ev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n example of how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0" lang="en-US" sz="1200" spc="-1" strike="noStrike">
                <a:solidFill>
                  <a:srgbClr val="000000"/>
                </a:solidFill>
                <a:latin typeface="Arial"/>
              </a:rPr>
              <a:t>: Anne is not the real name of the client this scenario repres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Anne sought help from a SHIBA counselor in April because she was diagnosed with cancer and was enrolled only in Medicare hospital coverage, or Part A. When she went to Social Security to find out what she needed to do to get fully covered so she could have her cancer treatments paid for, she was told she would have to wait until the General Enrollment period to add her medical coverage or Part B. Medicare’s General Enrollment is offered each year from January through March, which would have been nearly a year later for Anne. This was not a good option given she could not postpone cancer treatme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SHIBA counselor listened intently to Anne’s story, reviewed her situation and enrollment eligibility including an income screening review. The counselor determined Anne would likely be eligible for a Medicare assistance program, called Medicare Savings Program that is administered by Dept of Social and Health Services, DSHS. The counselor referred Anne to her local DSHS office to apply for the assistance program.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She did qualify, was able to apply for her medical coverage, Part B, that would be effective the first of May, the following month.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Anne was able to start cancer treatment in May because she now had insurance to cover her car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just one of the many ways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Note to speaker:  You can use your own case if you prefer, just remember to leave out names and other confidential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5B5D5-59D8-43BF-8C78-A1FEAC682AE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04840" y="696960"/>
            <a:ext cx="4648320" cy="3486240"/>
          </a:xfrm>
          <a:prstGeom prst="rect">
            <a:avLst/>
          </a:prstGeom>
          <a:ln w="0">
            <a:noFill/>
          </a:ln>
        </p:spPr>
      </p:sp>
      <p:sp>
        <p:nvSpPr>
          <p:cNvPr id="7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perates as a collaborative network where different entities contribute their unique strengths to serve Medicare beneficiaries eff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unity volunteers serve as the frontline advisors, providing one-on-one counseling to beneficia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nteers bring valuable community connections and often have experience with Medicare themselv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cal sponsor agencies provide the program infrastructure and support at the local le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gencies, which include agencies like Area Agencies on Aging, senior service agencies, community action networks, are hosts for SHIBA services. Sponsors also recruit and manage teams of volunteers and ensure SHIBA and SMP services reach underserved populations in their commun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staff oversee the program statewide, ensuring quality and consistency. They develop training materials, provide initial and ongoing volunteer training and onboarding, maintain program standards, handle more complex cases, and coordinate with state and federal partner agenc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staff also provide technical support and resources that volunteers and local agencies can access on their ow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government agencies and community partners expand the program’s reach and effectiveness. For example, SHIBA-OIC partners with Dept of Social and Health Services and Health Care Authority for coordination with Medicaid and Public Employee Benefits Board enrollees. </a:t>
            </a:r>
            <a:endParaRPr b="0" lang="en-US" sz="1200" spc="-1" strike="noStrike">
              <a:solidFill>
                <a:srgbClr val="000000"/>
              </a:solidFill>
              <a:latin typeface="Calibri"/>
            </a:endParaRPr>
          </a:p>
        </p:txBody>
      </p:sp>
      <p:sp>
        <p:nvSpPr>
          <p:cNvPr id="7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254B4-14C3-4EF6-813A-E2571DE225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04840" y="696960"/>
            <a:ext cx="4648320" cy="3486240"/>
          </a:xfrm>
          <a:prstGeom prst="rect">
            <a:avLst/>
          </a:prstGeom>
          <a:ln w="0">
            <a:noFill/>
          </a:ln>
        </p:spPr>
      </p:sp>
      <p:sp>
        <p:nvSpPr>
          <p:cNvPr id="7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HIBA volunteers and staff are trained and experienced in assisting with or educating on Medicare, Medicare fraud, and complexities around associated programs, some concerns beneficiaries have may be outside our sco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HIBA is an unbiased informational service, our mission and mandate does not allow any SHIBA representative to recommend insurance companies, specific policies, or any specific agent, broker or insurance off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quality of healthcare can often seem intertwined with insurance as insurance may be paying for the services, SHIBA does not have any regulatory power or expertise in quality-of-care concerns or how a provider delivers healthcare servi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ssible, we may try to recommend other agencies which are more specialized in these issues.</a:t>
            </a:r>
            <a:endParaRPr b="0" lang="en-US" sz="1200" spc="-1" strike="noStrike">
              <a:solidFill>
                <a:srgbClr val="000000"/>
              </a:solidFill>
              <a:latin typeface="Calibri"/>
            </a:endParaRPr>
          </a:p>
        </p:txBody>
      </p:sp>
      <p:sp>
        <p:nvSpPr>
          <p:cNvPr id="7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6C777-97E9-411F-8CB0-0DCBAD30C8A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8BCD6-753B-4021-BE15-8CFF9FC5B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EDC08-F41D-4AEB-94FA-AFBED1C8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23A612-7D1A-4619-AF2F-B2CD83193D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B18582-AF24-4159-A6B2-61DFF598C5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12A272-98BC-41C0-AB0E-C4E63E41D0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C5B7C0-FB91-4A88-96BE-83805B5A5A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10D87B-04E8-4CC2-8359-32A766BD3C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69AC5E-9D88-4648-82B0-9FD8ED3FFC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AA55C3-027A-40AD-92A2-D052E02035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70CA35D-EA20-4A0B-8EB0-B95C64390C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A69A556-93EB-4301-AECF-80AFFDE3ACB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BE6B5B-A5C2-4A84-AF6E-42AEACF64F3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BD448-6BC7-4316-AE3F-D96F02D54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B051A9A-9BAE-4DD2-8A9C-604641B348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D772E0-EE78-4E50-B3B5-AF85B910B0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2BC046D-1141-4D47-A0D2-34871D8BFD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95A0079-2BB5-4B2C-A05A-2E9F1AC7A49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DB0A206-5B20-46F9-8B5F-0AD859A749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9A8F4B-8CEF-4449-BF2E-CFEB6CC81B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EE13A4-63C2-402F-AE5B-A48C3D7388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27E877-29CD-4F4E-B3EC-5193943E1CA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AE84E2B-0504-47AB-93DA-704F0CD819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9EC11E5-B45B-40DF-8DF9-0BC1E264677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F2B51-5D73-4D50-B8A7-25B73D65E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6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4700AA-4AF4-4C31-85FE-8DE79E7E4F4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723CBC-901F-445B-8390-101FE126F6F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9"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F8905B-62A6-438F-8F61-4D1C0B74BE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1"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096238-11F0-4F6F-9B55-D45EFACF7BF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B93A5BD-8AE6-43BE-811F-505E89ABE7A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DCAE5F7-BE23-44C8-AB01-EBCCF0A7A0F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6193E6-03E2-453B-86F1-BCE06C22F5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758B759-B2C0-4693-9DBF-05722457FB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4"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A83746-6C72-40BF-BB1B-C122B4FBF3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8"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1F309BF-D675-4540-ABBC-025C49AEF4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0"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1"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B091F27-E734-459F-BC2B-B1D8186DEC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6"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96E29D7-0DBA-40C9-96D2-DE7BE89AF89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8"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9"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0"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1"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2"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3"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B14294-DB02-47A6-A68C-FB964904E51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C34220B-0F70-4399-B76C-F7B646E9C59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5"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2DEE9FB-8A12-4BE9-A970-88D66A42B1F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7"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F39B8E-3530-4671-B33B-7634E1FCBD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8C62234-CB66-4F74-A40D-C7ABFE6B674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5E7C620-329A-4F07-B1F7-ACFF3AFABFE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2BB9BD1-96E0-43B2-BACE-B557967632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5BACBA-E6A6-4918-9A6C-4CD7B3C4B52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0"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ED99A3-A668-4E5C-8228-8DE4414F47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4"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ED7D2C-5F6D-4215-B0CE-7C7E0A5FA92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6"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7"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2DFB657-E7F5-4AA0-9A6F-C4F9DFF791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2"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64F04D3-A358-4A7C-8276-D7FB3879D4E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54"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5"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6"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7"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8"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9"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EFB9BC1-0703-436D-B830-AFBEACCBD7F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5637-BCA6-42E9-9D0E-9C112328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3"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5"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08DE9-909A-409E-B78D-C225375C9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4"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5"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2"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3"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F0C92B-295E-49A3-90BF-A02E4BC150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2DCD6D-03C1-4D0D-99A3-1939ECFAF4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19A6D0-3CF6-4414-9BA5-800C2CC2CC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8E4E-7DDB-49AE-A86B-A8A46119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A6EBFD-8F62-438C-A8C4-B1E6C5F4B6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BF3FDA-74FE-44C1-8A11-565E7FC537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EA3D7A-898E-411C-893B-2A873D1321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9F25DE-E8FB-4ED8-80B6-BD7CD877A9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DE8366-AFD3-497F-924E-77DC3AE677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BDF709-8267-4A6B-AF47-C88101E5DF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904081-9F3C-4739-95C6-A87319E568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B61860-E212-4114-803D-83BC3CBEA4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F1922C-E64C-4711-AB46-86AFA9C83D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83B590-AD37-4397-BA07-87EE5BF184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A6F4-87F4-41F9-B33D-44E4AA8B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9"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3DC864-E4A3-4B7D-A8EB-46C0D04A91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1"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D91D11-FD45-4445-8515-358259956F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6C0FA9-9D90-497F-B809-A4A17D9E68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83A967-DAB7-474A-A467-77118DF8EB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B2BA9E-F2A1-4D92-826B-979E30F73B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A54A65-1416-44E6-9AC0-33EC13740B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4"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3FD7CF-E1B4-452C-A922-986D96F503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8"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51E74B-C9A1-40AB-82CB-75082CB1DB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0"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1"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4C8E6E-3649-4F5D-A9CC-C1BE57D4A2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6"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6B8A6F-2756-4C44-90B1-EF57E5A018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4FF31-B7A7-4C20-A762-B9A5ECA8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8"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3"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587688-2C7A-4B79-97C5-D3013330EA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DF2B247-F05D-4A8B-8035-43D3987CB0B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1C4B72-41F5-49B7-9C76-C6CBA1A9BF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0CA680-0FA9-4C34-9516-B9A2DDACA1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024093-E728-4504-BB3F-1AC50C9758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81F356-F414-4A7D-958F-CC5B846370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C1BD75-EF29-4F00-9225-48FA771025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805026-7335-48E1-B17C-A6B402C14B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8C74F8-0227-499D-BC0F-E9EBB80534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C65D01-36F3-4120-8D62-BB6D4F2B14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1CE2-8F3E-4464-B1CA-4733E65A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3E7270-E7ED-4555-93AD-6704D6A7E0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F77ACF6-9CD6-48E3-ADBB-C563EDFAFEB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05E16D4-BF3D-4C76-A811-F06BC209F0E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8D2B2EB-EE3B-44FB-9F68-AB9F692D25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3"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33190F-C779-4598-8DE2-0D2B8649F3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5"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4735F1-8D01-4A4D-940D-9928C065CBB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1FA6C6-467E-409C-9C51-A34220F119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CF3929-C266-4B3C-8673-A9CA051C4B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6EFABF-5018-40CB-8728-1951D0A1C9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416558-0218-4A3F-BCA9-30DE4B275EC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EF51-09D2-4573-9729-2C0E7FD9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8145F7-30BC-479C-88AB-10F543C6E0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0CDC19-1AA6-4383-88B9-086197F3DC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24DE812-AD18-443C-B560-E8026E7C6B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2C23F6-E2BC-419E-9BA0-BDF2FF1C1F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22"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5"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6"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7"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24C94C-9BDE-4A2B-8FA6-DA1B0591339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766893B-1A72-44D7-A742-76D1FEE8FEA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6F0B79-A1A3-4D58-A1AE-4597B1BC6D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CAC3CB-26C2-4E38-92AF-3B597FF89B5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9CB63B-AABA-4284-9602-91EAC687380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CF6A6D-A841-451E-AC93-F5205E6E001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0679-825A-428E-AEA1-D18D69FCF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F0ECEB5-EE34-40EA-AB16-8B1BA16CDB4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95260F-14A1-494B-AEC6-D9FB2A7058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BB3E7D-422D-4761-943D-A9FF13F384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E5541F-EAD4-4618-A550-9DCF54B1F7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5ADA692-3269-4536-88D9-71B778BF56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707EAA2-624C-49F0-9A21-290BDD68ED3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7ECAFC6-5526-4D48-A486-C78925E0DC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BCE66CE-A0D0-4912-8185-63EE2B0BE6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0A581D-569F-4DEA-8EF5-FFFDEABE02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953747-83B7-49B1-A4B7-AB1396CF9F1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6E561-A0E1-4B65-8922-B6D46A30C19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509E5-D598-4EBD-851B-C62D524CA87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Group 15"/>
          <p:cNvGrpSpPr/>
          <p:nvPr/>
        </p:nvGrpSpPr>
        <p:grpSpPr>
          <a:xfrm>
            <a:off x="0" y="6108840"/>
            <a:ext cx="9144000" cy="639720"/>
            <a:chOff x="0" y="6108840"/>
            <a:chExt cx="9144000" cy="639720"/>
          </a:xfrm>
        </p:grpSpPr>
        <p:sp>
          <p:nvSpPr>
            <p:cNvPr id="42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2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24" name="Picture 13" descr="SHIBAlogo_RGB_abridged.png"/>
            <p:cNvPicPr/>
            <p:nvPr/>
          </p:nvPicPr>
          <p:blipFill>
            <a:blip r:embed="rId2"/>
            <a:stretch/>
          </p:blipFill>
          <p:spPr>
            <a:xfrm>
              <a:off x="343080" y="6108840"/>
              <a:ext cx="571680" cy="639720"/>
            </a:xfrm>
            <a:prstGeom prst="rect">
              <a:avLst/>
            </a:prstGeom>
            <a:ln w="0">
              <a:noFill/>
            </a:ln>
          </p:spPr>
        </p:pic>
      </p:grpSp>
      <p:pic>
        <p:nvPicPr>
          <p:cNvPr id="425"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2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28" name="PlaceHolder 3"/>
          <p:cNvSpPr>
            <a:spLocks noGrp="1"/>
          </p:cNvSpPr>
          <p:nvPr>
            <p:ph type="dt" idx="24"/>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E7B14-EBE1-436F-A06E-BECB6F517B6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429" name="PlaceHolder 4"/>
          <p:cNvSpPr>
            <a:spLocks noGrp="1"/>
          </p:cNvSpPr>
          <p:nvPr>
            <p:ph type="ftr" idx="25"/>
          </p:nvPr>
        </p:nvSpPr>
        <p:spPr>
          <a:xfrm>
            <a:off x="1837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430" name="PlaceHolder 5"/>
          <p:cNvSpPr>
            <a:spLocks noGrp="1"/>
          </p:cNvSpPr>
          <p:nvPr>
            <p:ph type="sldNum" idx="2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D1C12-51FB-4A91-815F-E319B355421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15"/>
          <p:cNvGrpSpPr/>
          <p:nvPr/>
        </p:nvGrpSpPr>
        <p:grpSpPr>
          <a:xfrm>
            <a:off x="0" y="6108840"/>
            <a:ext cx="9144000" cy="639720"/>
            <a:chOff x="0" y="6108840"/>
            <a:chExt cx="9144000" cy="639720"/>
          </a:xfrm>
        </p:grpSpPr>
        <p:sp>
          <p:nvSpPr>
            <p:cNvPr id="46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70" name="Picture 13" descr="SHIBAlogo_RGB_abridged.png"/>
            <p:cNvPicPr/>
            <p:nvPr/>
          </p:nvPicPr>
          <p:blipFill>
            <a:blip r:embed="rId2"/>
            <a:stretch/>
          </p:blipFill>
          <p:spPr>
            <a:xfrm>
              <a:off x="343080" y="6108840"/>
              <a:ext cx="571680" cy="639720"/>
            </a:xfrm>
            <a:prstGeom prst="rect">
              <a:avLst/>
            </a:prstGeom>
            <a:ln w="0">
              <a:noFill/>
            </a:ln>
          </p:spPr>
        </p:pic>
      </p:grpSp>
      <p:sp>
        <p:nvSpPr>
          <p:cNvPr id="47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472"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4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74"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75" name="PlaceHolder 3"/>
          <p:cNvSpPr>
            <a:spLocks noGrp="1"/>
          </p:cNvSpPr>
          <p:nvPr>
            <p:ph type="dt" idx="2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11ED9-B294-452F-A634-25015FDC02E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476" name="PlaceHolder 4"/>
          <p:cNvSpPr>
            <a:spLocks noGrp="1"/>
          </p:cNvSpPr>
          <p:nvPr>
            <p:ph type="ftr" idx="28"/>
          </p:nvPr>
        </p:nvSpPr>
        <p:spPr>
          <a:xfrm>
            <a:off x="1846440" y="6329160"/>
            <a:ext cx="3622320" cy="19980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477" name="PlaceHolder 5"/>
          <p:cNvSpPr>
            <a:spLocks noGrp="1"/>
          </p:cNvSpPr>
          <p:nvPr>
            <p:ph type="sldNum" idx="2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99B1D-2B4E-4FFA-BC45-0C11FEE839A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15"/>
          <p:cNvGrpSpPr/>
          <p:nvPr/>
        </p:nvGrpSpPr>
        <p:grpSpPr>
          <a:xfrm>
            <a:off x="0" y="6108840"/>
            <a:ext cx="9144000" cy="639720"/>
            <a:chOff x="0" y="6108840"/>
            <a:chExt cx="9144000" cy="639720"/>
          </a:xfrm>
        </p:grpSpPr>
        <p:sp>
          <p:nvSpPr>
            <p:cNvPr id="515"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16"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17" name="Picture 13" descr="SHIBAlogo_RGB_abridged.png"/>
            <p:cNvPicPr/>
            <p:nvPr/>
          </p:nvPicPr>
          <p:blipFill>
            <a:blip r:embed="rId2"/>
            <a:stretch/>
          </p:blipFill>
          <p:spPr>
            <a:xfrm>
              <a:off x="343080" y="6108840"/>
              <a:ext cx="571680" cy="639720"/>
            </a:xfrm>
            <a:prstGeom prst="rect">
              <a:avLst/>
            </a:prstGeom>
            <a:ln w="0">
              <a:noFill/>
            </a:ln>
          </p:spPr>
        </p:pic>
      </p:grpSp>
      <p:pic>
        <p:nvPicPr>
          <p:cNvPr id="518"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5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20"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21" name="PlaceHolder 3"/>
          <p:cNvSpPr>
            <a:spLocks noGrp="1"/>
          </p:cNvSpPr>
          <p:nvPr>
            <p:ph type="dt" idx="30"/>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68707-CE77-416E-8CAC-9051C21BA77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522" name="PlaceHolder 4"/>
          <p:cNvSpPr>
            <a:spLocks noGrp="1"/>
          </p:cNvSpPr>
          <p:nvPr>
            <p:ph type="ftr" idx="31"/>
          </p:nvPr>
        </p:nvSpPr>
        <p:spPr>
          <a:xfrm>
            <a:off x="183492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523" name="PlaceHolder 5"/>
          <p:cNvSpPr>
            <a:spLocks noGrp="1"/>
          </p:cNvSpPr>
          <p:nvPr>
            <p:ph type="sldNum" idx="32"/>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E6621-A6C9-441D-A5BD-2DADA895F4E1}"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A group of people smiling"/>
          <p:cNvPicPr/>
          <p:nvPr/>
        </p:nvPicPr>
        <p:blipFill>
          <a:blip r:embed="rId2"/>
          <a:stretch/>
        </p:blipFill>
        <p:spPr>
          <a:xfrm>
            <a:off x="0" y="0"/>
            <a:ext cx="9144000" cy="4403880"/>
          </a:xfrm>
          <a:prstGeom prst="rect">
            <a:avLst/>
          </a:prstGeom>
          <a:ln w="0">
            <a:noFill/>
          </a:ln>
        </p:spPr>
      </p:pic>
      <p:sp>
        <p:nvSpPr>
          <p:cNvPr id="46" name="Rectangle 2"/>
          <p:cNvSpPr/>
          <p:nvPr/>
        </p:nvSpPr>
        <p:spPr>
          <a:xfrm>
            <a:off x="-3168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7" name="Group 11"/>
          <p:cNvGrpSpPr/>
          <p:nvPr/>
        </p:nvGrpSpPr>
        <p:grpSpPr>
          <a:xfrm>
            <a:off x="0" y="5683320"/>
            <a:ext cx="9144000" cy="795240"/>
            <a:chOff x="0" y="5683320"/>
            <a:chExt cx="9144000" cy="795240"/>
          </a:xfrm>
        </p:grpSpPr>
        <p:sp>
          <p:nvSpPr>
            <p:cNvPr id="48" name="Rectangle 8"/>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9" name="Rectangle 10"/>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0" name="Picture 16" descr="SHIBAlogo_RGB_landscape.png"/>
            <p:cNvPicPr/>
            <p:nvPr/>
          </p:nvPicPr>
          <p:blipFill>
            <a:blip r:embed="rId3"/>
            <a:stretch/>
          </p:blipFill>
          <p:spPr>
            <a:xfrm>
              <a:off x="424080" y="5683320"/>
              <a:ext cx="2417400" cy="795240"/>
            </a:xfrm>
            <a:prstGeom prst="rect">
              <a:avLst/>
            </a:prstGeom>
            <a:ln w="0">
              <a:noFill/>
            </a:ln>
          </p:spPr>
        </p:pic>
      </p:grpSp>
      <p:pic>
        <p:nvPicPr>
          <p:cNvPr id="51" name="Picture 2" descr="Imagen que contiene texto, imágenes prediseñadasDescripción generada automáticamente"/>
          <p:cNvPicPr/>
          <p:nvPr/>
        </p:nvPicPr>
        <p:blipFill>
          <a:blip r:embed="rId4"/>
          <a:stretch/>
        </p:blipFill>
        <p:spPr>
          <a:xfrm>
            <a:off x="7534440" y="3090960"/>
            <a:ext cx="1326960" cy="627120"/>
          </a:xfrm>
          <a:prstGeom prst="rect">
            <a:avLst/>
          </a:prstGeom>
          <a:ln w="0">
            <a:noFill/>
          </a:ln>
        </p:spPr>
      </p:pic>
      <p:sp>
        <p:nvSpPr>
          <p:cNvPr id="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4" name="PlaceHolder 3"/>
          <p:cNvSpPr>
            <a:spLocks noGrp="1"/>
          </p:cNvSpPr>
          <p:nvPr>
            <p:ph type="dt" idx="4"/>
          </p:nvPr>
        </p:nvSpPr>
        <p:spPr>
          <a:xfrm>
            <a:off x="3562200" y="55652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EEB76-7985-4436-8517-7A63790E1365}"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0"/>
          <p:cNvGrpSpPr/>
          <p:nvPr/>
        </p:nvGrpSpPr>
        <p:grpSpPr>
          <a:xfrm>
            <a:off x="0" y="0"/>
            <a:ext cx="9144000" cy="5340240"/>
            <a:chOff x="0" y="0"/>
            <a:chExt cx="9144000" cy="5340240"/>
          </a:xfrm>
        </p:grpSpPr>
        <p:sp>
          <p:nvSpPr>
            <p:cNvPr id="92"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4" name="Group 14"/>
          <p:cNvGrpSpPr/>
          <p:nvPr/>
        </p:nvGrpSpPr>
        <p:grpSpPr>
          <a:xfrm>
            <a:off x="0" y="5683320"/>
            <a:ext cx="9144000" cy="795240"/>
            <a:chOff x="0" y="5683320"/>
            <a:chExt cx="9144000" cy="795240"/>
          </a:xfrm>
        </p:grpSpPr>
        <p:sp>
          <p:nvSpPr>
            <p:cNvPr id="95"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6"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7" name="Picture 18" descr="SHIBAlogo_RGB_landscape.png"/>
            <p:cNvPicPr/>
            <p:nvPr/>
          </p:nvPicPr>
          <p:blipFill>
            <a:blip r:embed="rId2"/>
            <a:stretch/>
          </p:blipFill>
          <p:spPr>
            <a:xfrm>
              <a:off x="424080" y="5683320"/>
              <a:ext cx="2417400" cy="795240"/>
            </a:xfrm>
            <a:prstGeom prst="rect">
              <a:avLst/>
            </a:prstGeom>
            <a:ln w="0">
              <a:noFill/>
            </a:ln>
          </p:spPr>
        </p:pic>
      </p:grpSp>
      <p:pic>
        <p:nvPicPr>
          <p:cNvPr id="98" name="Picture 2" descr="Imagen que contiene texto, imágenes prediseñadasDescripción generada automáticamente"/>
          <p:cNvPicPr/>
          <p:nvPr/>
        </p:nvPicPr>
        <p:blipFill>
          <a:blip r:embed="rId3"/>
          <a:stretch/>
        </p:blipFill>
        <p:spPr>
          <a:xfrm>
            <a:off x="2984400" y="5568840"/>
            <a:ext cx="1955880" cy="922320"/>
          </a:xfrm>
          <a:prstGeom prst="rect">
            <a:avLst/>
          </a:prstGeom>
          <a:ln w="0">
            <a:noFill/>
          </a:ln>
        </p:spPr>
      </p:pic>
      <p:sp>
        <p:nvSpPr>
          <p:cNvPr id="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0"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1"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72A36-738C-4DBA-85FF-E2346E8BBDC4}"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5"/>
          <p:cNvGrpSpPr/>
          <p:nvPr/>
        </p:nvGrpSpPr>
        <p:grpSpPr>
          <a:xfrm>
            <a:off x="0" y="6108840"/>
            <a:ext cx="9144000" cy="639720"/>
            <a:chOff x="0" y="6108840"/>
            <a:chExt cx="9144000" cy="639720"/>
          </a:xfrm>
        </p:grpSpPr>
        <p:sp>
          <p:nvSpPr>
            <p:cNvPr id="139"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0"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1"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2" name="Group 10"/>
          <p:cNvGrpSpPr/>
          <p:nvPr/>
        </p:nvGrpSpPr>
        <p:grpSpPr>
          <a:xfrm>
            <a:off x="0" y="0"/>
            <a:ext cx="9144000" cy="3846600"/>
            <a:chOff x="0" y="0"/>
            <a:chExt cx="9144000" cy="3846600"/>
          </a:xfrm>
        </p:grpSpPr>
        <p:sp>
          <p:nvSpPr>
            <p:cNvPr id="143"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4"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pic>
        <p:nvPicPr>
          <p:cNvPr id="145" name="Picture 8" descr="Logo, company name&#10;&#10;AI-generated content may be incorrect."/>
          <p:cNvPicPr/>
          <p:nvPr/>
        </p:nvPicPr>
        <p:blipFill>
          <a:blip r:embed="rId3"/>
          <a:stretch/>
        </p:blipFill>
        <p:spPr>
          <a:xfrm>
            <a:off x="998640" y="6076800"/>
            <a:ext cx="672840" cy="695520"/>
          </a:xfrm>
          <a:prstGeom prst="rect">
            <a:avLst/>
          </a:prstGeom>
          <a:ln w="0">
            <a:noFill/>
          </a:ln>
        </p:spPr>
      </p:pic>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13B36-8E63-472B-A109-6939B354F70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7712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05C3F-30C3-4A41-A948-DF39636FA45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192" name="Picture 2" descr="Logo, company name&#10;&#10;AI-generated content may be incorrect."/>
          <p:cNvPicPr/>
          <p:nvPr/>
        </p:nvPicPr>
        <p:blipFill>
          <a:blip r:embed="rId3"/>
          <a:stretch/>
        </p:blipFill>
        <p:spPr>
          <a:xfrm>
            <a:off x="1004760" y="6095880"/>
            <a:ext cx="639720" cy="660600"/>
          </a:xfrm>
          <a:prstGeom prst="rect">
            <a:avLst/>
          </a:prstGeom>
          <a:ln w="0">
            <a:noFill/>
          </a:ln>
        </p:spPr>
      </p:pic>
      <p:sp>
        <p:nvSpPr>
          <p:cNvPr id="1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4"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5"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A6C72-CB8E-4212-B6A5-8E17AD43332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6" name="PlaceHolder 4"/>
          <p:cNvSpPr>
            <a:spLocks noGrp="1"/>
          </p:cNvSpPr>
          <p:nvPr>
            <p:ph type="ftr" idx="10"/>
          </p:nvPr>
        </p:nvSpPr>
        <p:spPr>
          <a:xfrm>
            <a:off x="182844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7"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CA099-0D71-4B21-91D8-41781557A34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15"/>
          <p:cNvGrpSpPr/>
          <p:nvPr/>
        </p:nvGrpSpPr>
        <p:grpSpPr>
          <a:xfrm>
            <a:off x="0" y="6108840"/>
            <a:ext cx="9144000" cy="639720"/>
            <a:chOff x="0" y="6108840"/>
            <a:chExt cx="9144000" cy="639720"/>
          </a:xfrm>
        </p:grpSpPr>
        <p:sp>
          <p:nvSpPr>
            <p:cNvPr id="235"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6"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7" name="Picture 13" descr="SHIBAlogo_RGB_abridged.png"/>
            <p:cNvPicPr/>
            <p:nvPr/>
          </p:nvPicPr>
          <p:blipFill>
            <a:blip r:embed="rId2"/>
            <a:stretch/>
          </p:blipFill>
          <p:spPr>
            <a:xfrm>
              <a:off x="343080" y="6108840"/>
              <a:ext cx="571680" cy="639720"/>
            </a:xfrm>
            <a:prstGeom prst="rect">
              <a:avLst/>
            </a:prstGeom>
            <a:ln w="0">
              <a:noFill/>
            </a:ln>
          </p:spPr>
        </p:pic>
      </p:grpSp>
      <p:sp>
        <p:nvSpPr>
          <p:cNvPr id="238"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239"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2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4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2"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9641F-2825-4513-8AA4-5DB544AB8AE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3" name="PlaceHolder 4"/>
          <p:cNvSpPr>
            <a:spLocks noGrp="1"/>
          </p:cNvSpPr>
          <p:nvPr>
            <p:ph type="ftr" idx="13"/>
          </p:nvPr>
        </p:nvSpPr>
        <p:spPr>
          <a:xfrm>
            <a:off x="1846440" y="6341760"/>
            <a:ext cx="3622320" cy="19980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4"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FC46B-6433-4112-AE7D-15D6BB50580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15"/>
          <p:cNvGrpSpPr/>
          <p:nvPr/>
        </p:nvGrpSpPr>
        <p:grpSpPr>
          <a:xfrm>
            <a:off x="0" y="6108840"/>
            <a:ext cx="9144000" cy="639720"/>
            <a:chOff x="0" y="6108840"/>
            <a:chExt cx="9144000" cy="639720"/>
          </a:xfrm>
        </p:grpSpPr>
        <p:sp>
          <p:nvSpPr>
            <p:cNvPr id="28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4" name="Picture 13" descr="SHIBAlogo_RGB_abridged.png"/>
            <p:cNvPicPr/>
            <p:nvPr/>
          </p:nvPicPr>
          <p:blipFill>
            <a:blip r:embed="rId2"/>
            <a:stretch/>
          </p:blipFill>
          <p:spPr>
            <a:xfrm>
              <a:off x="343080" y="6108840"/>
              <a:ext cx="571680" cy="639720"/>
            </a:xfrm>
            <a:prstGeom prst="rect">
              <a:avLst/>
            </a:prstGeom>
            <a:ln w="0">
              <a:noFill/>
            </a:ln>
          </p:spPr>
        </p:pic>
      </p:grpSp>
      <p:sp>
        <p:nvSpPr>
          <p:cNvPr id="28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286"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2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8"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9"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35242-381B-4E07-BD6C-43BA1AA9E9A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90" name="PlaceHolder 4"/>
          <p:cNvSpPr>
            <a:spLocks noGrp="1"/>
          </p:cNvSpPr>
          <p:nvPr>
            <p:ph type="ftr" idx="16"/>
          </p:nvPr>
        </p:nvSpPr>
        <p:spPr>
          <a:xfrm>
            <a:off x="18190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91"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7451A-CC23-4B60-B8CB-C927AB33CFD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15"/>
          <p:cNvGrpSpPr/>
          <p:nvPr/>
        </p:nvGrpSpPr>
        <p:grpSpPr>
          <a:xfrm>
            <a:off x="0" y="6108840"/>
            <a:ext cx="9144000" cy="639720"/>
            <a:chOff x="0" y="6108840"/>
            <a:chExt cx="9144000" cy="639720"/>
          </a:xfrm>
        </p:grpSpPr>
        <p:sp>
          <p:nvSpPr>
            <p:cNvPr id="329"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30"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31" name="Picture 13" descr="SHIBAlogo_RGB_abridged.png"/>
            <p:cNvPicPr/>
            <p:nvPr/>
          </p:nvPicPr>
          <p:blipFill>
            <a:blip r:embed="rId2"/>
            <a:stretch/>
          </p:blipFill>
          <p:spPr>
            <a:xfrm>
              <a:off x="343080" y="6108840"/>
              <a:ext cx="571680" cy="639720"/>
            </a:xfrm>
            <a:prstGeom prst="rect">
              <a:avLst/>
            </a:prstGeom>
            <a:ln w="0">
              <a:noFill/>
            </a:ln>
          </p:spPr>
        </p:pic>
      </p:grpSp>
      <p:sp>
        <p:nvSpPr>
          <p:cNvPr id="332"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333"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3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6"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74292-11A8-43BC-A096-87F21B7764E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7" name="PlaceHolder 4"/>
          <p:cNvSpPr>
            <a:spLocks noGrp="1"/>
          </p:cNvSpPr>
          <p:nvPr>
            <p:ph type="ftr" idx="19"/>
          </p:nvPr>
        </p:nvSpPr>
        <p:spPr>
          <a:xfrm>
            <a:off x="1864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8"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E9E2A-D488-45F3-B956-9A0E4A9A712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15"/>
          <p:cNvGrpSpPr/>
          <p:nvPr/>
        </p:nvGrpSpPr>
        <p:grpSpPr>
          <a:xfrm>
            <a:off x="0" y="6108840"/>
            <a:ext cx="9144000" cy="639720"/>
            <a:chOff x="0" y="6108840"/>
            <a:chExt cx="9144000" cy="639720"/>
          </a:xfrm>
        </p:grpSpPr>
        <p:sp>
          <p:nvSpPr>
            <p:cNvPr id="37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8" name="Picture 13" descr="SHIBAlogo_RGB_abridged.png"/>
            <p:cNvPicPr/>
            <p:nvPr/>
          </p:nvPicPr>
          <p:blipFill>
            <a:blip r:embed="rId2"/>
            <a:stretch/>
          </p:blipFill>
          <p:spPr>
            <a:xfrm>
              <a:off x="343080" y="6108840"/>
              <a:ext cx="571680" cy="639720"/>
            </a:xfrm>
            <a:prstGeom prst="rect">
              <a:avLst/>
            </a:prstGeom>
            <a:ln w="0">
              <a:noFill/>
            </a:ln>
          </p:spPr>
        </p:pic>
      </p:grpSp>
      <p:pic>
        <p:nvPicPr>
          <p:cNvPr id="379"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3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8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82"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37E3E-2A20-42BA-BC30-DCD7E124090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83" name="PlaceHolder 4"/>
          <p:cNvSpPr>
            <a:spLocks noGrp="1"/>
          </p:cNvSpPr>
          <p:nvPr>
            <p:ph type="ftr" idx="22"/>
          </p:nvPr>
        </p:nvSpPr>
        <p:spPr>
          <a:xfrm>
            <a:off x="1837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4"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0E1A6-7201-4892-A708-D23D02FAF48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www.insurance.wa.gov/report-medicare-fraud-shiba" TargetMode="External"/><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www.insurance.wa.gov/report-medicare-fraud-shiba" TargetMode="External"/><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www.insurance.wa.gov/insurance-resources/medicare" TargetMode="External"/><Relationship Id="rId2" Type="http://schemas.openxmlformats.org/officeDocument/2006/relationships/hyperlink" Target="https://www.insurance.wa.gov/report-medicare-fraud-shiba" TargetMode="External"/><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4006800"/>
            <a:ext cx="6572520" cy="1082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3b62"/>
                </a:solidFill>
                <a:latin typeface="Segoe UI"/>
              </a:rPr>
              <a:t>Navigating and protecting your health care benefits</a:t>
            </a:r>
            <a:endParaRPr b="0" lang="en-US" sz="3600" spc="-1" strike="noStrike">
              <a:solidFill>
                <a:srgbClr val="084678"/>
              </a:solidFill>
              <a:latin typeface="Segoe UI"/>
            </a:endParaRPr>
          </a:p>
        </p:txBody>
      </p:sp>
      <p:sp>
        <p:nvSpPr>
          <p:cNvPr id="568" name="Date Placeholder 3"/>
          <p:cNvSpPr/>
          <p:nvPr/>
        </p:nvSpPr>
        <p:spPr>
          <a:xfrm>
            <a:off x="3562200" y="597708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84678"/>
                </a:solidFill>
                <a:latin typeface="Segoe UI"/>
                <a:ea typeface="Segoe UI"/>
              </a:rPr>
              <a:t>June 4, 2024</a:t>
            </a:r>
            <a:endParaRPr b="0" lang="en-US" sz="11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60000" y="328680"/>
            <a:ext cx="87836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in your community</a:t>
            </a:r>
            <a:endParaRPr b="0" lang="en-US" sz="3600" spc="-1" strike="noStrike">
              <a:solidFill>
                <a:srgbClr val="084678"/>
              </a:solidFill>
              <a:latin typeface="Segoe UI"/>
            </a:endParaRPr>
          </a:p>
        </p:txBody>
      </p:sp>
      <p:sp>
        <p:nvSpPr>
          <p:cNvPr id="6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A37BC-1B5C-476B-A66F-03185974039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2D6E3-4B84-47B9-9206-0E76B8AC415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4" name="TextBox 2"/>
          <p:cNvSpPr/>
          <p:nvPr/>
        </p:nvSpPr>
        <p:spPr>
          <a:xfrm>
            <a:off x="360360" y="1031760"/>
            <a:ext cx="792648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In communities throughout Washington state, SHIBA connects with local communities through:</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Happy Birthday! – Welcome to Medicare events for those turning age 65.</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Medicare enrollment clinics and counseling events.</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Community college classes on Medicare.</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Educational events on Medicare fraud prevention and detection.</a:t>
            </a:r>
            <a:endParaRPr b="0" lang="en-US" sz="2600" spc="-1" strike="noStrike">
              <a:solidFill>
                <a:srgbClr val="000000"/>
              </a:solidFill>
              <a:latin typeface="News Gothic MT"/>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News Gothic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on’t take our word for it!</a:t>
            </a:r>
            <a:endParaRPr b="0" lang="en-US" sz="3600" spc="-1" strike="noStrike">
              <a:solidFill>
                <a:srgbClr val="084678"/>
              </a:solidFill>
              <a:latin typeface="Segoe UI"/>
            </a:endParaRPr>
          </a:p>
        </p:txBody>
      </p:sp>
      <p:sp>
        <p:nvSpPr>
          <p:cNvPr id="60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48EEE-560F-4645-A413-1C528D987C3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64418-DE52-45F6-AB10-0EE26203902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08" name="Picture 1" descr=""/>
          <p:cNvPicPr/>
          <p:nvPr/>
        </p:nvPicPr>
        <p:blipFill>
          <a:blip r:embed="rId1"/>
          <a:stretch/>
        </p:blipFill>
        <p:spPr>
          <a:xfrm>
            <a:off x="360360" y="2421000"/>
            <a:ext cx="3079800" cy="2033640"/>
          </a:xfrm>
          <a:prstGeom prst="rect">
            <a:avLst/>
          </a:prstGeom>
          <a:ln w="0">
            <a:noFill/>
          </a:ln>
        </p:spPr>
      </p:pic>
      <p:sp>
        <p:nvSpPr>
          <p:cNvPr id="609" name="TextBox 4"/>
          <p:cNvSpPr/>
          <p:nvPr/>
        </p:nvSpPr>
        <p:spPr>
          <a:xfrm>
            <a:off x="3924360" y="1673280"/>
            <a:ext cx="4692600" cy="404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Excellent service. Had all my questions answered AND they got back to me almost immediately.”</a:t>
            </a:r>
            <a:endParaRPr b="0" lang="en-US" sz="2400" spc="-1" strike="noStrike">
              <a:solidFill>
                <a:srgbClr val="000000"/>
              </a:solidFill>
              <a:latin typeface="News Gothic MT"/>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Really appreciated the expert advice I received!”  </a:t>
            </a:r>
            <a:endParaRPr b="0" lang="en-US" sz="2400" spc="-1" strike="noStrike">
              <a:solidFill>
                <a:srgbClr val="000000"/>
              </a:solidFill>
              <a:latin typeface="News Gothic MT"/>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Roses and rah rahs to SHIBA.  What a relief to have someone actually in my corner.”  </a:t>
            </a:r>
            <a:r>
              <a:rPr b="0" lang="en-US" sz="2400" spc="-1" strike="noStrike">
                <a:solidFill>
                  <a:srgbClr val="000000"/>
                </a:solidFill>
                <a:latin typeface="Segoe UI"/>
                <a:ea typeface="Segoe UI"/>
              </a:rPr>
              <a:t> </a:t>
            </a:r>
            <a:endParaRPr b="0" lang="en-US" sz="2400" spc="-1" strike="noStrike">
              <a:solidFill>
                <a:srgbClr val="000000"/>
              </a:solidFill>
              <a:latin typeface="News Gothic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 training &amp; certification</a:t>
            </a:r>
            <a:endParaRPr b="0" lang="en-US" sz="3600" spc="-1" strike="noStrike">
              <a:solidFill>
                <a:srgbClr val="084678"/>
              </a:solidFill>
              <a:latin typeface="Segoe UI"/>
            </a:endParaRPr>
          </a:p>
        </p:txBody>
      </p:sp>
      <p:sp>
        <p:nvSpPr>
          <p:cNvPr id="6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65736-C5B5-4DDD-A352-19CE55BCA9F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77302-4CF0-4A9B-8F8E-166254E0553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3" name=""/>
          <p:cNvSpPr txBox="1"/>
          <p:nvPr/>
        </p:nvSpPr>
        <p:spPr>
          <a:xfrm>
            <a:off x="576000" y="1316160"/>
            <a:ext cx="7988040" cy="4511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Volunteers attend approx. 34 hours of initial and on-going Medicare and counselor training year round</a:t>
            </a:r>
            <a:endParaRPr b="0" lang="en-US" sz="24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They have access to:</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Professional staff support</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Volunteer-only materials and resources</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Publications</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Outreach materials and resources</a:t>
            </a:r>
            <a:endParaRPr b="0" lang="en-US" sz="2400" spc="-1" strike="noStrike">
              <a:solidFill>
                <a:srgbClr val="000000"/>
              </a:solidFill>
              <a:latin typeface="Segoe UI"/>
            </a:endParaRPr>
          </a:p>
          <a:p>
            <a:pPr lvl="1" marL="685800" indent="-34272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Volunteers must complete an online certification exam prior to working with consumers</a:t>
            </a:r>
            <a:endParaRPr b="0" lang="en-US" sz="2400" spc="-1" strike="noStrike">
              <a:solidFill>
                <a:srgbClr val="000000"/>
              </a:solidFill>
              <a:latin typeface="Segoe U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7360" y="4032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s counsel on…</a:t>
            </a:r>
            <a:endParaRPr b="0" lang="en-US" sz="3600" spc="-1" strike="noStrike">
              <a:solidFill>
                <a:srgbClr val="084678"/>
              </a:solidFill>
              <a:latin typeface="Segoe UI"/>
            </a:endParaRPr>
          </a:p>
        </p:txBody>
      </p:sp>
      <p:sp>
        <p:nvSpPr>
          <p:cNvPr id="6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03DF8-DF50-4FC6-B755-4677D5DFE01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31626-7E2F-4AF8-AE96-B35F7E2243D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7" name=""/>
          <p:cNvSpPr txBox="1"/>
          <p:nvPr/>
        </p:nvSpPr>
        <p:spPr>
          <a:xfrm>
            <a:off x="387360" y="1441080"/>
            <a:ext cx="8244000" cy="1459080"/>
          </a:xfrm>
          <a:prstGeom prst="rect">
            <a:avLst/>
          </a:prstGeom>
          <a:noFill/>
          <a:ln w="0">
            <a:noFill/>
          </a:ln>
        </p:spPr>
        <p:txBody>
          <a:bodyPr lIns="0" rIns="0" tIns="0" bIns="0" anchor="t">
            <a:normAutofit fontScale="41000"/>
          </a:bodyPr>
          <a:p>
            <a:pPr marL="187200" indent="-18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Open Enrollment (Part D &amp; Medicare Advantag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Supplement (Medigap) plans</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ow Medicare works with other programs</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ow to get help paying for Medicar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ocial Security’s role in Medicar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Options for people under age 65</a:t>
            </a:r>
            <a:endParaRPr b="0" lang="en-US" sz="2400" spc="-1" strike="noStrike">
              <a:solidFill>
                <a:srgbClr val="000000"/>
              </a:solidFill>
              <a:latin typeface="Segoe U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40920" y="1452600"/>
            <a:ext cx="846468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a:t>
            </a:r>
            <a:endParaRPr b="0" lang="en-US" sz="3600" spc="-1" strike="noStrike">
              <a:solidFill>
                <a:srgbClr val="084678"/>
              </a:solidFill>
              <a:latin typeface="Segoe UI"/>
            </a:endParaRPr>
          </a:p>
        </p:txBody>
      </p:sp>
      <p:sp>
        <p:nvSpPr>
          <p:cNvPr id="619" name="PlaceHolder 2"/>
          <p:cNvSpPr>
            <a:spLocks noGrp="1"/>
          </p:cNvSpPr>
          <p:nvPr>
            <p:ph/>
          </p:nvPr>
        </p:nvSpPr>
        <p:spPr>
          <a:xfrm>
            <a:off x="339480" y="4316040"/>
            <a:ext cx="8466120" cy="1414440"/>
          </a:xfrm>
          <a:prstGeom prst="rect">
            <a:avLst/>
          </a:prstGeom>
          <a:noFill/>
          <a:ln w="0">
            <a:noFill/>
          </a:ln>
        </p:spPr>
        <p:txBody>
          <a:bodyPr lIns="0" r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84678"/>
                </a:solidFill>
                <a:latin typeface="Segoe UI"/>
              </a:rPr>
              <a:t>The SMP program plays a crucial role in safeguarding the integrity of the Medicare program and protecting beneficiaries from financial harm caused by fraudulent activities. </a:t>
            </a:r>
            <a:endParaRPr b="0" lang="en-US" sz="2400" spc="-1" strike="noStrike">
              <a:solidFill>
                <a:srgbClr val="000000"/>
              </a:solidFill>
              <a:latin typeface="Segoe UI"/>
            </a:endParaRPr>
          </a:p>
        </p:txBody>
      </p:sp>
      <p:sp>
        <p:nvSpPr>
          <p:cNvPr id="6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4ACEF-B856-4258-B22D-24D38A09D2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1" name="Footer Placeholder 4"/>
          <p:cNvSpPr/>
          <p:nvPr/>
        </p:nvSpPr>
        <p:spPr>
          <a:xfrm>
            <a:off x="177156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News Gothic MT"/>
            </a:endParaRPr>
          </a:p>
        </p:txBody>
      </p:sp>
      <p:sp>
        <p:nvSpPr>
          <p:cNvPr id="6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25722-B454-4E35-8549-1F8A2F8E1B8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11040" y="347760"/>
            <a:ext cx="88329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 mission</a:t>
            </a:r>
            <a:endParaRPr b="0" lang="en-US" sz="3600" spc="-1" strike="noStrike">
              <a:solidFill>
                <a:srgbClr val="084678"/>
              </a:solidFill>
              <a:latin typeface="Segoe UI"/>
            </a:endParaRPr>
          </a:p>
        </p:txBody>
      </p:sp>
      <p:sp>
        <p:nvSpPr>
          <p:cNvPr id="62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04380-DDF9-45D7-8B1B-C38EFA4381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18649-0942-4DB3-A769-A4A329BED68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6" name="Content Placeholder 3"/>
          <p:cNvSpPr/>
          <p:nvPr/>
        </p:nvSpPr>
        <p:spPr>
          <a:xfrm>
            <a:off x="668160" y="1886040"/>
            <a:ext cx="7807680" cy="22017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The SMP mission is to empower and assist Medicare beneficiaries, their families, and caregivers to prevent, detect, and report health care fraud, errors, and abuse through outreach, counseling, and education. </a:t>
            </a:r>
            <a:endParaRPr b="0" lang="en-US" sz="28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MP program overview</a:t>
            </a:r>
            <a:endParaRPr b="0" lang="en-US" sz="36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6F75F-E596-45BF-8D5E-C96A9D5FB3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16C7B-273E-4EB3-A621-390106F6543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0" name="Content Placeholder 3"/>
          <p:cNvSpPr/>
          <p:nvPr/>
        </p:nvSpPr>
        <p:spPr>
          <a:xfrm>
            <a:off x="1216080" y="1560600"/>
            <a:ext cx="6711840" cy="2973240"/>
          </a:xfrm>
          <a:prstGeom prst="rect">
            <a:avLst/>
          </a:prstGeom>
          <a:noFill/>
          <a:ln w="0">
            <a:noFill/>
          </a:ln>
        </p:spPr>
        <p:style>
          <a:lnRef idx="0"/>
          <a:fillRef idx="0"/>
          <a:effectRef idx="0"/>
          <a:fontRef idx="minor"/>
        </p:style>
        <p:txBody>
          <a:bodyPr lIns="90000" rIns="90000" tIns="46800" bIns="46800"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Medicare loses </a:t>
            </a:r>
            <a:r>
              <a:rPr b="1" i="1" lang="en-US" sz="2800" spc="-1" strike="noStrike">
                <a:solidFill>
                  <a:srgbClr val="000000"/>
                </a:solidFill>
                <a:latin typeface="Segoe UI"/>
                <a:ea typeface="Open Sans"/>
              </a:rPr>
              <a:t>billions</a:t>
            </a:r>
            <a:r>
              <a:rPr b="0" lang="en-US" sz="2800" spc="-1" strike="noStrike">
                <a:solidFill>
                  <a:srgbClr val="000000"/>
                </a:solidFill>
                <a:latin typeface="Segoe UI"/>
                <a:ea typeface="Open Sans"/>
              </a:rPr>
              <a:t> of dollars each year due to fraud, errors, and abuse.</a:t>
            </a: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SMP’s unique role is to work at the grassroots level with the people directly affected by Medicare fraud, errors, and abuse</a:t>
            </a: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88440" y="343080"/>
            <a:ext cx="87836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does SMP do?</a:t>
            </a:r>
            <a:endParaRPr b="0" lang="en-US" sz="3600" spc="-1" strike="noStrike">
              <a:solidFill>
                <a:srgbClr val="084678"/>
              </a:solidFill>
              <a:latin typeface="Segoe UI"/>
            </a:endParaRPr>
          </a:p>
        </p:txBody>
      </p:sp>
      <p:sp>
        <p:nvSpPr>
          <p:cNvPr id="6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E0999-7BCD-49EA-BA2D-E2D24D9FD43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97581-4F2C-4E9F-A48E-F70D05A4675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4" name="Content Placeholder 2"/>
          <p:cNvSpPr/>
          <p:nvPr/>
        </p:nvSpPr>
        <p:spPr>
          <a:xfrm>
            <a:off x="1023840" y="1657440"/>
            <a:ext cx="2944800" cy="3543120"/>
          </a:xfrm>
          <a:prstGeom prst="rect">
            <a:avLst/>
          </a:prstGeom>
          <a:noFill/>
          <a:ln w="0">
            <a:noFill/>
          </a:ln>
        </p:spPr>
        <p:style>
          <a:lnRef idx="0"/>
          <a:fillRef idx="0"/>
          <a:effectRef idx="0"/>
          <a:fontRef idx="minor"/>
        </p:style>
        <p:txBody>
          <a:bodyPr lIns="0" rIns="0" tIns="0" bIns="0" anchor="t">
            <a:normAutofit/>
          </a:bodyPr>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Prevent</a:t>
            </a: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Detect </a:t>
            </a: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Report  </a:t>
            </a:r>
            <a:endParaRPr b="0" lang="en-US" sz="3600" spc="-1" strike="noStrike">
              <a:solidFill>
                <a:srgbClr val="000000"/>
              </a:solidFill>
              <a:latin typeface="News Gothic MT"/>
            </a:endParaRPr>
          </a:p>
        </p:txBody>
      </p:sp>
      <p:pic>
        <p:nvPicPr>
          <p:cNvPr id="635" name="Picture 2" descr=""/>
          <p:cNvPicPr/>
          <p:nvPr/>
        </p:nvPicPr>
        <p:blipFill>
          <a:blip r:embed="rId1"/>
          <a:stretch/>
        </p:blipFill>
        <p:spPr>
          <a:xfrm>
            <a:off x="4167360" y="2093760"/>
            <a:ext cx="3998880" cy="267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a:t>
            </a:r>
            <a:endParaRPr b="0" lang="en-US" sz="3600" spc="-1" strike="noStrike">
              <a:solidFill>
                <a:srgbClr val="084678"/>
              </a:solidFill>
              <a:latin typeface="Segoe UI"/>
            </a:endParaRPr>
          </a:p>
        </p:txBody>
      </p:sp>
      <p:sp>
        <p:nvSpPr>
          <p:cNvPr id="6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A7F12-B276-4473-B658-2A14522E184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26491-7477-477F-BFFF-5E603B88CB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9" name="TextBox 2"/>
          <p:cNvSpPr/>
          <p:nvPr/>
        </p:nvSpPr>
        <p:spPr>
          <a:xfrm>
            <a:off x="609480" y="1444680"/>
            <a:ext cx="8196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SMPs educate beneficiaries to </a:t>
            </a:r>
            <a:r>
              <a:rPr b="1" i="1" lang="en-US" sz="2400" spc="-1" strike="noStrike">
                <a:solidFill>
                  <a:srgbClr val="000000"/>
                </a:solidFill>
                <a:latin typeface="Segoe UI"/>
                <a:ea typeface="Segoe UI"/>
              </a:rPr>
              <a:t>prevent</a:t>
            </a:r>
            <a:r>
              <a:rPr b="0" lang="en-US" sz="2400" spc="-1" strike="noStrike">
                <a:solidFill>
                  <a:srgbClr val="000000"/>
                </a:solidFill>
                <a:latin typeface="Segoe UI"/>
                <a:ea typeface="Segoe UI"/>
              </a:rPr>
              <a:t> Medicare and healthcare fraud by:</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Treating Medicare ID numbers like credit card numbers.</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Never give out personal or medical identification to anyone you don’t know or who contacted you without your permission.</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Remember Medicare won’t call you, so don’t give information to someone claiming to be from Medicare.</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999A8-1431-4B24-9475-650894936B5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42961-B33D-4F98-8B1B-5D9E63F8823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2" name="Rectangle 4"/>
          <p:cNvSpPr/>
          <p:nvPr/>
        </p:nvSpPr>
        <p:spPr>
          <a:xfrm>
            <a:off x="220680" y="706320"/>
            <a:ext cx="862164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3" name="PlaceHolder 1"/>
          <p:cNvSpPr>
            <a:spLocks noGrp="1"/>
          </p:cNvSpPr>
          <p:nvPr>
            <p:ph type="title"/>
          </p:nvPr>
        </p:nvSpPr>
        <p:spPr>
          <a:xfrm>
            <a:off x="323640" y="231480"/>
            <a:ext cx="8621640" cy="9507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etect!</a:t>
            </a:r>
            <a:endParaRPr b="0" lang="en-US" sz="3600" spc="-1" strike="noStrike">
              <a:solidFill>
                <a:srgbClr val="084678"/>
              </a:solidFill>
              <a:latin typeface="Segoe UI"/>
            </a:endParaRPr>
          </a:p>
        </p:txBody>
      </p:sp>
      <p:sp>
        <p:nvSpPr>
          <p:cNvPr id="644" name="Straight Connector 6"/>
          <p:cNvSpPr/>
          <p:nvPr/>
        </p:nvSpPr>
        <p:spPr>
          <a:xfrm>
            <a:off x="324000" y="915840"/>
            <a:ext cx="827856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645" name="TextBox 7"/>
          <p:cNvSpPr/>
          <p:nvPr/>
        </p:nvSpPr>
        <p:spPr>
          <a:xfrm>
            <a:off x="324000" y="1444680"/>
            <a:ext cx="8148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Most people will experience fraud at some time. SMP helps beneficiaries learn to </a:t>
            </a:r>
            <a:r>
              <a:rPr b="1" i="1" lang="en-US" sz="2400" spc="-1" strike="noStrike">
                <a:solidFill>
                  <a:srgbClr val="000000"/>
                </a:solidFill>
                <a:latin typeface="Segoe UI"/>
                <a:ea typeface="Segoe UI"/>
              </a:rPr>
              <a:t>detect</a:t>
            </a:r>
            <a:r>
              <a:rPr b="0" lang="en-US" sz="2400" spc="-1" strike="noStrike">
                <a:solidFill>
                  <a:srgbClr val="000000"/>
                </a:solidFill>
                <a:latin typeface="Segoe UI"/>
                <a:ea typeface="Segoe UI"/>
              </a:rPr>
              <a:t> fraud by teaching them to:</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Review Medicare and insurance statements frequently and carefully.</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Understand how to read billing statements to see if services and supplies claimed were received.</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reate an online Medicare account to make tracking of services and supplies and payments easier.</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0360" y="27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Statewide Health Insurance Benefits Advisors &amp; Senior Medicare Patrol </a:t>
            </a:r>
            <a:endParaRPr b="0" lang="en-US" sz="3200" spc="-1" strike="noStrike">
              <a:solidFill>
                <a:srgbClr val="084678"/>
              </a:solidFill>
              <a:latin typeface="Segoe UI"/>
            </a:endParaRPr>
          </a:p>
        </p:txBody>
      </p:sp>
      <p:sp>
        <p:nvSpPr>
          <p:cNvPr id="570" name=""/>
          <p:cNvSpPr txBox="1"/>
          <p:nvPr/>
        </p:nvSpPr>
        <p:spPr>
          <a:xfrm>
            <a:off x="546120" y="1446120"/>
            <a:ext cx="8074080" cy="442296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rought to you by</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wide Health Insurance Benefits Advisors (SHIBA)</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 Medicare Patrol (SMP)</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mpowering communities through education &amp; advocacy</a:t>
            </a:r>
            <a:endParaRPr b="0" lang="en-US" sz="2800" spc="-1" strike="noStrike">
              <a:solidFill>
                <a:srgbClr val="000000"/>
              </a:solidFill>
              <a:latin typeface="Segoe UI"/>
            </a:endParaRPr>
          </a:p>
        </p:txBody>
      </p:sp>
      <p:sp>
        <p:nvSpPr>
          <p:cNvPr id="5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60D0A-3618-45B7-B0FB-0A0DA7B67EE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B1535-C0BC-4950-8FC5-2B9C273F665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F3CA0-6E60-4D5F-BD9D-BF0A4B8A5F1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B4449-274B-4DA3-8BFE-3E0340A0CCF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8" name=""/>
          <p:cNvSpPr txBox="1"/>
          <p:nvPr/>
        </p:nvSpPr>
        <p:spPr>
          <a:xfrm>
            <a:off x="539280" y="1288800"/>
            <a:ext cx="8255160" cy="4583160"/>
          </a:xfrm>
          <a:prstGeom prst="rect">
            <a:avLst/>
          </a:prstGeom>
          <a:noFill/>
          <a:ln w="0">
            <a:noFill/>
          </a:ln>
        </p:spPr>
        <p:txBody>
          <a:bodyPr lIns="0" rIns="0" tIns="0" bIns="0"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MP does more than educate. SMP helps consumers to:</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 the healthcare provider. Is it a billing mistake that can be corrected?</a:t>
            </a: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 Medicare or insurance carrier to let them know about mistaken or false claims.</a:t>
            </a: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ontact the SMP if a claim, supply, or service is suspicious.</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MP will report fraud to the appropriate authorities.</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
        <p:nvSpPr>
          <p:cNvPr id="649" name="PlaceHolder 1"/>
          <p:cNvSpPr>
            <a:spLocks noGrp="1"/>
          </p:cNvSpPr>
          <p:nvPr>
            <p:ph type="title"/>
          </p:nvPr>
        </p:nvSpPr>
        <p:spPr>
          <a:xfrm>
            <a:off x="425520" y="258840"/>
            <a:ext cx="8445600" cy="706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port!</a:t>
            </a:r>
            <a:endParaRPr b="0" lang="en-US" sz="3600" spc="-1" strike="noStrike">
              <a:solidFill>
                <a:srgbClr val="084678"/>
              </a:solidFill>
              <a:latin typeface="Segoe U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MP does not</a:t>
            </a:r>
            <a:endParaRPr b="0" lang="en-US" sz="3600" spc="-1" strike="noStrike">
              <a:solidFill>
                <a:srgbClr val="084678"/>
              </a:solidFill>
              <a:latin typeface="Segoe UI"/>
            </a:endParaRPr>
          </a:p>
        </p:txBody>
      </p:sp>
      <p:sp>
        <p:nvSpPr>
          <p:cNvPr id="6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70D7F-A622-4D39-87E9-EFAFB173946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7227B-F393-4FD2-9360-7B9FEF2732B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3" name=""/>
          <p:cNvSpPr txBox="1"/>
          <p:nvPr/>
        </p:nvSpPr>
        <p:spPr>
          <a:xfrm>
            <a:off x="365040" y="1310760"/>
            <a:ext cx="8445600" cy="36370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 formal investigations – cases are referred to federal, state and local authorities.</a:t>
            </a:r>
            <a:endParaRPr b="0" lang="en-US" sz="2800" spc="-1" strike="noStrike">
              <a:solidFill>
                <a:srgbClr val="000000"/>
              </a:solidFill>
              <a:latin typeface="Segoe UI"/>
            </a:endParaRPr>
          </a:p>
          <a:p>
            <a:pPr marL="343080" indent="-343080">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gulate or hold authority over providers, insurance carriers, or other healthcare entities. </a:t>
            </a:r>
            <a:endParaRPr b="0" lang="en-US" sz="2800" spc="-1" strike="noStrike">
              <a:solidFill>
                <a:srgbClr val="000000"/>
              </a:solidFill>
              <a:latin typeface="Segoe UI"/>
            </a:endParaRPr>
          </a:p>
          <a:p>
            <a:pPr marL="343080" indent="-343080">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nage quality of care or provider malpractice concerns – this would be referred to the appropriate agency.</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2D54E-3992-44ED-8A9A-3528F22BB3B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784D9-7FAC-4C71-98BC-0EFB34C8EC7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Is it fraud?</a:t>
            </a:r>
            <a:endParaRPr b="0" lang="en-US" sz="3600" spc="-1" strike="noStrike">
              <a:solidFill>
                <a:srgbClr val="084678"/>
              </a:solidFill>
              <a:latin typeface="Segoe UI"/>
            </a:endParaRPr>
          </a:p>
        </p:txBody>
      </p:sp>
      <p:sp>
        <p:nvSpPr>
          <p:cNvPr id="657" name="Text Placeholder 3"/>
          <p:cNvSpPr/>
          <p:nvPr/>
        </p:nvSpPr>
        <p:spPr>
          <a:xfrm>
            <a:off x="530280" y="1290600"/>
            <a:ext cx="7986600" cy="464364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Errors</a:t>
            </a:r>
            <a:r>
              <a:rPr b="0" lang="en-US" sz="2600" spc="-1" strike="noStrike">
                <a:solidFill>
                  <a:srgbClr val="000000"/>
                </a:solidFill>
                <a:latin typeface="Segoe UI"/>
                <a:ea typeface="Open Sans"/>
              </a:rPr>
              <a:t> involve mistakes made by providers that could impact billing and payment.</a:t>
            </a: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Abuse</a:t>
            </a:r>
            <a:r>
              <a:rPr b="0" lang="en-US" sz="2600" spc="-1" strike="noStrike">
                <a:solidFill>
                  <a:srgbClr val="000000"/>
                </a:solidFill>
                <a:latin typeface="Segoe UI"/>
                <a:ea typeface="Open Sans"/>
              </a:rPr>
              <a:t> happens when errors become entrenched in a system that leads to unnecessary costs.</a:t>
            </a: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Fraud</a:t>
            </a:r>
            <a:r>
              <a:rPr b="0" lang="en-US" sz="2600" spc="-1" strike="noStrike">
                <a:solidFill>
                  <a:srgbClr val="000000"/>
                </a:solidFill>
                <a:latin typeface="Segoe UI"/>
                <a:ea typeface="Open Sans"/>
              </a:rPr>
              <a:t> assumes “criminal intent”. It is when a provider, supplier or other entity knowingly and willfully enact a scheme to defraud Medicare and others out of money or information for personal gain. </a:t>
            </a:r>
            <a:r>
              <a:rPr b="0" lang="en-US" sz="2200" spc="-1" strike="noStrike">
                <a:solidFill>
                  <a:srgbClr val="000000"/>
                </a:solidFill>
                <a:latin typeface="Segoe UI"/>
                <a:ea typeface="Open Sans"/>
              </a:rPr>
              <a:t>	</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ase examples</a:t>
            </a:r>
            <a:endParaRPr b="0" lang="en-US" sz="3600" spc="-1" strike="noStrike">
              <a:solidFill>
                <a:srgbClr val="084678"/>
              </a:solidFill>
              <a:latin typeface="Segoe UI"/>
            </a:endParaRPr>
          </a:p>
        </p:txBody>
      </p:sp>
      <p:sp>
        <p:nvSpPr>
          <p:cNvPr id="6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7B296-701E-4C13-BD27-424F85100F2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52C7A-8C64-4833-85D4-BF9978A660B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1" name=""/>
          <p:cNvSpPr txBox="1"/>
          <p:nvPr/>
        </p:nvSpPr>
        <p:spPr>
          <a:xfrm>
            <a:off x="789120" y="2204640"/>
            <a:ext cx="7153200" cy="15447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How do Medicare billing errors, abuse and fraud show up in real lif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60000" y="328680"/>
            <a:ext cx="85424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illing Errors</a:t>
            </a:r>
            <a:endParaRPr b="0" lang="en-US" sz="3600" spc="-1" strike="noStrike">
              <a:solidFill>
                <a:srgbClr val="084678"/>
              </a:solidFill>
              <a:latin typeface="Segoe UI"/>
            </a:endParaRPr>
          </a:p>
        </p:txBody>
      </p:sp>
      <p:sp>
        <p:nvSpPr>
          <p:cNvPr id="6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CF458-6898-4FB0-88AC-190F40CD142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EEBA5-9E6C-42A0-9042-97059359C8E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65" name="Picture 7" descr=""/>
          <p:cNvPicPr/>
          <p:nvPr/>
        </p:nvPicPr>
        <p:blipFill>
          <a:blip r:embed="rId1"/>
          <a:stretch/>
        </p:blipFill>
        <p:spPr>
          <a:xfrm>
            <a:off x="5821200" y="2610000"/>
            <a:ext cx="2779920" cy="2120760"/>
          </a:xfrm>
          <a:prstGeom prst="rect">
            <a:avLst/>
          </a:prstGeom>
          <a:ln w="0">
            <a:noFill/>
          </a:ln>
        </p:spPr>
      </p:pic>
      <p:sp>
        <p:nvSpPr>
          <p:cNvPr id="666" name="Content Placeholder 4"/>
          <p:cNvSpPr/>
          <p:nvPr/>
        </p:nvSpPr>
        <p:spPr>
          <a:xfrm>
            <a:off x="544680" y="1352520"/>
            <a:ext cx="4948200" cy="4605480"/>
          </a:xfrm>
          <a:prstGeom prst="rect">
            <a:avLst/>
          </a:prstGeom>
          <a:noFill/>
          <a:ln w="0">
            <a:noFill/>
          </a:ln>
        </p:spPr>
        <p:style>
          <a:lnRef idx="0"/>
          <a:fillRef idx="0"/>
          <a:effectRef idx="0"/>
          <a:fontRef idx="minor"/>
        </p:style>
        <p:txBody>
          <a:bodyPr lIns="90000" rIns="90000" tIns="46800" bIns="46800"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Susan:</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Noticed claims for lab tests.</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Claim stated she would owe $378.21.</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Did not recall any labs on the dates listed on her claims.</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Did not recognize the name of the lab or the provider who ordered it.</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6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44C55-1434-4269-928A-606D0A9FAF4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3BD84-FA6E-4768-AF60-B2B452C4E8D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0" name=""/>
          <p:cNvSpPr txBox="1"/>
          <p:nvPr/>
        </p:nvSpPr>
        <p:spPr>
          <a:xfrm>
            <a:off x="667800" y="1326960"/>
            <a:ext cx="7805880" cy="4405320"/>
          </a:xfrm>
          <a:prstGeom prst="rect">
            <a:avLst/>
          </a:prstGeom>
          <a:noFill/>
          <a:ln w="0">
            <a:noFill/>
          </a:ln>
        </p:spPr>
        <p:txBody>
          <a:bodyPr lIns="0" rIns="0" tIns="0" bIns="0" anchor="t">
            <a:normAutofit fontScale="98000"/>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heck billing and insurance statements often to catch potential mistakes.</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mpare dates of service, services provided, and names of providers against insurance statements.</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an error occurs, contact provider or supplier’s office to request a review and correction.</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Keep track of who you talk to and actions they promise to tak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ogram Abuse</a:t>
            </a:r>
            <a:endParaRPr b="0" lang="en-US" sz="3600" spc="-1" strike="noStrike">
              <a:solidFill>
                <a:srgbClr val="084678"/>
              </a:solidFill>
              <a:latin typeface="Segoe UI"/>
            </a:endParaRPr>
          </a:p>
        </p:txBody>
      </p:sp>
      <p:sp>
        <p:nvSpPr>
          <p:cNvPr id="6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2A723-70AD-4B3B-883C-34142851882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4D004-2FA4-4263-A67E-DBC6B3DF120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4" name=""/>
          <p:cNvSpPr txBox="1"/>
          <p:nvPr/>
        </p:nvSpPr>
        <p:spPr>
          <a:xfrm>
            <a:off x="414000" y="1326960"/>
            <a:ext cx="7805880" cy="44053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Upcoding by psychiatrist:</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ed 15-minute patient sess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outinely billed for 30–60-minute sess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program abuse, could lead to repayment to Medicare</a:t>
            </a:r>
            <a:endParaRPr b="0" lang="en-US" sz="2800" spc="-1" strike="noStrike">
              <a:solidFill>
                <a:srgbClr val="000000"/>
              </a:solidFill>
              <a:latin typeface="Segoe U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0FB1C-4EAF-4024-890F-40A4A6F6700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3A3C8-B4FA-4790-811A-8E2B818DAD8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8" name=""/>
          <p:cNvSpPr txBox="1"/>
          <p:nvPr/>
        </p:nvSpPr>
        <p:spPr>
          <a:xfrm>
            <a:off x="667800" y="1326960"/>
            <a:ext cx="7805880" cy="440532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buse is not always visible to the consumer.</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Review all health care claims for correct dates, times, and service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something looks questionable, contact provider office, SMP, or Medicare for help.</a:t>
            </a:r>
            <a:endParaRPr b="0" lang="en-US" sz="2800" spc="-1" strike="noStrike">
              <a:solidFill>
                <a:srgbClr val="000000"/>
              </a:solidFill>
              <a:latin typeface="Segoe U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cam calls</a:t>
            </a:r>
            <a:endParaRPr b="0" lang="en-US" sz="3600" spc="-1" strike="noStrike">
              <a:solidFill>
                <a:srgbClr val="084678"/>
              </a:solidFill>
              <a:latin typeface="Segoe UI"/>
            </a:endParaRPr>
          </a:p>
        </p:txBody>
      </p:sp>
      <p:sp>
        <p:nvSpPr>
          <p:cNvPr id="6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834BF-6E2B-4A0A-A26F-A9E7E27180A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51EF3-2DC2-45DF-94D8-8A26A767E4E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2" name=""/>
          <p:cNvSpPr txBox="1"/>
          <p:nvPr/>
        </p:nvSpPr>
        <p:spPr>
          <a:xfrm>
            <a:off x="667800" y="1326960"/>
            <a:ext cx="7805880" cy="4405320"/>
          </a:xfrm>
          <a:prstGeom prst="rect">
            <a:avLst/>
          </a:prstGeom>
          <a:noFill/>
          <a:ln w="0">
            <a:noFill/>
          </a:ln>
        </p:spPr>
        <p:txBody>
          <a:bodyPr lIns="0" rIns="0" tIns="0" bIns="0" anchor="t">
            <a:norm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Mary receives scam calls</a:t>
            </a:r>
            <a:endParaRPr b="0" lang="en-US" sz="2800" spc="-1" strike="noStrike">
              <a:solidFill>
                <a:srgbClr val="000000"/>
              </a:solidFill>
              <a:latin typeface="Segoe U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Multiple times a day</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aller claims to be from Medicare</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Needs to verify her informatio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AF0B8-8600-41D0-A1B6-1F0D1F0AC6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2A2BA-7232-40CE-A4EA-9AEC6EBB4D0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6" name=""/>
          <p:cNvSpPr txBox="1"/>
          <p:nvPr/>
        </p:nvSpPr>
        <p:spPr>
          <a:xfrm>
            <a:off x="667800" y="1326960"/>
            <a:ext cx="7805880" cy="4405320"/>
          </a:xfrm>
          <a:prstGeom prst="rect">
            <a:avLst/>
          </a:prstGeom>
          <a:noFill/>
          <a:ln w="0">
            <a:noFill/>
          </a:ln>
        </p:spPr>
        <p:txBody>
          <a:bodyPr lIns="0" rIns="0" tIns="0" bIns="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member, Medicare will </a:t>
            </a:r>
            <a:r>
              <a:rPr b="1" lang="en-US" sz="2800" spc="-1" strike="noStrike">
                <a:solidFill>
                  <a:srgbClr val="000000"/>
                </a:solidFill>
                <a:latin typeface="Segoe UI"/>
              </a:rPr>
              <a:t>not</a:t>
            </a:r>
            <a:r>
              <a:rPr b="0" lang="en-US" sz="2800" spc="-1" strike="noStrike">
                <a:solidFill>
                  <a:srgbClr val="000000"/>
                </a:solidFill>
                <a:latin typeface="Segoe UI"/>
              </a:rPr>
              <a:t> call you!</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t’s okay to let calls go to voicemail.</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someone does get your information, call Medicare at 1-800-633-4227, and</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	</a:t>
            </a:r>
            <a:endParaRPr b="0" lang="en-US" sz="2800" spc="-1" strike="noStrike">
              <a:solidFill>
                <a:srgbClr val="000000"/>
              </a:solidFill>
              <a:latin typeface="Segoe U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port it to SMP at: </a:t>
            </a:r>
            <a:r>
              <a:rPr b="0" lang="en-US" sz="2800" spc="-1" strike="noStrike" u="sng">
                <a:solidFill>
                  <a:srgbClr val="0c42d7"/>
                </a:solidFill>
                <a:uFillTx/>
                <a:latin typeface="Segoe UI"/>
                <a:ea typeface="Aptos"/>
                <a:hlinkClick r:id="rId1"/>
              </a:rPr>
              <a:t>https://www.insurance.wa.gov/report-medicare-fraud-shiba</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 </a:t>
            </a:r>
            <a:r>
              <a:rPr b="1" lang="en-US" sz="3600" spc="-1" strike="noStrike">
                <a:solidFill>
                  <a:srgbClr val="084678"/>
                </a:solidFill>
                <a:latin typeface="Segoe UI"/>
              </a:rPr>
              <a:t>&amp;</a:t>
            </a:r>
            <a:r>
              <a:rPr b="0" lang="en-US" sz="3600" spc="-1" strike="noStrike">
                <a:solidFill>
                  <a:srgbClr val="084678"/>
                </a:solidFill>
                <a:latin typeface="Segoe UI"/>
              </a:rPr>
              <a:t> SHIBA</a:t>
            </a:r>
            <a:endParaRPr b="0" lang="en-US" sz="3600" spc="-1" strike="noStrike">
              <a:solidFill>
                <a:srgbClr val="084678"/>
              </a:solidFill>
              <a:latin typeface="Segoe UI"/>
            </a:endParaRPr>
          </a:p>
        </p:txBody>
      </p:sp>
      <p:sp>
        <p:nvSpPr>
          <p:cNvPr id="574" name=""/>
          <p:cNvSpPr txBox="1"/>
          <p:nvPr/>
        </p:nvSpPr>
        <p:spPr>
          <a:xfrm>
            <a:off x="855720" y="1866960"/>
            <a:ext cx="7432560" cy="37195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and SMP are complimentary programs that serve and support Medicare beneficiaries, their families and caregivers in all Washington state communities, of all ages and backgrounds in navigating Medicare and associated programs and to prevent, detect, and report Medicare fraud, errors, and abuse.</a:t>
            </a:r>
            <a:r>
              <a:rPr b="0" lang="en-US" sz="2800" spc="-1" strike="noStrike">
                <a:solidFill>
                  <a:srgbClr val="000000"/>
                </a:solidFill>
                <a:latin typeface="Segoe UI"/>
                <a:ea typeface="Times New Roman"/>
              </a:rPr>
              <a:t>	</a:t>
            </a:r>
            <a:endParaRPr b="0" lang="en-US" sz="2800" spc="-1" strike="noStrike">
              <a:solidFill>
                <a:srgbClr val="000000"/>
              </a:solidFill>
              <a:latin typeface="Segoe UI"/>
            </a:endParaRPr>
          </a:p>
        </p:txBody>
      </p:sp>
      <p:sp>
        <p:nvSpPr>
          <p:cNvPr id="5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3C2B1-06AE-4312-8812-FA50C7E9733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F6E5E-5DC5-4B48-A000-8C907F61E60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l equipment fraud</a:t>
            </a:r>
            <a:endParaRPr b="0" lang="en-US" sz="3600" spc="-1" strike="noStrike">
              <a:solidFill>
                <a:srgbClr val="084678"/>
              </a:solidFill>
              <a:latin typeface="Segoe UI"/>
            </a:endParaRPr>
          </a:p>
        </p:txBody>
      </p:sp>
      <p:sp>
        <p:nvSpPr>
          <p:cNvPr id="6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C37C4-EB5E-4988-97AD-8E590901E28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E9E2D-5BD7-4AB3-A102-68592CB1B9C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0" name=""/>
          <p:cNvSpPr txBox="1"/>
          <p:nvPr/>
        </p:nvSpPr>
        <p:spPr>
          <a:xfrm>
            <a:off x="667800" y="1326960"/>
            <a:ext cx="7805880" cy="4405320"/>
          </a:xfrm>
          <a:prstGeom prst="rect">
            <a:avLst/>
          </a:prstGeom>
          <a:noFill/>
          <a:ln w="0">
            <a:noFill/>
          </a:ln>
        </p:spPr>
        <p:txBody>
          <a:bodyPr lIns="0" rIns="0" tIns="0" bIns="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ony isn’t diabetic!</a:t>
            </a:r>
            <a:endParaRPr b="0" lang="en-US" sz="2800" spc="-1" strike="noStrike">
              <a:solidFill>
                <a:srgbClr val="000000"/>
              </a:solidFill>
              <a:latin typeface="Segoe U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9 months of claims for monthly glucose monitoring </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Each claim $600 totaling $5,400.00</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Never ordered or received glucose monitoring devise or system</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6D9EE-0658-4AC8-9454-C1645B312DF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57EC7-CCDA-4971-A7A9-140793ED1F6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4" name=""/>
          <p:cNvSpPr txBox="1"/>
          <p:nvPr/>
        </p:nvSpPr>
        <p:spPr>
          <a:xfrm>
            <a:off x="667800" y="1326960"/>
            <a:ext cx="7805880" cy="440532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view all insurance statements frequently and carefully.</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port anything suspicious to Medicare and SMP.</a:t>
            </a:r>
            <a:endParaRPr b="0" lang="en-US" sz="2400" spc="-1" strike="noStrike">
              <a:solidFill>
                <a:srgbClr val="000000"/>
              </a:solidFill>
              <a:latin typeface="Segoe U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c42d7"/>
                </a:solidFill>
                <a:uFillTx/>
                <a:latin typeface="Segoe UI"/>
                <a:hlinkClick r:id="rId1"/>
              </a:rPr>
              <a:t>https://www.insurance.wa.gov/report-medicare-fraud-shiba</a:t>
            </a:r>
            <a:r>
              <a:rPr b="0" lang="en-US" sz="2400" spc="-1" strike="noStrike">
                <a:solidFill>
                  <a:srgbClr val="000000"/>
                </a:solidFill>
                <a:latin typeface="Segoe UI"/>
              </a:rPr>
              <a:t> </a:t>
            </a:r>
            <a:endParaRPr b="0" lang="en-US" sz="2400" spc="-1" strike="noStrike">
              <a:solidFill>
                <a:srgbClr val="000000"/>
              </a:solidFill>
              <a:latin typeface="Segoe U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1-800-633-4227</a:t>
            </a:r>
            <a:endParaRPr b="0" lang="en-US" sz="2400" spc="-1" strike="noStrike">
              <a:solidFill>
                <a:srgbClr val="000000"/>
              </a:solidFill>
              <a:latin typeface="Segoe UI"/>
            </a:endParaRPr>
          </a:p>
          <a:p>
            <a:pPr lvl="1" marL="743040" indent="-285840">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Keep all medical and personal information private.</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Keep copies of medical bills and statements for 12 months</a:t>
            </a:r>
            <a:r>
              <a:rPr b="0" lang="en-US" sz="2200" spc="-1" strike="noStrike">
                <a:solidFill>
                  <a:srgbClr val="000000"/>
                </a:solidFill>
                <a:latin typeface="Segoe UI"/>
              </a:rPr>
              <a:t>.</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Key take aways</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552D4-E371-42D3-9778-2F69FC049EC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46E63-1A8D-470D-8B11-4898C0F631D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8" name=""/>
          <p:cNvSpPr txBox="1"/>
          <p:nvPr/>
        </p:nvSpPr>
        <p:spPr>
          <a:xfrm>
            <a:off x="667800" y="1326960"/>
            <a:ext cx="7805880" cy="440532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Guard your personal information and ID’s.</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on’t answer calls from unknown numbers.</a:t>
            </a:r>
            <a:endParaRPr b="0" lang="en-US" sz="24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Medicare will not call! Hang up if caller says they are from Medicare!</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view statements often and carefully.</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port concerns to Washington SMP.</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reate Medicare account at Medicare.gov.</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nt to join our team?</a:t>
            </a:r>
            <a:endParaRPr b="0" lang="en-US" sz="3600" spc="-1" strike="noStrike">
              <a:solidFill>
                <a:srgbClr val="084678"/>
              </a:solidFill>
              <a:latin typeface="Segoe UI"/>
            </a:endParaRPr>
          </a:p>
        </p:txBody>
      </p:sp>
      <p:sp>
        <p:nvSpPr>
          <p:cNvPr id="7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86EAD-7E86-495D-A7DA-4FE02333817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E24B1-6E73-4F46-A3B5-01E62CA9917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2" name="TextBox 2"/>
          <p:cNvSpPr/>
          <p:nvPr/>
        </p:nvSpPr>
        <p:spPr>
          <a:xfrm>
            <a:off x="1792440" y="1378080"/>
            <a:ext cx="49942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Volunteer opportunities: </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Public speaking</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utreach</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ounseling</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Topic specialties</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dministrative</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Internet/computing</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SHIBA &amp; SMP</a:t>
            </a:r>
            <a:endParaRPr b="0" lang="en-US" sz="3600" spc="-1" strike="noStrike">
              <a:solidFill>
                <a:srgbClr val="084678"/>
              </a:solidFill>
              <a:latin typeface="Segoe UI"/>
            </a:endParaRPr>
          </a:p>
        </p:txBody>
      </p:sp>
      <p:sp>
        <p:nvSpPr>
          <p:cNvPr id="7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E4761-0858-49AA-BA7D-97164723591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3E09F-2352-43C8-8AAE-4C406CE3EB0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6" name="TextBox 2"/>
          <p:cNvSpPr/>
          <p:nvPr/>
        </p:nvSpPr>
        <p:spPr>
          <a:xfrm>
            <a:off x="600120" y="1378080"/>
            <a:ext cx="7872480" cy="31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Learn more about SHIBA: </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c42d7"/>
                </a:solidFill>
                <a:uFillTx/>
                <a:latin typeface="Segoe UI"/>
                <a:ea typeface="Segoe UI"/>
                <a:hlinkClick r:id="rId1"/>
              </a:rPr>
              <a:t>https://www.insurance.wa.gov/insurance-resources/medicare</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 </a:t>
            </a:r>
            <a:r>
              <a:rPr b="0" lang="en-US" sz="2800" spc="-1" strike="noStrike">
                <a:solidFill>
                  <a:srgbClr val="000000"/>
                </a:solidFill>
                <a:latin typeface="Segoe UI"/>
                <a:ea typeface="Segoe UI"/>
              </a:rPr>
              <a:t>To report Medicare fraud in WA state: </a:t>
            </a:r>
            <a:r>
              <a:rPr b="0" lang="en-US" sz="2800" spc="-1" strike="noStrike" u="sng">
                <a:solidFill>
                  <a:srgbClr val="0c42d7"/>
                </a:solidFill>
                <a:uFillTx/>
                <a:latin typeface="Segoe UI"/>
                <a:ea typeface="Segoe UI"/>
                <a:hlinkClick r:id="rId2"/>
              </a:rPr>
              <a:t>https://www.insurance.wa.gov/report-medicare-fraud-shiba</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SHIBA and SMP toll free: 1-800-562-6900</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0360" y="28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Statewide Health Insurance Benefits Advisors (SHIBA) mission</a:t>
            </a:r>
            <a:endParaRPr b="0" lang="en-US" sz="3200" spc="-1" strike="noStrike">
              <a:solidFill>
                <a:srgbClr val="084678"/>
              </a:solidFill>
              <a:latin typeface="Segoe UI"/>
            </a:endParaRPr>
          </a:p>
        </p:txBody>
      </p:sp>
      <p:sp>
        <p:nvSpPr>
          <p:cNvPr id="5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6B20C-8727-482E-AAA9-DD544FECE1F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5D45A-C6E6-42ED-B89C-C31E9F472D4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0" name=""/>
          <p:cNvSpPr txBox="1"/>
          <p:nvPr/>
        </p:nvSpPr>
        <p:spPr>
          <a:xfrm>
            <a:off x="558720" y="1392120"/>
            <a:ext cx="8445600" cy="42372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e cultivate community commitment </a:t>
            </a:r>
            <a:br>
              <a:rPr sz="2800"/>
            </a:br>
            <a:r>
              <a:rPr b="0" lang="en-US" sz="2800" spc="-1" strike="noStrike">
                <a:solidFill>
                  <a:srgbClr val="000000"/>
                </a:solidFill>
                <a:latin typeface="Segoe UI"/>
              </a:rPr>
              <a:t>through partnership, service, and volunteering.</a:t>
            </a:r>
            <a:endParaRPr b="0" lang="en-US" sz="2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is SHIBA?</a:t>
            </a:r>
            <a:endParaRPr b="0" lang="en-US" sz="3600" spc="-1" strike="noStrike">
              <a:solidFill>
                <a:srgbClr val="084678"/>
              </a:solidFill>
              <a:latin typeface="Segoe UI"/>
            </a:endParaRPr>
          </a:p>
        </p:txBody>
      </p:sp>
      <p:sp>
        <p:nvSpPr>
          <p:cNvPr id="58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04E3B-ED3D-43F4-80EE-D7468F33939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8A1E1-A193-430B-A382-E2F121AA263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4" name="Content Placeholder 3"/>
          <p:cNvSpPr/>
          <p:nvPr/>
        </p:nvSpPr>
        <p:spPr>
          <a:xfrm>
            <a:off x="573120" y="1370160"/>
            <a:ext cx="7778880" cy="4287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Part of the Washington state Office of the Insurance Commissioner's consumer protection services</a:t>
            </a:r>
            <a:endParaRPr b="0" lang="en-US" sz="2800" spc="-1" strike="noStrike">
              <a:solidFill>
                <a:srgbClr val="000000"/>
              </a:solidFill>
              <a:latin typeface="News Gothic MT"/>
            </a:endParaRPr>
          </a:p>
          <a:p>
            <a:pPr marL="322200" indent="-322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One of 54 state health insurance programs (SHIP) in the U.S. and the four U.S. Territories</a:t>
            </a:r>
            <a:endParaRPr b="0" lang="en-US" sz="2800" spc="-1" strike="noStrike">
              <a:solidFill>
                <a:srgbClr val="000000"/>
              </a:solidFill>
              <a:latin typeface="News Gothic MT"/>
            </a:endParaRPr>
          </a:p>
          <a:p>
            <a:pPr marL="322200" indent="-322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SHIBA was the first program in the nation and has served Medicare beneficiaries since 1979</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does SHIBA do?</a:t>
            </a:r>
            <a:endParaRPr b="0" lang="en-US" sz="3600" spc="-1" strike="noStrike">
              <a:solidFill>
                <a:srgbClr val="084678"/>
              </a:solidFill>
              <a:latin typeface="Segoe UI"/>
            </a:endParaRPr>
          </a:p>
        </p:txBody>
      </p:sp>
      <p:sp>
        <p:nvSpPr>
          <p:cNvPr id="586" name="Date Placeholder 3"/>
          <p:cNvSpPr/>
          <p:nvPr/>
        </p:nvSpPr>
        <p:spPr>
          <a:xfrm>
            <a:off x="5946840" y="63277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9F750-EFCE-4198-B7A6-882D47B9866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7" name="Slide Number Placeholder 5"/>
          <p:cNvSpPr/>
          <p:nvPr/>
        </p:nvSpPr>
        <p:spPr>
          <a:xfrm>
            <a:off x="8166240" y="63277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F9984-A644-4EEA-AD3B-1FF79935B6E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8" name="TextBox 2"/>
          <p:cNvSpPr/>
          <p:nvPr/>
        </p:nvSpPr>
        <p:spPr>
          <a:xfrm>
            <a:off x="519120" y="1440000"/>
            <a:ext cx="8128080" cy="477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Provides </a:t>
            </a:r>
            <a:r>
              <a:rPr b="1" lang="en-US" sz="2600" spc="-1" strike="noStrike">
                <a:solidFill>
                  <a:srgbClr val="000000"/>
                </a:solidFill>
                <a:latin typeface="Segoe UI"/>
                <a:ea typeface="Open Sans"/>
              </a:rPr>
              <a:t>free</a:t>
            </a:r>
            <a:r>
              <a:rPr b="0" lang="en-US" sz="2600" spc="-1" strike="noStrike">
                <a:solidFill>
                  <a:srgbClr val="000000"/>
                </a:solidFill>
                <a:latin typeface="Segoe UI"/>
                <a:ea typeface="Open Sans"/>
              </a:rPr>
              <a:t>, </a:t>
            </a:r>
            <a:r>
              <a:rPr b="1" lang="en-US" sz="2600" spc="-1" strike="noStrike">
                <a:solidFill>
                  <a:srgbClr val="000000"/>
                </a:solidFill>
                <a:latin typeface="Segoe UI"/>
                <a:ea typeface="Open Sans"/>
              </a:rPr>
              <a:t>unbiased</a:t>
            </a:r>
            <a:r>
              <a:rPr b="0" lang="en-US" sz="2600" spc="-1" strike="noStrike">
                <a:solidFill>
                  <a:srgbClr val="000000"/>
                </a:solidFill>
                <a:latin typeface="Segoe UI"/>
                <a:ea typeface="Open Sans"/>
              </a:rPr>
              <a:t> and </a:t>
            </a:r>
            <a:r>
              <a:rPr b="1" lang="en-US" sz="2600" spc="-1" strike="noStrike">
                <a:solidFill>
                  <a:srgbClr val="000000"/>
                </a:solidFill>
                <a:latin typeface="Segoe UI"/>
                <a:ea typeface="Open Sans"/>
              </a:rPr>
              <a:t>confidential</a:t>
            </a:r>
            <a:r>
              <a:rPr b="0" lang="en-US" sz="2600" spc="-1" strike="noStrike">
                <a:solidFill>
                  <a:srgbClr val="000000"/>
                </a:solidFill>
                <a:latin typeface="Segoe UI"/>
                <a:ea typeface="Open Sans"/>
              </a:rPr>
              <a:t> help with Medicare and healthcare coverage choice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Offers private, individualized Medicare counseling with trained volunteer advisor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Determines eligibility for health care coverage option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Provides coverage comparison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Advocates for consumers about coverage concerns, fraud incidents, and other Medicare-related issues.</a:t>
            </a:r>
            <a:endParaRPr b="0" lang="en-US" sz="26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does SHIBA serve?</a:t>
            </a:r>
            <a:endParaRPr b="0" lang="en-US" sz="3600" spc="-1" strike="noStrike">
              <a:solidFill>
                <a:srgbClr val="084678"/>
              </a:solidFill>
              <a:latin typeface="Segoe UI"/>
            </a:endParaRPr>
          </a:p>
        </p:txBody>
      </p:sp>
      <p:sp>
        <p:nvSpPr>
          <p:cNvPr id="5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07EF2-FBEA-4EC4-9041-A2128CFDAD5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33700-DB59-49A0-9CC7-5EF48E4C3B4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2" name=""/>
          <p:cNvSpPr txBox="1"/>
          <p:nvPr/>
        </p:nvSpPr>
        <p:spPr>
          <a:xfrm>
            <a:off x="764640" y="1433520"/>
            <a:ext cx="7696440" cy="39895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nsumers of all ages and background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eople with disabilities and specific health condition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Seniors and pre-retire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Ethnic and multilingual population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Uninsured people</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ural communiti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eople with limited income</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is made up of…</a:t>
            </a:r>
            <a:endParaRPr b="0" lang="en-US" sz="3600" spc="-1" strike="noStrike">
              <a:solidFill>
                <a:srgbClr val="084678"/>
              </a:solidFill>
              <a:latin typeface="Segoe UI"/>
            </a:endParaRPr>
          </a:p>
        </p:txBody>
      </p:sp>
      <p:sp>
        <p:nvSpPr>
          <p:cNvPr id="59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D3E92-5E96-4AFA-8B47-88BB5C3F857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9AAC0-BA93-4648-9DAA-C5E6F4FCE8C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6" name=""/>
          <p:cNvSpPr txBox="1"/>
          <p:nvPr/>
        </p:nvSpPr>
        <p:spPr>
          <a:xfrm>
            <a:off x="864720" y="1359000"/>
            <a:ext cx="7486920" cy="46879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mmunity volunteer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Local sponsor agenci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Office of the Insurance Commissioner staff</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artner agencies and service provider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Together we operate as an educational and referral system, advocating for beneficiaries and consumer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SHIBA can NOT do…</a:t>
            </a:r>
            <a:endParaRPr b="0" lang="en-US" sz="3600" spc="-1" strike="noStrike">
              <a:solidFill>
                <a:srgbClr val="084678"/>
              </a:solidFill>
              <a:latin typeface="Segoe UI"/>
            </a:endParaRPr>
          </a:p>
        </p:txBody>
      </p:sp>
      <p:sp>
        <p:nvSpPr>
          <p:cNvPr id="5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850F2-F844-4154-8A66-0E671DD65B6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1D369-1994-4970-B19F-B9ADC4DE88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0" name=""/>
          <p:cNvSpPr txBox="1"/>
          <p:nvPr/>
        </p:nvSpPr>
        <p:spPr>
          <a:xfrm>
            <a:off x="569880" y="1378080"/>
            <a:ext cx="8004240" cy="3573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ecommend a health insurance policy, company or agent.</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Help with quality-of-care concerns.</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ecommend a medical provider or service.</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unsel on issues outside of Medicare and associated coverage options.</a:t>
            </a:r>
            <a:endParaRPr b="0" lang="en-US" sz="2800" spc="-1" strike="noStrike">
              <a:solidFill>
                <a:srgbClr val="000000"/>
              </a:solidFill>
              <a:latin typeface="Segoe U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Kim.McKenna@oic.wa.gov</dc:creator>
  <dc:description/>
  <dc:language>en-US</dc:language>
  <cp:lastModifiedBy>McKenna, Kim (OIC)</cp:lastModifiedBy>
  <cp:lastPrinted>2017-05-30T20:46:39Z</cp:lastPrinted>
  <dcterms:modified xsi:type="dcterms:W3CDTF">2025-08-29T19:47:22Z</dcterms:modified>
  <cp:revision>275</cp:revision>
  <dc:subject>Public presentation to educate consumers on how to avoid becoming a victim of Medicare fraud.</dc:subject>
  <dc:title>Navigating and protecting your health care benefi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48DA7B20DD3E54B96DF71DC38FF66D1</vt:lpwstr>
  </property>
  <property fmtid="{D5CDD505-2E9C-101B-9397-08002B2CF9AE}" pid="3" name="TaxCatchAll">
    <vt:lpwstr/>
  </property>
  <property fmtid="{D5CDD505-2E9C-101B-9397-08002B2CF9AE}" pid="4" name="_ip_UnifiedCompliancePolicyProperties">
    <vt:lpwstr/>
  </property>
  <property fmtid="{D5CDD505-2E9C-101B-9397-08002B2CF9AE}" pid="5" name="_ip_UnifiedCompliancePolicyUIAction">
    <vt:lpwstr/>
  </property>
  <property fmtid="{D5CDD505-2E9C-101B-9397-08002B2CF9AE}" pid="6" name="lcf76f155ced4ddcb4097134ff3c332f">
    <vt:lpwstr/>
  </property>
</Properties>
</file>