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AFDDB-C818-4A20-BC3D-77EB58880C24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A6AC9-1D65-4A33-A655-A789200BB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Calibri"/>
              </a:rPr>
              <a:t>Presentador:  SHIBA le recomienda reproducir el video sobre SHIBA al comienzo de la presentación, https://vimeo.com/522061755?embedded=true&amp;source=vimeo_logo&amp;owner=9307313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6DC31-50E0-435C-AB6E-80EF4867B6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ABC25-8187-4D9D-A04F-DF57B5E62B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AD432-D1C8-4FDF-8B43-A6299C4E6C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Los Programas estatales de asistencia con el seguro médico (SHIP) brindan asistencia y asesoramiento gratuito, detallado y personalizado sobre los seguros a los beneficiarios de Medicare, sus familias, amigos y cuidadores en los 50 estados, además de Washington D.C., Guam, Puerto Rico y las Islas Vírgenes de los Estados Un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Los SHIP son proyectos financiados mediante subvenciones de la Administración para la Vida Comunitaria de los EE. UU., del Departamento de Salud y Servicios Humanos de los EE. U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8B601-90E8-4991-9E87-5FBD10E2B9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Proporciona ayuda gratuita, imparcial y confidencial sobre Medicare y las opciones de atención médica a personas de todas las edades y procedenc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Forma parte de la División de Protección al Consumidor de la Oficina del Comisionado de Seguros del estado de Washingt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Los asesores voluntarios ayudan a los miembros de la comunidad a evaluar sus necesidades de cobertura médica y su elegibilidad, hacen derivaciones y ayudan a identificar y denunciar frau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B4C66-8051-4F4C-9CBA-4E8490C9B3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387B3-9866-441B-96D8-3C6D437F05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6D2E8-1CF2-47B7-8E69-8093A9B87E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A67-6F29-4DE6-87F5-75897216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241-03BA-4E10-96A7-96E4F1A2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535AE-9C3E-4172-8357-0A0D216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3278E-0E67-4057-A8B3-EE0ABE5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3500A-EECE-4256-8774-4DED41C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4EA19-C134-451D-B952-5BA1325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E2FC9-80B6-442C-B0FA-95B7AEB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321B3-84AC-4BAD-A880-C7AFD05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F0EED5-96B9-4EA9-B352-D5C5BED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0E777-30FE-4E94-B02B-EA6FD351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B2A9D-CC69-4E64-B89B-EDDDB33E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EB3E6-85E5-4B1D-84DD-E57CE00F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363-3079-47FF-9631-5FDF14DB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08826-7CDA-4147-9EDA-12FEC0B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84BD2-F142-4837-8D35-8C43E5D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3D325-8147-4357-BE7D-CD67B58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F158C-2300-4403-81CB-CC27AB4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B0E9A-5CF5-44A1-BE55-41C0CBC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59A91-D9B9-4957-B51F-49BD43C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E945A-899F-49ED-B021-0168A365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C71F6-DDAF-4098-9D87-1AC400D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FABC3-DA4E-4379-BBDE-9C1A999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341C5-A3EE-48FE-8A18-387B648C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3DF-80EA-49E6-BAC0-189A5A62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9F392F-1E85-4EF3-A238-3F726029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55BDD-4A80-4D36-BEBD-DF897F2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9AE5D-9165-48B7-A1BA-D506191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4A39C-C4D2-48E1-A5CC-1C1407B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941C8-966F-455C-800A-59D8EB6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3772CC-3943-4728-BC44-3F8E196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C3D0DB-AA36-4307-A4EC-AD273C77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35B3F-717A-47B0-B011-9612E6F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44C627-6353-4FB5-A79E-44C70188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6471F-11FB-4B1D-AF7D-81E94D6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DDE103-FBBB-40E4-80F9-22AA937F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6E8B37-7204-41CD-92D4-3343EEC9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C7276A-54C3-431A-88DD-9058ED83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EBB36-3A04-435F-91C6-27B1F528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F25B3-379F-4114-A3C9-96CE1A8A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AAAAE-0E02-410D-8C51-86F97705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CDB47-EC16-485E-A0B6-B763998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6367F-FD8A-490F-B511-9BC468D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4328-DE77-4A7D-9BF5-DF9D89E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21098-2AD1-4F23-A0F1-DD60D18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04ED3-49B6-4355-846B-641B7EF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31B3C-3CD7-49AE-B949-7D72FADA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32C36-021C-45F1-ADC8-BC11917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6BBFB-EDB5-4CFC-90DE-056AC0E9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61CAB-F035-49B1-B4B8-86BBF244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7F504B-B96A-40ED-80F6-4DF28E2E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702BA6-935A-4C57-98B8-EEC9906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9A5E6B-6C64-4EC6-AF78-3181D29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0EDB8D-CDC5-4CCB-9939-A8C40DA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9A25D5-C7C3-49FA-9E23-53E6FB95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132F9B-71B8-4EDA-8D2B-715B5DE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34BF4A-9455-4198-9B39-06E8A6E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F88CF8-EE51-4756-AABA-BF62DBF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652DA4-1616-47D7-9B66-9F21796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83862-FB94-4CB8-A24D-7FAFB1E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9550D8-60CC-4994-96E3-DFFB0075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C8C16-4A00-49AC-BF92-B4A034A1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47-FDE3-4056-979C-625DD9F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4E1-06EB-4B96-8795-A7CD7BF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21BA-2A06-471B-8F87-31202C60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AA3C-CFFC-4231-84D4-E4C3CFD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262B-5BA5-47EC-993A-608E8F47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C04-89B1-47F0-8E62-FC7D049B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D47-BD66-4467-8FB3-867669E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040-DD61-4738-9A6F-9F42B7E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F1C6-D4EE-4ADF-8954-D58BBB7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DECB-3AB1-4E92-A5A2-7A699F4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325-46E6-496E-8C9C-16FFB34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BE6-92A2-4EFA-BEE0-7A8DD7C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B9A-A88D-42BA-9482-7142945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9BD-E5E3-4075-9225-6CB94852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319D-D7A7-4980-BB13-F2A331BC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7293-95AF-48CA-A461-5D2C67E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B02-5652-44A6-8CDE-F38F693C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730C-5089-4ED7-B912-1C73BA6A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D483-2294-4266-8027-73A9EEE3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E5C-9328-4894-9B82-ABA8C6FF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BC19-BE71-4EE2-AFD0-5A0370A0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30AC-FF8D-4430-A3C7-AF74E987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31D6-2960-471B-A3BB-3FB6331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8473-D340-45EB-9A95-69982CD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CF0D-E0F0-4864-9573-F1AC309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2A5C-BCA1-4502-8635-0295F751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E59D-893B-41CD-A7E7-C4CFBA58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7A6-AC61-4482-86F0-442D002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CFD8-40FC-46D2-8E8E-2E3D5415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9BD8-A95F-4312-AFC1-0C082CD5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2F02-58ED-4594-A9FF-9BFB08E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67B7-EB4C-4EFE-A630-64165130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D844-2A4A-45CA-9315-564A4D0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24F9-FCC9-4605-8CA9-B8E70A1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FDAB-3F67-47C8-86E5-F81F44B4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9A36-4FEA-4F85-B746-051D164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10A9-6690-4841-A8DD-6CEBB10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A0DB-8D02-46D0-88EE-DE5EE6E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4B0-175B-4458-A39C-D1482BB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FF36-8E1A-4BA0-8AAF-4D3CED0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0CFA-4FC5-4572-A49D-84F27C9D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E706-F3A9-4F86-BD00-BA0C23B8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6ED5-0E08-4D5A-BE85-62BD73FC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C9F1B-BB4E-4CA0-B3F1-C39F27E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E133-97D0-4D4A-AE1B-AFC65374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F5AF-9D1D-4D45-99F6-797D42AE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993F-3EA4-45EE-B586-4062EC74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41F0-3E9D-4A11-84DD-9EFCD7DC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D288-97F9-4B95-B9ED-4F8DCCD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9FA-80B5-45CE-AAB7-63FE2FD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87C1-7EDC-4BEB-8C5D-CDDDB8A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264F-5290-43E0-ADE0-256347D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F5E8-1029-40E9-82F0-4FAC007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3BD4-D108-47A3-B137-9B14F84E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AA51-1451-4863-8F51-8ADF767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995A8-95A2-4E48-BF14-AF7F3E81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9A20A-7276-46A6-90A3-384EB33C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7CCD-1413-47CD-8AF5-62243FE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18A3-DC4D-4A1C-ACCF-7C4C941D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AF2F-D6EF-4265-9FA5-A52949A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982-D3DD-49D5-9E9B-BBDB23D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6DEE4-030F-4D02-8FF4-B2708B63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4B86-A32F-4FAC-93FA-DD9256BB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30B7-6519-4726-B220-A046C01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715D-7291-47EA-AE3A-FBBABA5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1C09-3BAA-49F7-B74A-095C632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1ACA-907C-4D8B-B9EF-0DBF348D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48A7-B42E-4E74-9AD9-86F6C00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EC54F6-C9FF-4C46-80E9-2298653E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FE029-0251-495A-8A42-150ACDD4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31AE8-B35A-4CE1-80A7-5DA483E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4E2CE-0A33-4976-93C4-82DC9AC9CE43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F5C0B-9788-402A-9608-20AC7633727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56303-D8A1-45C1-A6CD-8698FF231055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D3850-85A9-4853-A3D2-FE586B1CEE7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6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6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86E63-28A2-4232-A737-62E26BC2AD5F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29C38-28E3-467F-9057-DD03178174B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0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0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27548-FE47-49DC-81CC-EE3747A4CB1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3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B92D1-C9AF-4AF4-B78A-F55FBACB6D93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5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5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4DF2A-BFDC-4692-89F9-A4B8AD64826D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7DCB7-DC67-434C-B5F4-52D6E30E905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12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0570E-0F45-4C70-A94F-F04676619BC0}" type="datetime">
              <a: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11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12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4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7885A-D16F-4E0D-B104-A0C1FC564335}" type="datetime">
              <a: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11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12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14E77-5E09-414D-9A61-6E548D8C8D9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E2782-29CD-4D16-A148-8770DA04666A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8B5C6-CB3B-455F-B7F4-D3F92162D34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0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AA26A-0447-4BC7-B5AF-A4B125EAB52D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82CD6-11D8-4473-B737-1B25D3F2D1E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1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D2FBD-95E3-4D7E-BF8C-B52C16C55B28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1E889-9C85-46CE-830B-36887531A4D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59740-A3D0-4D7F-B972-5081EE82F645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F0D41-0241-4301-B3B3-060F5B4461C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1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2AB13-701F-41AC-9F15-7A0FCE90DBEB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7DF34-4A3C-4DC1-B8DD-2F11F066A8E5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43847-C7BE-4308-A51E-7A82FD63F62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31640" y="3754440"/>
            <a:ext cx="564372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Sea voluntario en SHIBA</a:t>
            </a:r>
            <a:br>
              <a:rPr sz="36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¡Ayude a sus amigos, vecinos y otras </a:t>
            </a:r>
            <a:br>
              <a:rPr sz="28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personas a explorar lo que </a:t>
            </a:r>
            <a:br>
              <a:rPr sz="28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ofrece Medicare!</a:t>
            </a:r>
            <a:br>
              <a:rPr sz="2800"/>
            </a:b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pic>
        <p:nvPicPr>
          <p:cNvPr id="605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684360" y="3624120"/>
            <a:ext cx="1863720" cy="18637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"/>
          <p:cNvSpPr/>
          <p:nvPr/>
        </p:nvSpPr>
        <p:spPr>
          <a:xfrm>
            <a:off x="6012000" y="5921280"/>
            <a:ext cx="29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3b62"/>
                </a:solidFill>
                <a:latin typeface="Segoe UI"/>
                <a:ea typeface="News Gothic MT"/>
              </a:rPr>
              <a:t>Revisado el 23 de enero de 2024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A quiénes brinda servicio SHIBA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60360" y="1185480"/>
            <a:ext cx="68738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 personas de todas las edades,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diciones sociales y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ituaciones económicas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discapacidad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mayores y jubiladas de forma anticipad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munidades con dominio limitado del inglé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enfermedades crónica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rural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1E891-D318-4CFB-B88E-5FFA7FCC473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A4222-37AA-4D72-B47A-6C13A2C527F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5651640" y="1201680"/>
            <a:ext cx="2869920" cy="191628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ick Anderson, voluntario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60360" y="995400"/>
            <a:ext cx="844560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Ser voluntario de SHIBA es como tener una nueva </a:t>
            </a:r>
            <a:br>
              <a:rPr sz="2200"/>
            </a:b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profesión,  una que no paga con un salario, sino con                                         la satisfacción de ayudar a los demás.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l primer año (2007) en que proporcioné                                                 asesoramiento en SHIBA solo tuve 16 clientes. En                                                  2021, tuve más de 220 contactos de asesoramiento a                                     clientes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l caso es que se me dio bien el asesoramiento.  Es DIVERTIDO hacer cosas en las que eres bueno.  Es un trabajo para sentirse bien: un cliente o una familia llegan a la sesión de asesoramiento llenos de preocupación y ansiedad (y miedo), y, 45 minutos después, salen felices y sonrientes, con el problema entendido y resuelto, o en vías de resolverse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Una vez que comienzas a ayudar a los demás, simplemente no puedes parar de hacerlo.  Se convierte en una parte muy importante de tu vida”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A0F58-65E4-4CDB-A587-115C1714A06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1E98B-53A3-43E1-AC5C-2AE581EE83D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65" name="Picture 2" descr="Una persona sentada frente a una computadora. 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6516720" y="1106640"/>
            <a:ext cx="237636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William Chao, voluntario de SHI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60360" y="1310760"/>
            <a:ext cx="844560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“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Me gusta aprender, así que estoy a cargo de la capacitación.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cibo la formación de los programas y brindo los conocimientos que aprendo a las personas mayores de mi comunidad en mi idiom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as personas mayores se sienten solas y no reciben mucha ayuda de los demás, ni siquiera de sus hijos, quienes están ocupados y tienen diferentes culturas y educación, por lo que no quieren hablar con ellos; entonces, tienen que acudir a la comunidad formada por personas de su edad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9E5FF-AB46-47A3-A8B8-0F998A4FBC7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A1D10-01F6-4936-BB6E-8C78CCCA6F0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Gary Schwartz, voluntario de SHI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60360" y="1195560"/>
            <a:ext cx="8445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“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sidero que mi experiencia con SHIP, ser un mentor y formar parte del programa, es a la vez desafiante y emocionante porque puedo ayudar a las personas a progresar a partir de su situación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34AC9-82B6-4593-A6A0-2D64BFA2F39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8BD29-D20D-482F-85B3-6C056228A52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76" name="pI4Qayateug" descr=""/>
          <p:cNvPicPr/>
          <p:nvPr/>
        </p:nvPicPr>
        <p:blipFill>
          <a:blip r:embed="rId1"/>
          <a:stretch/>
        </p:blipFill>
        <p:spPr>
          <a:xfrm>
            <a:off x="2425680" y="2995560"/>
            <a:ext cx="431496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Cómo encontrar su lugar en SHIBA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6440" y="1103400"/>
            <a:ext cx="8399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uando se convierte en voluntario,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trabajamos con usted para adaptar su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habilidades e intereses a las necesidade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del programa de SHIBA.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mo resultado, los voluntarios pueden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servir a los clientes de Medicare, su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    familias y cuidadores de muchas manera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  creativas.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Obtenga más información sobre SHIBA y el voluntariado. Comuníquese con nosotros al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4400" spc="-1" strike="noStrike">
                <a:solidFill>
                  <a:srgbClr val="06355a"/>
                </a:solidFill>
                <a:latin typeface="Segoe UI"/>
                <a:ea typeface="Segoe UI"/>
              </a:rPr>
              <a:t>1-800-562-6900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15CF0-8B44-4002-B87E-51AB8AFE4A5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E3529-032B-4CCC-A3FD-97EF2809DD6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83" name="Picture 7" descr=""/>
          <p:cNvPicPr/>
          <p:nvPr/>
        </p:nvPicPr>
        <p:blipFill>
          <a:blip r:embed="rId1"/>
          <a:stretch/>
        </p:blipFill>
        <p:spPr>
          <a:xfrm>
            <a:off x="6443640" y="981000"/>
            <a:ext cx="2484360" cy="3799080"/>
          </a:xfrm>
          <a:prstGeom prst="rect">
            <a:avLst/>
          </a:prstGeom>
          <a:ln w="0">
            <a:noFill/>
          </a:ln>
        </p:spPr>
      </p:pic>
      <p:sp>
        <p:nvSpPr>
          <p:cNvPr id="684" name="TextBox 8"/>
          <p:cNvSpPr/>
          <p:nvPr/>
        </p:nvSpPr>
        <p:spPr>
          <a:xfrm>
            <a:off x="7012080" y="2711520"/>
            <a:ext cx="138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¡Únase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a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nuestro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equipo!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Programas SHIP a nivel nacional</a:t>
            </a: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	</a:t>
            </a: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	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gramas estatales de asistencia con el seguro médico (State Health Insurance Assistance Programs, SHIP)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n asesoramiento gratuito, detallado y personalizado sobre los seguros.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Disponibles en los 50 estados y Washington D.C., Guam, Puerto Rico y las Islas Vírgenes de los Estados Unid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yectos financiados mediante subvenciones de la Administración para la Vida Comunitaria (Administration for Community Living, ACL) del Departamento de Salud y Servicios Humanos (Health and Human Services, HHS) federal de los EE. UU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35740-464D-43F6-9EF9-ACCBFB0BA9E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8C520-344F-4A9B-83F6-E478E991BE9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Información sobr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60360" y="1122480"/>
            <a:ext cx="84456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sesores sobre los beneficios del seguro médico a nivel estatal (Statewide Health Insurance Benefits Advisors, SHIBA) es el programa de los SHIP para el estado de Washington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 ayuda gratuita, imparcial y confidencial sobre Medicare y las opciones de atención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Forma parte de la División de Protección al Consumidor (Consumer Protection Division) de la Oficina del Comisionado de Seguros (Office of the Insurance Commissioner, OIC) del estado de Washington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Los asesores voluntarios ayudan a la población local a evaluar sus necesidades de cobertura de atención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78195-F133-4D1C-B9FB-1E0FB40185B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2B7A9-28A3-4D2C-845F-D987974BD60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Historia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1000" y="2060640"/>
            <a:ext cx="8142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Comenzó con un pequeño grupo de voluntarios en el condado de Skagit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Funciona desde 1979 como parte de la Oficina del Comisionado de Seguros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Es el primer programa de este tipo en el país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Está reconocido a nivel nacional como un modelo de asesoramiento al consumidor de seguros médicos, ya que inspiró el financiamiento federal de 1990 para crear el modelo SHIP que tenemos hoy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Contamos con 20 agencias patrocinadoras locales, que representan a los 39 condados del estado de Washington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E8156-1884-4877-A75A-954E9094B24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FA493-22C6-4F83-A93E-1DABC15ABA6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360360" y="1135080"/>
            <a:ext cx="8445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700" spc="-1" strike="noStrike">
                <a:solidFill>
                  <a:srgbClr val="000000"/>
                </a:solidFill>
                <a:latin typeface="Segoe UI"/>
                <a:ea typeface="Wingdings"/>
              </a:rPr>
              <a:t>Asesores sobre los beneficios del seguro médico a nivel estatal (SHIBA)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Misió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0360" y="1154160"/>
            <a:ext cx="844560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HIBA proporciona información gratuita e imparcial sobre la cobertura y el acceso a la atención médica, para ayudar a mejorar la vida de todos los residentes del estado de Washington. Fomentamos la participación comunitaria a través de la colaboración, el servicio y el voluntari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HIBA es un sistema de educación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y derivación, formado por los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iguientes actore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Voluntarios de la comunidad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gencias patrocinadoras local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ersonal de la OIC/SHIBA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58DBA-0C9E-485B-95A7-301EF0F816E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CE0B0-5109-43DC-BBA7-38731F79A37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5241960" y="2859120"/>
            <a:ext cx="317484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Beneficios del program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60000" y="1143000"/>
            <a:ext cx="86756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¡ES GRATUITO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Es imparcial y objetivo (sin afiliación a ninguna compañía de seguros ni a ningún producto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Es confidenci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Tiene oficinas accesibles en casi todos los condad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2979A-D780-4B51-8CBC-7CDC0A0FDC3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E0F77-4946-476D-B6C1-D3FD842CFA1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35" name="Picture 2" descr="Un grupo de personas posando para una foto Descripción generada automáticamente"/>
          <p:cNvPicPr/>
          <p:nvPr/>
        </p:nvPicPr>
        <p:blipFill>
          <a:blip r:embed="rId1"/>
          <a:stretch/>
        </p:blipFill>
        <p:spPr>
          <a:xfrm>
            <a:off x="1263600" y="3692520"/>
            <a:ext cx="60642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ayudamos a las persona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60360" y="1197000"/>
            <a:ext cx="84456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las necesidades individuales de cobertura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omprobamos la elegibilidad para diversos 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y comparamos las pólizas y los 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Identificamos y                                                             denunciamos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osibles fraud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Hacemos derivaciones a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tras agencias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AE2A2-46D8-427E-AE77-3451375C8021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9D9F-BC6B-4D4D-AAF1-E1314191F95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4600440" y="3425760"/>
            <a:ext cx="424836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84678"/>
                </a:solidFill>
                <a:latin typeface="Segoe UI"/>
              </a:rPr>
              <a:t>Actividades y funciones de los voluntarios de SHIBA</a:t>
            </a: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60360" y="1123920"/>
            <a:ext cx="844560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Brindar asesoramiento personaliz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rganizar presentaciones y talleres públic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articipar en ferias de salud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entos especial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r información sobre                                          los programas comunitarios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yudar a las personas a acceder                                            a los benefici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yudar a captar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rientar a nuevos voluntari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F6276-A7B8-435F-A40C-DC917C6F191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00393-2309-4DE1-81F0-C6A89170804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5460840" y="2303640"/>
            <a:ext cx="310536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Ejemplos de funciones de los voluntari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poyo administrativo, técnico y de oficin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ducación comunitaria y charlas pública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romoció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esoramiento sobre                                    Medic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pacitación y orientació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gistro de dat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specialista en fraud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royectos especial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619E6-769F-4570-985B-2FBBAC2B0F6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CEF94-8270-4F23-B404-32FD7842175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53" name="Picture 2" descr="Un grupo de personas mirando un papel Descripción generada automáticamente con confianza baja"/>
          <p:cNvPicPr/>
          <p:nvPr/>
        </p:nvPicPr>
        <p:blipFill>
          <a:blip r:embed="rId1"/>
          <a:stretch/>
        </p:blipFill>
        <p:spPr>
          <a:xfrm>
            <a:off x="5175360" y="2349360"/>
            <a:ext cx="3674880" cy="36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>Public slide show about all the ins and outs of Medicare</dc:description>
  <cp:keywords/>
  <dc:language>en-US</dc:language>
  <cp:lastModifiedBy>Wells, Donna (OIC)</cp:lastModifiedBy>
  <cp:lastPrinted>2018-03-02T16:25:59Z</cp:lastPrinted>
  <dcterms:modified xsi:type="dcterms:W3CDTF">2024-01-23T22:01:23Z</dcterms:modified>
  <cp:revision>503</cp:revision>
  <dc:subject>SHIBA's volunteer recruitment public presentation</dc:subject>
  <dc:title>Sea voluntario en SHIB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TaxCatchAll">
    <vt:lpwstr/>
  </property>
  <property fmtid="{D5CDD505-2E9C-101B-9397-08002B2CF9AE}" pid="4" name="lcf76f155ced4ddcb4097134ff3c332f">
    <vt:lpwstr/>
  </property>
</Properties>
</file>