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2D0E4-86BC-437A-8760-FFE597B467D4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1182240" y="698400"/>
            <a:ext cx="464508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3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3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8D208-1B5E-4A2B-858C-2BAC4583E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Calibri"/>
              </a:rPr>
              <a:t>Presentador:  SHIBA le recomienda reproducir el video sobre SHIBA al comienzo de la presentación, https://vimeo.com/522061755?embedded=true&amp;source=vimeo_logo&amp;owner=9307313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908C8-3A67-41D0-97C7-0A4F890B1F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89F3F-80E1-48C3-8F51-A9DF6539D8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7DBB8-EF9D-4216-8A49-8BCCA3FE78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Los Programas estatales de asistencia con el seguro médico (SHIP) brindan asistencia y asesoramiento gratuito, detallado y personalizado sobre los seguros a los beneficiarios de Medicare, sus familias, amigos y cuidadores en los 50 estados, además de Washington D.C., Guam, Puerto Rico y las Islas Vírgenes de los Estados Un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Los SHIP son proyectos financiados mediante subvenciones de la Administración para la Vida Comunitaria de los EE. UU., del Departamento de Salud y Servicios Humanos de los EE. U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44C4A-B5C2-4F06-9716-8667E86A6C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600" spc="-1" strike="noStrike">
                <a:solidFill>
                  <a:srgbClr val="000000"/>
                </a:solidFill>
                <a:latin typeface="Calibri"/>
              </a:rPr>
              <a:t>Proporciona ayuda gratuita, imparcial y confidencial sobre Medicare y las opciones de atención médica a personas de todas las edades y procedenc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600" spc="-1" strike="noStrike">
                <a:solidFill>
                  <a:srgbClr val="000000"/>
                </a:solidFill>
                <a:latin typeface="Calibri"/>
              </a:rPr>
              <a:t>Forma parte de la División de Protección al Consumidor de la Oficina del Comisionado de Seguros del estado de Washingt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600" spc="-1" strike="noStrike">
                <a:solidFill>
                  <a:srgbClr val="000000"/>
                </a:solidFill>
                <a:latin typeface="Calibri"/>
              </a:rPr>
              <a:t>Los asesores voluntarios ayudan a los miembros de la comunidad a evaluar sus necesidades de cobertura médica y su elegibilidad, hacen derivaciones y ayudan a identificar y denunciar frau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51B28-9834-4688-8833-3ED2275F0A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F34BF-E276-4D0B-B5C0-0CA3B85BC4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78FF7-B960-47CB-BEAD-760F296B10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C73-978B-45B5-B4A4-312CF4F2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3A0-4DA0-40AC-A65E-240720C0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39D3C-7CDC-4664-AD25-6902C754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09368D-18DE-49B2-B99A-0D178346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C69E1D-84A4-48F1-A941-142C1CB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B8D48-2253-4AF6-94B6-5B35528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86BB8-D2E0-45F2-AC8E-3AA44CC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F5D7F-1407-429A-9174-105A98C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04C7D1-8E12-4D28-B44D-417CAD14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C9F84-2194-4488-B36F-19205E30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B5DC5-AA0B-4561-B42A-AE088534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6DD15-C782-496C-80B2-4A40124D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198-96DF-4840-9274-E7884F75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3A117-033A-4EE7-803E-44B6777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82E28-9002-431A-A083-D260D16D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38A45-4937-4700-9DB9-CBBA66C4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BC93F-AE37-411E-8DBE-FFDB742D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E52168-EFCD-4040-B35C-A072C5BC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E7B7B-35D4-476E-8ABC-1FB492D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6877C-643C-4489-B705-9861E10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03C1C1-3C9C-4C51-8E0F-042B424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859B3D-5AC9-4BFB-BB73-CE619590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56A5A-2009-49B0-8460-5A4347AB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AA7-9E53-4F56-8DE3-41668010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83EF93-FC4A-4308-8062-6C79EB8D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6FD22-1722-46FF-A629-2C4F9C40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AAF2F7-FD62-44E2-B17F-02C8C87A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C6B8DE-BA00-45F6-98D2-AA5CF2CD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520FB3-52FA-49B4-A195-AA52FE8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61848E-A653-4D58-B5FC-F536CA7B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BF4469-6F08-433A-8EAD-14F4FF19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E56808-0924-48FC-B981-3119CEE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824017-8FE5-4C4D-B1B5-41A078E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8C267A-9D82-4707-AB0A-B20873A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87F417-EE7B-440B-9333-C7CF182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B90033-6D62-4446-9AA0-E2EC8118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41F87D-01CD-4121-A228-8BC102A3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609A0-B689-40CC-BE9A-BBFFDE62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4B0A4-95FC-4A57-9746-B38A6656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FC9F5-7986-4C29-BC40-97637B4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986F1-6794-4C4B-A567-BC93936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5D02-46AC-4F06-9480-832A1261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F46BD-E697-46FB-AAA9-75DFF24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2465B-B2DE-4659-9899-E37E1CC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59EC0-18FD-4DAC-B2DF-6D991D5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6DC20-754E-441C-88E1-7454185E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0D18B-1E09-4F5D-88B2-D0B75525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19770-1657-4A5F-8947-555A7EB1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7F4DF-CA5F-4067-AA91-FF51D789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B80BFD-DC69-4F57-BC92-CA4BDA7E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BFD6E3-7586-4344-B1B4-04BFD39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92821F-C9A2-4D95-A82B-F9B84EA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B27F6F-20F0-4D79-83B6-8C31B0CE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728C81-0955-449A-A421-2284B7D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D4224-74BA-4CE2-BBF1-6AC72AC2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A78BAE-563B-4F26-A8A0-1053A5E1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51B947-6BC0-45F3-8CD4-BDA9035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E9808F-BE9F-4CE6-AB57-72BD47A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6A0175-8A38-489B-8B5B-2905D25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224B91-DE3C-4527-B9AC-29E6892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6866A5-1952-4194-857C-B4C695A9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B2F-825E-4ABE-A416-CD3FBE12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6B5-96F4-45FC-916B-67C46C5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0BA9-0076-4B01-96A3-9C034F38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42D8-6472-43E8-B747-0246CF2F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6E5B-AFB1-4673-9615-BCBF0414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22A-523F-4EFF-B5F9-3E3FD199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8367-8CEC-4469-8CE5-D1CFB0A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36B3-9681-4E0D-859B-0C9602F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91F7-74B2-4E7A-98B6-2948ECB2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06D0-473F-462A-B1B5-6DAF507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7278-E4DE-4209-B08C-4FA5818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94FD-DD74-4985-9520-BD8C4BE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048-9172-4F4B-96EA-D73F348B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D5F3-C3B6-40C5-830A-03E85BA4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7059-B903-456C-91B9-6A074B45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462A-622E-4DFA-8F35-F27E409D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569-3523-4BB3-8FF4-83D49380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FE0F-BBD3-497B-AACE-85FD4086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7CF1-1EF8-45F5-904C-FF170231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C968-E968-45C5-BC31-516334DF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C7F3-7AA9-461D-A2CF-DDCD709F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D1D2-D9AC-499E-910E-AB93BEAE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AD55-2C57-4C00-BADC-CBA1A8A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2FF1-8D08-4CEC-AD6B-51778A20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9E1B-373C-460A-955C-5F6D0DA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5419-6623-4062-9D72-9011D1CD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7DEB-11AA-44CF-8D03-C4B4E121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1CD-BAE2-4F1D-AF37-155466DB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CED9-C6A7-4AEA-A8BC-AB2DA71D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2459-0C16-4B8C-A2D4-A0A66AC5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ACA6D-A4A2-45A1-BAEC-B5639DA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DAFB-0EF4-4FC7-84C0-77003AAB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A978-9745-42C7-AC26-F1647AEA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9AA3-F1F1-4C9D-8969-1A256ECA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F4A3-D2A8-4ADA-8F97-E6105C85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E220-3A60-4783-89BE-143C68A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02D7-FB0A-41F2-82E7-C6D566E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2809-9778-4CA9-A005-823C153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991-9EDA-4E08-87A6-905ABD80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20DC-B522-4F51-9C9C-D5BBFF72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CC54-C1FE-4B73-8AB7-879A1392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0F3F-D5BA-4B90-9643-CBCD9C37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86768-92F8-480D-8E14-51F6641D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DA8F-C426-4D61-BA86-06BC4D01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43D6-3CB9-4B9C-8DED-4C165A27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1CC8-9B8C-4565-8449-1524218D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13D4-5C9F-4FC5-AAF4-6E53159A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06CEC-D3B7-47CA-AEA8-D2F19F18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525E-2215-41A6-88D6-D0DDC2A4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F40-FC0D-4B77-92A3-6213C15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01E2B-6477-4396-A3BE-F9838705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0C7A-8A28-4716-B37C-988FB729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04B1-23B2-4D00-9AFD-219C00B1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D346C-3320-4519-9404-99954BED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B3BA6-9433-42A3-A37F-C81E733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D5405-7B61-4AB8-892A-11EC3A2D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9A5D8-45E7-4D14-96B6-69AD6DC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01317-5C71-445C-A0F1-5074B82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CCEF-AE95-4AE9-B903-8262E23F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7289-468B-4415-A5AA-EB72CA97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D08-93B5-410D-BB9A-2B0337E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A7FA0-DD2C-4436-B36B-8077BC70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ECE4-1954-4F2E-8323-B5ABA547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3D1D-FAB6-4550-B8F2-BD257A1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102A-BC42-430A-A383-96C2D09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92A70-3356-46BA-97CF-CA288858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EBF6-AAF6-4893-A18D-C9B44CE8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B9185-40AD-4681-A50B-774FB159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F5EAE-39B8-4506-B11A-7B4D9594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DC5C66-0F67-45C9-9E70-F0C909CB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3A518-CA10-478F-B42C-F2F28740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35AD0-A9F5-437B-A548-66D57D69EA48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0651B-6C77-49EF-8B1D-FDF915ADCB3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1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1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4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ED2D8-F7A4-43ED-A043-A5A17019002F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5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35D5A-E711-411D-B944-B4B40522D56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6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6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E51F9-6D91-4543-90BF-284B0C29587B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C3EEF-EAE0-47AE-96C0-3B843C778E5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0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0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0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3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4B60D-2A42-445F-A184-2960502A2B1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dt" idx="3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2C7F5-8020-4093-9239-9AC27BE13879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53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55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F1A1A-D627-4CC3-8F5F-71A7237EABE0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92E67-9CCE-4536-826B-C6139DC2E00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47" name="Rectangle 12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9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9" descr="C:\Documents and Settings\ab29\Local Settings\Temporary Internet Files\Content.IE5\8SIXVW2N\MP900409640[1].jpg"/>
          <p:cNvPicPr/>
          <p:nvPr/>
        </p:nvPicPr>
        <p:blipFill>
          <a:blip r:embed="rId3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ab29\Local Settings\Temporary Internet Files\Content.IE5\7ZND71FB\MP900309115[1].jpg"/>
          <p:cNvPicPr/>
          <p:nvPr/>
        </p:nvPicPr>
        <p:blipFill>
          <a:blip r:embed="rId4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:\Documents and Settings\ab29\Local Settings\Temporary Internet Files\Content.IE5\I0WIJ97D\MP900438813[1].jpg"/>
          <p:cNvPicPr/>
          <p:nvPr/>
        </p:nvPicPr>
        <p:blipFill>
          <a:blip r:embed="rId5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ispanic over 65 couple.JPG"/>
          <p:cNvPicPr/>
          <p:nvPr/>
        </p:nvPicPr>
        <p:blipFill>
          <a:blip r:embed="rId6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29CEE-FDF9-40FD-A17E-029B0C2AE36B}" type="datetime">
              <a: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94" name="Rectangle 11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5" name="Right Triangle 12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97" name="Rectangle 14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9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67F91-79BC-482D-BC84-F08A22EDE012}" type="datetime">
              <a: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4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44" name="Rectangle 11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5" name="Right Triangle 12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80FE8-662C-426B-A62A-B1DAC641DCE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dt" idx="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1D582-8E05-4A1C-B3D0-C5C909306A78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8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90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02D3A-3CDB-4A90-A7CA-AF14CD77DD9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10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CAFF0-4AE5-49A8-997C-45F357353BCD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1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34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6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05F28-5424-4AB7-B0BF-1CCEFA4F5A6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1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D958E-8EB3-4164-9A7C-D235DD859EE4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8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8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17011-215A-44EC-8370-33628AC9AD3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6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7F257-C646-42E5-A2B9-72B5EF6AF7BD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7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6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8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Straight Connector 10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8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943B1-BDCB-4123-8B73-CD1418AFF0C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dt" idx="1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D03FD-BBAB-45F8-9A2C-13A0D25C5F54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7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7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6134C-D115-41D7-BD1E-C0CBF8A712EB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895DD-88A3-40B4-85FF-248F32422DF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131640" y="3754440"/>
            <a:ext cx="564372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Sea voluntario en SHIBA</a:t>
            </a:r>
            <a:br>
              <a:rPr sz="3600"/>
            </a:br>
            <a:r>
              <a:rPr b="0" i="1" lang="es-US" sz="2800" spc="-1" strike="noStrike">
                <a:solidFill>
                  <a:srgbClr val="084678"/>
                </a:solidFill>
                <a:latin typeface="Segoe UI"/>
              </a:rPr>
              <a:t>¡Ayude a sus amigos, vecinos y otras </a:t>
            </a:r>
            <a:br>
              <a:rPr sz="2800"/>
            </a:br>
            <a:r>
              <a:rPr b="0" i="1" lang="es-US" sz="2800" spc="-1" strike="noStrike">
                <a:solidFill>
                  <a:srgbClr val="084678"/>
                </a:solidFill>
                <a:latin typeface="Segoe UI"/>
              </a:rPr>
              <a:t>personas a explorar lo que </a:t>
            </a:r>
            <a:br>
              <a:rPr sz="2800"/>
            </a:br>
            <a:r>
              <a:rPr b="0" i="1" lang="es-US" sz="2800" spc="-1" strike="noStrike">
                <a:solidFill>
                  <a:srgbClr val="084678"/>
                </a:solidFill>
                <a:latin typeface="Segoe UI"/>
              </a:rPr>
              <a:t>ofrece Medicare!</a:t>
            </a:r>
            <a:br>
              <a:rPr sz="2800"/>
            </a:br>
            <a:endParaRPr b="0" lang="en-US" sz="2800" spc="-1" strike="noStrike">
              <a:solidFill>
                <a:srgbClr val="084678"/>
              </a:solidFill>
              <a:latin typeface="Segoe UI"/>
            </a:endParaRPr>
          </a:p>
        </p:txBody>
      </p:sp>
      <p:pic>
        <p:nvPicPr>
          <p:cNvPr id="605" name="Picture 1" descr="A round blue and orange label with text and balloons&#10;&#10;Description automatically generated"/>
          <p:cNvPicPr/>
          <p:nvPr/>
        </p:nvPicPr>
        <p:blipFill>
          <a:blip r:embed="rId1"/>
          <a:stretch/>
        </p:blipFill>
        <p:spPr>
          <a:xfrm>
            <a:off x="684360" y="3624120"/>
            <a:ext cx="1863720" cy="1863720"/>
          </a:xfrm>
          <a:prstGeom prst="rect">
            <a:avLst/>
          </a:prstGeom>
          <a:ln w="0">
            <a:noFill/>
          </a:ln>
        </p:spPr>
      </p:pic>
      <p:sp>
        <p:nvSpPr>
          <p:cNvPr id="606" name="TextBox 1"/>
          <p:cNvSpPr/>
          <p:nvPr/>
        </p:nvSpPr>
        <p:spPr>
          <a:xfrm>
            <a:off x="6012000" y="5921280"/>
            <a:ext cx="29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3b62"/>
                </a:solidFill>
                <a:latin typeface="Segoe UI"/>
                <a:ea typeface="News Gothic MT"/>
              </a:rPr>
              <a:t>Revisado el 23 de enero de 2024</a:t>
            </a:r>
            <a:endParaRPr b="0" lang="en-US" sz="14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A quiénes brinda servicio SHIBA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60360" y="1185480"/>
            <a:ext cx="687384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 personas de todas las edades, </a:t>
            </a:r>
            <a:br>
              <a:rPr sz="2800"/>
            </a:b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ndiciones sociales y </a:t>
            </a:r>
            <a:br>
              <a:rPr sz="2800"/>
            </a:b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ituaciones económicas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discapacidad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mayores y jubiladas de forma anticipad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munidades con dominio limitado del inglé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enfermedades crónica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oblaciones rural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65F26-8F12-405E-9747-EDF4B002790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269E5-2426-495C-A10C-D221E91895F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5651640" y="1201680"/>
            <a:ext cx="2869920" cy="191628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ick Anderson, voluntario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60360" y="995400"/>
            <a:ext cx="844560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Ser voluntario de SHIBA es como tener una nueva </a:t>
            </a:r>
            <a:br>
              <a:rPr sz="2200"/>
            </a:b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profesión,  una que no paga con un salario, sino con                                         la satisfacción de ayudar a los demás.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l primer año (2007) en que proporcioné                                                 asesoramiento en SHIBA solo tuve 16 clientes. En                                                  2021, tuve más de 220 contactos de asesoramiento a                                     clientes.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l caso es que se me dio bien el asesoramiento.  Es DIVERTIDO hacer cosas en las que eres bueno.  Es un trabajo para sentirse bien: un cliente o una familia llegan a la sesión de asesoramiento llenos de preocupación y ansiedad (y miedo), y, 45 minutos después, salen felices y sonrientes, con el problema entendido y resuelto, o en vías de resolverse.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200" spc="-1" strike="noStrike">
                <a:solidFill>
                  <a:srgbClr val="000000"/>
                </a:solidFill>
                <a:latin typeface="Calibri"/>
                <a:ea typeface="Calibri"/>
              </a:rPr>
              <a:t>Una vez que comienzas a ayudar a los demás, simplemente no puedes parar de hacerlo.  Se convierte en una parte muy importante de tu vida”.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FE5AA-2F9C-42BF-A57A-FADAC98441A9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0F545-BEC5-469A-AF71-550EB8E92B9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65" name="Picture 2" descr="Una persona sentada frente a una computadora. 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6516720" y="1106640"/>
            <a:ext cx="237636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William Chao, voluntario de SHI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60360" y="1310760"/>
            <a:ext cx="844560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“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Me gusta aprender, así que estoy a cargo de la capacitación.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Recibo la formación de los programas y brindo los conocimientos que aprendo a las personas mayores de mi comunidad en mi idiom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as personas mayores se sienten solas y no reciben mucha ayuda de los demás, ni siquiera de sus hijos, quienes están ocupados y tienen diferentes culturas y educación, por lo que no quieren hablar con ellos; entonces, tienen que acudir a la comunidad formada por personas de su edad”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53F13-A0FA-422E-86C8-E88A1BA799D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3B337-BDD3-4CCD-BAA3-8F08E0EA098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Gary Schwartz, voluntario de SHI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60360" y="1195560"/>
            <a:ext cx="84456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“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nsidero que mi experiencia con SHIP, ser un mentor y formar parte del programa, es a la vez desafiante y emocionante porque puedo ayudar a las personas a progresar a partir de su situación”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C2265-101A-4D7C-9974-ED0C3AEA335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72969-0F58-4B58-B2E4-D58723CD25A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76" name="pI4Qayateug" descr=""/>
          <p:cNvPicPr/>
          <p:nvPr/>
        </p:nvPicPr>
        <p:blipFill>
          <a:blip r:embed="rId1"/>
          <a:stretch/>
        </p:blipFill>
        <p:spPr>
          <a:xfrm>
            <a:off x="2425680" y="2995560"/>
            <a:ext cx="4314960" cy="30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Cómo encontrar su lugar en SHIBA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06440" y="1103400"/>
            <a:ext cx="8399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uando se convierte en voluntario,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trabajamos con usted para adaptar su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habilidades e intereses a las necesidade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del programa de SHIBA. 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mo resultado, los voluntarios pueden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servir a los clientes de Medicare, su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    familias y cuidadores de muchas maneras 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	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       creativas. 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Obtenga más información sobre SHIBA y el voluntariado. Comuníquese con nosotros al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4400" spc="-1" strike="noStrike">
                <a:solidFill>
                  <a:srgbClr val="06355a"/>
                </a:solidFill>
                <a:latin typeface="Segoe UI"/>
                <a:ea typeface="Segoe UI"/>
              </a:rPr>
              <a:t>1-800-562-6900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CF72E-CB22-4194-96E6-CCA4D74B5C5C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F2DEC-856D-482F-AFB9-C6C209BD5AB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83" name="Picture 7" descr=""/>
          <p:cNvPicPr/>
          <p:nvPr/>
        </p:nvPicPr>
        <p:blipFill>
          <a:blip r:embed="rId1"/>
          <a:stretch/>
        </p:blipFill>
        <p:spPr>
          <a:xfrm>
            <a:off x="6443640" y="981000"/>
            <a:ext cx="2484360" cy="3799080"/>
          </a:xfrm>
          <a:prstGeom prst="rect">
            <a:avLst/>
          </a:prstGeom>
          <a:ln w="0">
            <a:noFill/>
          </a:ln>
        </p:spPr>
      </p:pic>
      <p:sp>
        <p:nvSpPr>
          <p:cNvPr id="684" name="TextBox 8"/>
          <p:cNvSpPr/>
          <p:nvPr/>
        </p:nvSpPr>
        <p:spPr>
          <a:xfrm>
            <a:off x="7012080" y="2711520"/>
            <a:ext cx="138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¡Únase 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a 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nuestro 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600" spc="-1" strike="noStrike">
                <a:solidFill>
                  <a:srgbClr val="06355a"/>
                </a:solidFill>
                <a:latin typeface="Comic Sans MS"/>
                <a:ea typeface="News Gothic MT"/>
              </a:rPr>
              <a:t>equipo!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Programas SHIP a nivel nacional</a:t>
            </a: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	</a:t>
            </a: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	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gramas estatales de asistencia con el seguro médico (State Health Insurance Assistance Programs, SHIP)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porcionan asesoramiento gratuito, detallado y personalizado sobre los seguros.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Disponibles en los 50 estados y Washington D.C., Guam, Puerto Rico y las Islas Vírgenes de los Estados Unid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yectos financiados mediante subvenciones de la Administración para la Vida Comunitaria (Administration for Community Living, ACL) del Departamento de Salud y Servicios Humanos (Health and Human Services, HHS) federal de los EE. UU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87515-AE56-40BF-B075-E4F987065D2F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9B51F-295B-46BA-A317-E99811451BD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Información sobr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60360" y="1122480"/>
            <a:ext cx="84456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sesores sobre los beneficios del seguro médico a nivel estatal (Statewide Health Insurance Benefits Advisors, SHIBA) es el programa de los SHIP para el estado de Washington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porciona ayuda gratuita, imparcial y confidencial sobre Medicare y las opciones de atención médica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Forma parte de la División de Protección al Consumidor (Consumer Protection Division) de la Oficina del Comisionado de Seguros (Office of the Insurance Commissioner, OIC) del estado de Washington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Los asesores voluntarios ayudan a la población local a evaluar sus necesidades de cobertura de atención médica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06788-2675-409C-A439-0A2EA728B491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6F1F3-2498-47F3-A803-FBF838828D3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Historia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41000" y="2060640"/>
            <a:ext cx="8142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Comenzó con un pequeño grupo de voluntarios en el condado de Skagit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Funciona desde 1979 como parte de la Oficina del Comisionado de Seguros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Es el primer programa de este tipo en el país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Está reconocido a nivel nacional como un modelo de asesoramiento al consumidor de seguros médicos, ya que inspiró el financiamiento federal de 1990 para crear el modelo SHIP que tenemos hoy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Contamos con 20 agencias patrocinadoras locales, que representan a los 39 condados del estado de Washington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17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C1B53-93B4-48B7-9989-1DCE258AD33E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FD6AF-2CCA-417B-9E2E-1C4827D0FFE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360360" y="1135080"/>
            <a:ext cx="8445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700" spc="-1" strike="noStrike">
                <a:solidFill>
                  <a:srgbClr val="000000"/>
                </a:solidFill>
                <a:latin typeface="Segoe UI"/>
                <a:ea typeface="Wingdings"/>
              </a:rPr>
              <a:t>Asesores sobre los beneficios del seguro médico a nivel estatal (SHIBA)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Misió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60360" y="1154160"/>
            <a:ext cx="844560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HIBA proporciona información gratuita e imparcial sobre la cobertura y el acceso a la atención médica, para ayudar a mejorar la vida de todos los residentes del estado de Washington. Fomentamos la participación comunitaria a través de la colaboración, el servicio y el voluntariad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HIBA es un sistema de educación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y derivación, formado por los 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iguientes actores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Voluntarios de la comunidad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gencias patrocinadoras locale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ersonal de la OIC/SHIBA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DC600-428F-4C9C-9423-5162AACD6773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83CD3-6558-4619-A2FD-D827784D853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5241960" y="2859120"/>
            <a:ext cx="317484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Beneficios del program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60000" y="1143000"/>
            <a:ext cx="86756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¡ES GRATUITO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Es imparcial y objetivo (sin afiliación a ninguna compañía de seguros ni a ningún producto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Es confidencia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Tiene oficinas accesibles en casi todos los condado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7EC76-D9C3-4237-988C-5643B12B559C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15120-61DF-4E7B-B24E-3B661E5B82B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35" name="Picture 2" descr="Un grupo de personas posando para una foto Descripción generada automáticamente"/>
          <p:cNvPicPr/>
          <p:nvPr/>
        </p:nvPicPr>
        <p:blipFill>
          <a:blip r:embed="rId1"/>
          <a:stretch/>
        </p:blipFill>
        <p:spPr>
          <a:xfrm>
            <a:off x="1263600" y="3692520"/>
            <a:ext cx="60642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Cómo ayudamos a las persona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60360" y="1197000"/>
            <a:ext cx="84456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las necesidades individuales de cobertura médica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Comprobamos la elegibilidad para diversos programa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y comparamos las pólizas y los programa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Identificamos y                                                             denunciamos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osibles fraude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Hacemos derivaciones a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otras agencias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grama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C6C26-54BC-4E0B-99A1-AAA5B1FCB37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8DF81-A808-42CB-9927-7DE538B5824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4600440" y="3425760"/>
            <a:ext cx="424836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84678"/>
                </a:solidFill>
                <a:latin typeface="Segoe UI"/>
              </a:rPr>
              <a:t>Actividades y funciones de los voluntarios de SHIBA</a:t>
            </a:r>
            <a:endParaRPr b="0" lang="en-US" sz="28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60360" y="1123920"/>
            <a:ext cx="844560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Brindar asesoramiento personalizad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Organizar presentaciones y talleres públic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articipar en ferias de salud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eventos especiale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Proporcionar información sobre                                          los programas comunitarios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yudar a las personas a acceder                                            a los benefici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1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yudar a captar y </a:t>
            </a:r>
            <a:br>
              <a:rPr sz="2400"/>
            </a:b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orientar a nuevos voluntarios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6C31C-756F-44BD-B5FE-EC8E62F0000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1E98E-DA4C-4546-A7F6-EAD2C743BDA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5460840" y="2303640"/>
            <a:ext cx="310536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Ejemplos de funciones de los voluntari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poyo administrativo, técnico y de oficin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ducación comunitaria y charlas pública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romoció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sesoramiento sobre                                    Medicar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pacitación y orientació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Registro de dato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specialista en fraud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royectos especial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6F8EB-CFB9-4BCA-A4E8-20137546F5E9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59369-5908-4120-86D5-88220A7037F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ea voluntario de 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53" name="Picture 2" descr="Un grupo de personas mirando un papel Descripción generada automáticamente con confianza baja"/>
          <p:cNvPicPr/>
          <p:nvPr/>
        </p:nvPicPr>
        <p:blipFill>
          <a:blip r:embed="rId1"/>
          <a:stretch/>
        </p:blipFill>
        <p:spPr>
          <a:xfrm>
            <a:off x="5175360" y="2349360"/>
            <a:ext cx="3674880" cy="360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>Public slide show about all the ins and outs of Medicare</dc:description>
  <cp:keywords/>
  <dc:language>en-US</dc:language>
  <cp:lastModifiedBy>Wells, Donna (OIC)</cp:lastModifiedBy>
  <cp:lastPrinted>2018-03-02T16:25:59Z</cp:lastPrinted>
  <dcterms:modified xsi:type="dcterms:W3CDTF">2024-01-23T22:01:23Z</dcterms:modified>
  <cp:revision>503</cp:revision>
  <dc:subject>SHIBA's volunteer recruitment public presentation</dc:subject>
  <dc:title>Sea voluntario en SHIB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onOverlay">
    <vt:lpwstr/>
  </property>
  <property fmtid="{D5CDD505-2E9C-101B-9397-08002B2CF9AE}" pid="3" name="TaxCatchAll">
    <vt:lpwstr/>
  </property>
  <property fmtid="{D5CDD505-2E9C-101B-9397-08002B2CF9AE}" pid="4" name="lcf76f155ced4ddcb4097134ff3c332f">
    <vt:lpwstr/>
  </property>
</Properties>
</file>