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CEA4F-18AB-4C9E-A1D2-26752FF1B8ED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move the slide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40B3D2-34AD-46A8-81C8-FA5C3CBE0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187B1-CA82-4F85-9771-8FE0ED5F043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C3894-16FD-4481-A73A-2225FAD3813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883F1-F030-4A44-A848-2B3FDE86F01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A1418-10AE-4025-872B-88EF92A063A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Cubrimos el estado con 16 patrocinadores, 5 consultores regionales de capacitación (Regional Training Consultant, RTC), 225 voluntari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D9BD5-6907-4D56-9DD7-2F8AFEC15D5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6720" indent="-282240">
              <a:spcBef>
                <a:spcPts val="349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400" spc="-1" strike="noStrike">
                <a:solidFill>
                  <a:srgbClr val="000000"/>
                </a:solidFill>
                <a:latin typeface="Calibri"/>
              </a:rPr>
              <a:t>Director del programa: enlace con los CMS, medidas de desempeño, control de calidad, cumplimiento de contact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282240">
              <a:spcBef>
                <a:spcPts val="349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400" spc="-1" strike="noStrike">
                <a:solidFill>
                  <a:srgbClr val="000000"/>
                </a:solidFill>
                <a:latin typeface="Calibri"/>
              </a:rPr>
              <a:t>Supervisor de consultores regionales de capacitación: administra a 6 capacitadores regionales y un redactor de currículum. Los consultores regionales de capacitación apoyan a los patrocinadores, capacitan a los voluntarios, ayudan a alcanzar el desempeño y toman casos difíciles.  Son expertos en temas (Subject Matter Expert, SME), como Dale y su capacitación sobre fraud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282240">
              <a:spcBef>
                <a:spcPts val="349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400" spc="-1" strike="noStrike">
                <a:solidFill>
                  <a:srgbClr val="000000"/>
                </a:solidFill>
                <a:latin typeface="Calibri"/>
              </a:rPr>
              <a:t>El coordinador de contratos y subvenciones redacta y supervisa los contratos de los patrocinadores, redacta y coordina las subvenciones del programa y redacta inform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282240">
              <a:spcBef>
                <a:spcPts val="349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400" spc="-1" strike="noStrike">
                <a:solidFill>
                  <a:srgbClr val="000000"/>
                </a:solidFill>
                <a:latin typeface="Calibri"/>
              </a:rPr>
              <a:t>El mentor de coordinadores de voluntarios (Volunteer Coordinator, VC) y de difusión supervisa los eventos de difusión a nivel estatal y asesora a los VC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282240">
              <a:spcBef>
                <a:spcPts val="349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400" spc="-1" strike="noStrike">
                <a:solidFill>
                  <a:srgbClr val="000000"/>
                </a:solidFill>
                <a:latin typeface="Calibri"/>
              </a:rPr>
              <a:t>El coordinador de comunicaciones ayuda al patrocinador local a promocionar los servicios de SHIBA, escribe contenido web, redacta y administra las publicaciones del program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282240">
              <a:spcBef>
                <a:spcPts val="349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400" spc="-1" strike="noStrike">
                <a:solidFill>
                  <a:srgbClr val="000000"/>
                </a:solidFill>
                <a:latin typeface="Calibri"/>
              </a:rPr>
              <a:t>Coordinadores de voluntarios: desarrollo de voluntarios, asesoramiento, event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282240">
              <a:spcBef>
                <a:spcPts val="349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400" spc="-1" strike="noStrike">
                <a:solidFill>
                  <a:srgbClr val="000000"/>
                </a:solidFill>
                <a:latin typeface="Calibri"/>
              </a:rPr>
              <a:t>Voluntarios: asesoramiento, eventos, apoy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55EC48-5CBB-4B51-8075-A8485038680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889E5-C93B-42B6-B127-7431EA2B608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1200" spc="-1" strike="noStrike">
                <a:solidFill>
                  <a:srgbClr val="000000"/>
                </a:solidFill>
                <a:latin typeface="Arial"/>
              </a:rPr>
              <a:t>Si nos llam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odemos remitirlo para que reciba asesoramiento y asistencia loc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odemos darle respuestas simples por teléfono o programar una sesión de asesoramiento con u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1200" spc="-1" strike="noStrike">
                <a:solidFill>
                  <a:srgbClr val="000000"/>
                </a:solidFill>
                <a:latin typeface="Arial"/>
              </a:rPr>
              <a:t>En líne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uede ordenar, descargar o ver nuestras publicaci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1200" spc="-1" strike="noStrike">
                <a:solidFill>
                  <a:srgbClr val="000000"/>
                </a:solidFill>
                <a:latin typeface="Arial"/>
              </a:rPr>
              <a:t>Mediante cualquiera de estos métodos de contac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uede encontrar su oficina local de SHIBA más cerca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Obtenga un orador de la línea telefónica de ayuda de SHIBA para su grup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Averigüe cómo puede ser voluntario de SHIB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CFCE7-C1BA-4D14-9808-FEAF81FB691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35956-909A-432F-ADF3-333BFD0119F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Si muestra primero el video de SHIB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Como pudo observar en el video que acabamos de ver, SHIBA es un programa especial de la División de Protección al Consumidor de 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Oficina del Comisionado de Seguros del estado de Washing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Gratuito = no cobramos por nuestros servici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Imparcial = no estamos afiliados a ningún plan, compañía ni producto de seguros médic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Realmente queremos llegar a las personas que normalmente no se comunicarían con nosot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802977-192E-4F70-9A58-9FD2C09C6B9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Le contaremos un poco sobre la historia de nuestro program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resupuesto de 500,000 millones de dólares de Medic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SHIBA funciona desde 197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Fuimos el primer programa de este tipo en el paí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SHIBA comenzó con un grupo de voluntarios del condado de Skag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Tenemos aproximadamente 400 voluntarios a nivel estatal y 20 agencias patrocinadoras loc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A nivel nacional, otros grupos reconocen a SHIBA como un modelo para el asesoramiento sobre los segu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Inspiramos el financiamiento federal para crear programas estatales de seguro médico en todos los estados y territorios de EE. U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rogramas del Gobiern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Ayuda para inscribi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Buscador de planes de recet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eríodo de inscripción abier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20 agencias, y la mayoría presta servicios en diversos cond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DCD0B-18BB-4236-902C-F82119D1CB6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rograma Estatal de Asistencia con el Seguro Médico (State Health Insurance Assistance Program, SHIP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Llamamos al SHIP SHIB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Los Centros de Servicios de Medicare y Medicaid (Centers for Medicare &amp; Medicaid Services, CMS) nos llaman el socio comunitario, en las comunidades, cuando hacemos el trabaj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Las medidas de desempeño son complejas:  ocho medidas, seis partes del condado, diferentes relevanci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Las futuras concesiones de subvenciones incluirán el desempeño como parte de la fórmul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0520A-B2BF-4241-BBA4-E077FB487B2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restamos servicios y ayudamos a aproximadamente más de 94,000 personas al año con asesoramiento y a otras 2,400 más mediante eventos públic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Le damos un ejemplo de cómo ayudamos a las person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Uno de nuestros voluntarios conoció y asesoró</a:t>
            </a:r>
            <a:r>
              <a:rPr b="0" lang="es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a un joven asiático con una discapacidad que tenía </a:t>
            </a:r>
            <a:r>
              <a:rPr b="1" lang="es-US" sz="1200" spc="-1" strike="noStrike">
                <a:solidFill>
                  <a:srgbClr val="000000"/>
                </a:solidFill>
                <a:latin typeface="Arial"/>
              </a:rPr>
              <a:t>muy</a:t>
            </a: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 poco conocimiento de Medicare y Medicaid.</a:t>
            </a:r>
            <a:r>
              <a:rPr b="0" lang="es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Antes de acercarse a SHIBA, varias personas y agencias lo habían enviado a muchos otros lugares para pedir ayuda, y estaba bastante preocupado porque no podía recibir la ayuda que necesitab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Sus ingresos estaban por debajo del Nivel Federal de Pobreza y no tenía bienes cuantificables.</a:t>
            </a:r>
            <a:r>
              <a:rPr b="0" lang="es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Tuvo que pedir prestados $490 solo para comprarse un solo medicamento para su afección.</a:t>
            </a:r>
            <a:r>
              <a:rPr b="0" lang="es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Nuestro voluntario investigó un poco en el sitio web de Medica</a:t>
            </a:r>
            <a:r>
              <a:rPr b="0" lang="es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e y descubrió que este joven ya se había inscrito automáticamente en un plan de medicamentos recetados con subsidio por bajos ingresos.</a:t>
            </a:r>
            <a:r>
              <a:rPr b="0" lang="es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El cliente no sabía esto y no tenía tarjeta de identificación.</a:t>
            </a:r>
            <a:r>
              <a:rPr b="0" lang="es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El voluntario se comunicó con el personal del plan de medicamentos</a:t>
            </a:r>
            <a:r>
              <a:rPr b="0" lang="es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ara obtener un formulario de reembolso y una tarjeta de identificación nueva.</a:t>
            </a:r>
            <a:r>
              <a:rPr b="0" lang="es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El voluntario también le dio indicaciones a este joven sobre cómo usar su tarjeta de identificación y el plan, y le dijo que le haría un seguimiento para asegurarse de que todo vaya bien.</a:t>
            </a:r>
            <a:r>
              <a:rPr b="0" lang="es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El joven se fue muy alivi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Esta es solo una de las muchas formas en que ayudamos a las person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US" sz="1200" spc="-1" strike="noStrike">
                <a:solidFill>
                  <a:srgbClr val="000000"/>
                </a:solidFill>
                <a:latin typeface="Arial"/>
              </a:rPr>
              <a:t>Nota para el orador:  Si lo prefiere, puede elegir su propio caso, solo recuerde omitir los nombres y otra información confiden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4640F-2655-4343-8BE1-DDC637FB9F1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odemos ayudarlo con lo siguien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71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Seguro individ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71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rogramas del Gobier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71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lanes relacionados con el empl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71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Opciones de cuidado prolong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71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Problemas con discapacida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71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Fraude y abu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71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Seguro médico y de jubil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71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Medicamentos recetad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46B34-B56E-4FC8-B5F6-D69003D6151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Mencione la identificación única que usan los voluntarios (no todos), según su fun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200" spc="-1" strike="noStrike">
                <a:solidFill>
                  <a:srgbClr val="000000"/>
                </a:solidFill>
                <a:latin typeface="Arial"/>
              </a:rPr>
              <a:t>Los voluntarios requieren la verificación de anteceden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spcAft>
                <a:spcPts val="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C2CFD-D8E5-4C4D-B060-787C02722AC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4CD16-7864-478D-9426-DBFC0E086E8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0F592-2C39-4BDC-9E30-970B611BDE8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4811-651A-497F-A80D-F033A605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CF6D-C14C-4678-9D50-4A535EBA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8E6523-1BD2-48B0-9AD0-8953BE66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20F884-019E-441C-8185-AD29A595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B501A5-2C15-4737-B059-BFC28AC7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3CB7C8-B490-452B-BACE-86DCAA2F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6904C6-59B5-4AE5-9273-C0B4EB98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180FFF-9504-44BF-A418-4162ECD0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24D39A-29A3-4443-B899-73942E7A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30F6B8-9673-4FC1-9AEE-8092AFCE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E1FA79-1269-4596-970C-70A98C8E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A4063A-646C-4813-A6B3-11EDA001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D6E-E11A-411D-B40B-DE0EFA7E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A487B9-C3AD-4320-83BF-A698E85F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6ED389-B13B-4F7F-8C41-972B7A08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C5F920-EFBD-480F-8E99-13C84F8C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0B6E7E-939B-4210-8174-F3497D9E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9DAF33-73AA-4C75-8FE4-4E419AC2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AA7E81-FAE5-4CBC-90CB-2FEC902A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75AE46-8393-4813-954C-3ED877E9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DBE840-DBE1-4A77-A7EF-F2FF05BE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D6ADE2-BBA7-4EF1-8BFF-03FD5BAC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110F57-47C8-4500-994C-23E5E7FD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47D9-DD41-461E-B461-227C6026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93020E-7303-411C-8D93-84CA0919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C5445B-F35E-4D9C-AC95-754147F5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B62DDD-87EC-4481-8BAD-DF9157CD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79F836-496D-4703-82E9-411985E0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2F39BF-D621-40E9-8637-AC748F8A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ED5438-584C-4325-B5F0-F7340D49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35DDEC-CFF0-4E2B-A8FE-807B27CE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2236A5-B483-4F28-9300-07C62209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A0871A-A1ED-4057-8C69-800B2F24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4FA2BF-9338-4C43-AE4C-309A8D9A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D7E466-2353-43E5-A412-A2198290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864B1D-191D-497B-BE8A-192A7276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D4844C-AD02-4808-8F7A-97DB2E86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56B5C-33C8-4948-AA83-9BDA344F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FDB14-738C-484B-8C9D-38B63C3E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C3504-E903-4E42-BC41-8B322EDA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FEF0A-2415-4728-81F3-47B59F08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107E4-D67D-44C2-B0A0-2064DA43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F4729-3D11-4B75-A969-B6D9DCC5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2E3FE-FC7F-4AE8-9FF5-F283A33E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AB60C-BEA7-4713-8AC2-B1663E07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BF267-D52C-4813-8E1A-350B4EDD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DFF9C-C6CF-411C-8F94-D6F9ECFD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4447B-7017-4EBD-9D8D-E0E56799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1182C-7F13-48F9-908B-94DC30F1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F2465E-D0C7-417B-A45A-612A6B71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EDCDE6-E540-4BBF-B6A5-086FB1DC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08D652-6A18-4F7F-BBF5-AD5CA905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A4FB52-F6C6-4F29-80A9-EFD4E4F6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65580F-1D64-461B-AD56-70B008E7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96BC00-1507-40A1-9AF0-B58107F8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9D0E06-15D1-4EF2-9F2C-D8965EEE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F95799-2211-4861-875F-B575AE4E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3245A1-5E1D-4FE7-B9FE-2D388F99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6EEAB6-0446-4357-B351-838EAD05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8F2D65-0BAB-424A-9BDA-37D64340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E97DAF-C9CF-4693-89C6-F855B0BB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9995-A80B-4B7C-96F8-073E024C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E9E5-CEE3-477A-9FA0-3DB516D1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485E-419B-44B4-8C5A-3A539212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F9BE-0000-4A9B-8E4A-AB5414DD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F2C4-5C04-4DE3-910F-FCD7311E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3138-91C9-419E-A4FD-2F0FD1E1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4FE9-B6D9-480F-B18B-B5D567AA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9791-959F-4250-9BAF-09804EAA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3521-F745-4A3F-BF1A-F1BB8163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255F-8DC1-4099-826D-E0C54E7B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0B0F-B9A7-4067-BA8A-C8B09E4A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71E5-BEEE-490C-904E-9949B751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9A7B-C646-4CE0-8943-59B01D20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BCB5-2C06-4241-9D79-1B19874D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4F46-E58E-444C-B0EF-0ED7EB37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53DCA-BBE9-4D35-9CD3-7F878430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0AF-F291-4CF3-8B1E-59B5A542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491B0-AC0B-40EC-BA89-E5BEE88F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4287A-F4F8-4499-8723-9B315723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4DCB2-E9D6-4629-B11B-B041C377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42C89-ABF9-49C9-A561-1F852281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6833F-F637-4BE4-9CF0-FB94EBB7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7D34F-9A95-417F-BB6B-4A789C0E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626F9-AD32-4581-8168-EA599409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1E16B-AEE6-4EF4-BC7D-B3656F5F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9FD6D-DBC5-4CB2-8529-CEF38DD4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A302E-A9D9-4145-98DB-37525CC8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5A9B-0003-4B4B-909A-4C87C1C9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15E33-4747-4749-9AA0-A575B982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15564-27F7-48EB-B76E-2F956D71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35AD0-8F84-48BD-B757-F6A3E43F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36F2D-8E5E-474F-BD01-C299E130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4C624-128F-4744-A86C-F748F85D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8DC3A-6090-4CF6-B38F-BADFBF98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B3F7B-64FC-4C2C-8513-E57B5434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3B830-8BD0-4FCD-B894-2EB53A93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FF63E-DD99-47ED-9BE5-73383303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A137F-7A6C-4491-AE23-D0A8FBC4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410C-0592-4F83-9E43-7ADFEB4E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DA5AA-65CB-46D5-B753-8ED140A3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8C9AC-3DC0-4742-B444-26E5A597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A9637-B896-4BE3-B25D-7A538181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74F6C-30D7-487F-BC9F-2606E4D0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F80C3-7B19-4CF8-A9FF-D36ADFBA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0A639-3AB1-423A-96F9-D1EE863C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8B01C-8BBE-4A85-834A-835AF5BC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D9170-8DB2-4351-AE69-F6327AF1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D8C19-09EC-468B-9A8A-7D5A6311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CA1C9-6962-40C7-A5E7-F6DDAE8D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BFD4-A391-4F1B-8F59-F2B22455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1FC1A-385A-4C85-8B1D-EB8A1E71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EA181-C043-453F-AE55-0B0AB8EE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07428-1F4F-4837-83FD-614D8701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176AA-B8CE-4364-AA9E-E673D8DA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63E9B-5AB1-463F-AC82-2F5433D5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1CA35-FF66-407C-B053-E2B5E4DC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7CC4A-62C3-4B6F-8DBA-4AE65E8C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A8BC6-BC28-4EE0-A037-0B359F7D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5BF1A-93D5-4BB3-BDBB-16372548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3E545-FAA3-4722-A09D-80E03585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40E7-2F69-4F27-96E0-AE2C2EBA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60360" y="328680"/>
            <a:ext cx="8445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5FB8C-03EA-48D2-87F4-5E57FADB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84BA2-AA3B-4E2E-A336-643BF1AD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C8C31-4287-486C-A818-60397C27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FEBEF-EADF-4260-851B-CD6C6316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60360" y="3675240"/>
            <a:ext cx="8445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E3D09-72E1-4D67-B2A5-21351DBF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7920" y="131076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6036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87920" y="3675240"/>
            <a:ext cx="41212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332E4-47AA-4F9E-BCA4-11BFDC9E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1588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71040" y="131076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6036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1588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71040" y="3675240"/>
            <a:ext cx="2719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5DBD7-6D5B-4830-91EC-FDFB6F3F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49B4E4-3306-48BF-9218-3C28BEA8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9AF342-E0C8-4588-88E7-18E571D4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37ECF0-F639-45B9-BCDC-8FE370B8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1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3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91764-6F6E-45ED-8540-AB5A7A9C130E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B56DBE-EC43-4CEA-966E-D60F03FE59DB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417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418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419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4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CAAC0-53B8-4317-8B18-676111C8F514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5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6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66CE1-D29E-4632-9163-3939C1CEA1BA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462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464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7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EDC39-D674-4E91-9783-80B51BDADBF0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8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9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FCBD4-21D9-46E9-89A0-CD6F967B49C2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507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508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509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0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30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76C0C-D58B-4347-BDDC-AE38FAEED718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dt" idx="31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2ABA9-27CF-4779-8C30-627AAAD715B4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ftr" idx="32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553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554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555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3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DE743-5986-4074-80C6-DE5CD09E1459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4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5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F4027-5B4C-4779-8862-D847A434F100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0" y="3846600"/>
            <a:ext cx="9144000" cy="30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grpSp>
        <p:nvGrpSpPr>
          <p:cNvPr id="46" name="Group 11"/>
          <p:cNvGrpSpPr/>
          <p:nvPr/>
        </p:nvGrpSpPr>
        <p:grpSpPr>
          <a:xfrm>
            <a:off x="0" y="5683320"/>
            <a:ext cx="9144000" cy="795240"/>
            <a:chOff x="0" y="5683320"/>
            <a:chExt cx="9144000" cy="795240"/>
          </a:xfrm>
        </p:grpSpPr>
        <p:sp>
          <p:nvSpPr>
            <p:cNvPr id="47" name="Rectangle 7"/>
            <p:cNvSpPr/>
            <p:nvPr/>
          </p:nvSpPr>
          <p:spPr>
            <a:xfrm>
              <a:off x="0" y="5823000"/>
              <a:ext cx="26964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2994120" y="5823000"/>
              <a:ext cx="614988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49" name="Picture 16" descr="SHIBAlogo_RGB_landscape.png"/>
            <p:cNvPicPr/>
            <p:nvPr/>
          </p:nvPicPr>
          <p:blipFill>
            <a:blip r:embed="rId2"/>
            <a:stretch/>
          </p:blipFill>
          <p:spPr>
            <a:xfrm>
              <a:off x="424080" y="5683320"/>
              <a:ext cx="2417400" cy="79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9" descr="C:\Documents and Settings\ab29\Local Settings\Temporary Internet Files\Content.IE5\8SIXVW2N\MP900409640[1].jpg"/>
          <p:cNvPicPr/>
          <p:nvPr/>
        </p:nvPicPr>
        <p:blipFill>
          <a:blip r:embed="rId3"/>
          <a:srcRect l="52223" t="7862" r="0" b="12820"/>
          <a:stretch/>
        </p:blipFill>
        <p:spPr>
          <a:xfrm>
            <a:off x="4784760" y="3240"/>
            <a:ext cx="2128680" cy="353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Documents and Settings\ab29\Local Settings\Temporary Internet Files\Content.IE5\7ZND71FB\MP900309115[1].jpg"/>
          <p:cNvPicPr/>
          <p:nvPr/>
        </p:nvPicPr>
        <p:blipFill>
          <a:blip r:embed="rId4"/>
          <a:srcRect l="3227" t="0" r="0" b="3337"/>
          <a:stretch/>
        </p:blipFill>
        <p:spPr>
          <a:xfrm>
            <a:off x="2473200" y="3240"/>
            <a:ext cx="2354400" cy="3535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C:\Documents and Settings\ab29\Local Settings\Temporary Internet Files\Content.IE5\I0WIJ97D\MP900438813[1].jpg"/>
          <p:cNvPicPr/>
          <p:nvPr/>
        </p:nvPicPr>
        <p:blipFill>
          <a:blip r:embed="rId5"/>
          <a:srcRect l="0" t="0" r="0" b="4700"/>
          <a:stretch/>
        </p:blipFill>
        <p:spPr>
          <a:xfrm>
            <a:off x="0" y="-7920"/>
            <a:ext cx="2575080" cy="3543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hispanic over 65 couple.JPG"/>
          <p:cNvPicPr/>
          <p:nvPr/>
        </p:nvPicPr>
        <p:blipFill>
          <a:blip r:embed="rId6"/>
          <a:srcRect l="45940" t="-12" r="11772" b="1211"/>
          <a:stretch/>
        </p:blipFill>
        <p:spPr>
          <a:xfrm>
            <a:off x="6870600" y="7920"/>
            <a:ext cx="2273400" cy="3525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62200" y="5216040"/>
            <a:ext cx="52437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84678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F5867-1C40-4B45-9EAC-775F8A81A0DC}" type="datetime">
              <a:rPr b="0" lang="en-US" sz="1100" spc="-1" strike="noStrike">
                <a:solidFill>
                  <a:srgbClr val="084678"/>
                </a:solidFill>
                <a:latin typeface="Segoe UI"/>
                <a:ea typeface="News Gothic MT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5340240"/>
            <a:chOff x="0" y="0"/>
            <a:chExt cx="9144000" cy="5340240"/>
          </a:xfrm>
        </p:grpSpPr>
        <p:sp>
          <p:nvSpPr>
            <p:cNvPr id="94" name="Rectangle 4"/>
            <p:cNvSpPr/>
            <p:nvPr/>
          </p:nvSpPr>
          <p:spPr>
            <a:xfrm>
              <a:off x="0" y="0"/>
              <a:ext cx="9144000" cy="534024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95" name="Right Triangle 7"/>
            <p:cNvSpPr/>
            <p:nvPr/>
          </p:nvSpPr>
          <p:spPr>
            <a:xfrm>
              <a:off x="0" y="1065240"/>
              <a:ext cx="8148600" cy="4275000"/>
            </a:xfrm>
            <a:prstGeom prst="rtTriangle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grpSp>
        <p:nvGrpSpPr>
          <p:cNvPr id="96" name="Group 14"/>
          <p:cNvGrpSpPr/>
          <p:nvPr/>
        </p:nvGrpSpPr>
        <p:grpSpPr>
          <a:xfrm>
            <a:off x="0" y="5683320"/>
            <a:ext cx="9144000" cy="795240"/>
            <a:chOff x="0" y="5683320"/>
            <a:chExt cx="9144000" cy="795240"/>
          </a:xfrm>
        </p:grpSpPr>
        <p:sp>
          <p:nvSpPr>
            <p:cNvPr id="97" name="Rectangle 10"/>
            <p:cNvSpPr/>
            <p:nvPr/>
          </p:nvSpPr>
          <p:spPr>
            <a:xfrm>
              <a:off x="0" y="5823000"/>
              <a:ext cx="26964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2994120" y="5823000"/>
              <a:ext cx="6149880" cy="5014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99" name="Picture 18" descr="SHIBAlogo_RGB_landscape.png"/>
            <p:cNvPicPr/>
            <p:nvPr/>
          </p:nvPicPr>
          <p:blipFill>
            <a:blip r:embed="rId2"/>
            <a:stretch/>
          </p:blipFill>
          <p:spPr>
            <a:xfrm>
              <a:off x="424080" y="5683320"/>
              <a:ext cx="2417400" cy="79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3562200" y="3231720"/>
            <a:ext cx="52437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84678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1DE29-27AE-477C-8493-F4B06F714028}" type="datetime">
              <a:rPr b="0" lang="en-US" sz="1400" spc="-1" strike="noStrike">
                <a:solidFill>
                  <a:srgbClr val="084678"/>
                </a:solidFill>
                <a:latin typeface="Segoe UI"/>
                <a:ea typeface="News Gothic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140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142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10"/>
          <p:cNvGrpSpPr/>
          <p:nvPr/>
        </p:nvGrpSpPr>
        <p:grpSpPr>
          <a:xfrm>
            <a:off x="0" y="0"/>
            <a:ext cx="9144000" cy="3846600"/>
            <a:chOff x="0" y="0"/>
            <a:chExt cx="9144000" cy="3846600"/>
          </a:xfrm>
        </p:grpSpPr>
        <p:sp>
          <p:nvSpPr>
            <p:cNvPr id="144" name="Rectangle 2"/>
            <p:cNvSpPr/>
            <p:nvPr/>
          </p:nvSpPr>
          <p:spPr>
            <a:xfrm>
              <a:off x="0" y="0"/>
              <a:ext cx="9144000" cy="38466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45" name="Right Triangle 7"/>
            <p:cNvSpPr/>
            <p:nvPr/>
          </p:nvSpPr>
          <p:spPr>
            <a:xfrm>
              <a:off x="0" y="766800"/>
              <a:ext cx="5870520" cy="3079800"/>
            </a:xfrm>
            <a:prstGeom prst="rtTriangle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53CD9-F0F6-49CF-9A90-737E92A68811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dt" idx="7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7B7D5-82DF-4431-9372-0825AFDB4AC3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188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89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190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9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A4EC2-FC18-4486-A336-1DEFDEFD8DF6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dt" idx="10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2A61A-B68A-4790-A2D6-18F555D7FF06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11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234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35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236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2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2AE1A-F654-4470-B6A5-7427D9F2B4C6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dt" idx="13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AB44D-85CC-4C0D-A30C-7E950CC38D4D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14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280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281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282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15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BA75D-1944-47F6-A56E-D2B5592C7BBD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dt" idx="16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F3FBF-491A-4DEC-B796-4B9061084980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17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326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328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Straight Connector 1"/>
          <p:cNvSpPr/>
          <p:nvPr/>
        </p:nvSpPr>
        <p:spPr>
          <a:xfrm>
            <a:off x="360360" y="995400"/>
            <a:ext cx="8445600" cy="0"/>
          </a:xfrm>
          <a:prstGeom prst="line">
            <a:avLst/>
          </a:prstGeom>
          <a:ln w="25560">
            <a:solidFill>
              <a:srgbClr val="084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8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0FCB3-B94F-4BC5-B58A-73054F90E016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dt" idx="19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A82876-C4F3-4AA5-9E70-91D9BE3C62D9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ftr" idx="20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5"/>
          <p:cNvGrpSpPr/>
          <p:nvPr/>
        </p:nvGrpSpPr>
        <p:grpSpPr>
          <a:xfrm>
            <a:off x="0" y="6108840"/>
            <a:ext cx="9144000" cy="639720"/>
            <a:chOff x="0" y="6108840"/>
            <a:chExt cx="9144000" cy="639720"/>
          </a:xfrm>
        </p:grpSpPr>
        <p:sp>
          <p:nvSpPr>
            <p:cNvPr id="372" name="Rectangle 6"/>
            <p:cNvSpPr/>
            <p:nvPr/>
          </p:nvSpPr>
          <p:spPr>
            <a:xfrm>
              <a:off x="1027080" y="6257880"/>
              <a:ext cx="811692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0" y="6257880"/>
              <a:ext cx="231480" cy="3268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pic>
          <p:nvPicPr>
            <p:cNvPr id="374" name="Picture 13" descr="SHIBAlogo_RGB_abridged.png"/>
            <p:cNvPicPr/>
            <p:nvPr/>
          </p:nvPicPr>
          <p:blipFill>
            <a:blip r:embed="rId2"/>
            <a:stretch/>
          </p:blipFill>
          <p:spPr>
            <a:xfrm>
              <a:off x="343080" y="6108840"/>
              <a:ext cx="5716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84678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1"/>
          </p:nvPr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D9A78-7BD0-4F75-8717-BF34D8676780}" type="datetime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2"/>
          </p:nvPr>
        </p:nvSpPr>
        <p:spPr>
          <a:xfrm>
            <a:off x="1158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Document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3"/>
          </p:nvPr>
        </p:nvSpPr>
        <p:spPr>
          <a:xfrm>
            <a:off x="816588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Segoe U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509F30-E732-472E-8774-F5CE234A165E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nsurance.wa.gov/shiba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surance.wa.gov/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40920" y="3754440"/>
            <a:ext cx="846468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Asesores sobre los Beneficios </a:t>
            </a:r>
            <a:br>
              <a:rPr sz="3600"/>
            </a:b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delSeguro Médico a </a:t>
            </a:r>
            <a:br>
              <a:rPr sz="3600"/>
            </a:b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Nivel Estatal (SHIBA)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05" name="TextBox 1"/>
          <p:cNvSpPr/>
          <p:nvPr/>
        </p:nvSpPr>
        <p:spPr>
          <a:xfrm>
            <a:off x="6659640" y="595008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US" sz="1400" spc="-1" strike="noStrike">
                <a:solidFill>
                  <a:srgbClr val="084678"/>
                </a:solidFill>
                <a:latin typeface="Calibri"/>
                <a:ea typeface="Calibri"/>
              </a:rPr>
              <a:t>Revisado en mayo de 2023</a:t>
            </a:r>
            <a:endParaRPr b="0" lang="en-US" sz="14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606" name="Picture 1" descr="A round blue and orange label with text and balloons&#10;&#10;Description automatically generated"/>
          <p:cNvPicPr/>
          <p:nvPr/>
        </p:nvPicPr>
        <p:blipFill>
          <a:blip r:embed="rId1"/>
          <a:stretch/>
        </p:blipFill>
        <p:spPr>
          <a:xfrm>
            <a:off x="468360" y="3645000"/>
            <a:ext cx="186372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Testimonios de consumidore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5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D21EC-1D03-423A-99D9-6EF707957346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1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821804-4BE9-44E5-9EF3-E78D1BABCB94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60360" y="1311120"/>
            <a:ext cx="8445600" cy="35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US" sz="2800" spc="-1" strike="noStrike">
                <a:solidFill>
                  <a:srgbClr val="000000"/>
                </a:solidFill>
                <a:latin typeface="Segoe UI"/>
              </a:rPr>
              <a:t>“</a:t>
            </a:r>
            <a:r>
              <a:rPr b="0" i="1" lang="es-US" sz="2800" spc="-1" strike="noStrike">
                <a:solidFill>
                  <a:srgbClr val="000000"/>
                </a:solidFill>
                <a:latin typeface="Segoe UI"/>
              </a:rPr>
              <a:t>Excelente servicio. Respondieron todas mis preguntas Y me respondieron casi de inmediato”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 lv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US" sz="2800" spc="-1" strike="noStrike">
                <a:solidFill>
                  <a:srgbClr val="000000"/>
                </a:solidFill>
                <a:latin typeface="Segoe UI"/>
              </a:rPr>
              <a:t>“</a:t>
            </a:r>
            <a:r>
              <a:rPr b="0" i="1" lang="es-US" sz="2800" spc="-1" strike="noStrike">
                <a:solidFill>
                  <a:srgbClr val="000000"/>
                </a:solidFill>
                <a:latin typeface="Segoe UI"/>
              </a:rPr>
              <a:t>¡Realmente aprecio el consejo experto que recibí!”. 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 lv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US" sz="2800" spc="-1" strike="noStrike">
                <a:solidFill>
                  <a:srgbClr val="000000"/>
                </a:solidFill>
                <a:latin typeface="Segoe UI"/>
              </a:rPr>
              <a:t>“</a:t>
            </a:r>
            <a:r>
              <a:rPr b="0" i="1" lang="es-US" sz="2800" spc="-1" strike="noStrike">
                <a:solidFill>
                  <a:srgbClr val="000000"/>
                </a:solidFill>
                <a:latin typeface="Segoe UI"/>
              </a:rPr>
              <a:t>SHIBA es magnífico. </a:t>
            </a:r>
            <a:br>
              <a:rPr sz="2800"/>
            </a:br>
            <a:r>
              <a:rPr b="0" i="1" lang="es-US" sz="2800" spc="-1" strike="noStrike">
                <a:solidFill>
                  <a:srgbClr val="000000"/>
                </a:solidFill>
                <a:latin typeface="Segoe UI"/>
              </a:rPr>
              <a:t>Qué alivio tener a alguien </a:t>
            </a:r>
            <a:br>
              <a:rPr sz="2800"/>
            </a:br>
            <a:r>
              <a:rPr b="0" i="1" lang="es-US" sz="2800" spc="-1" strike="noStrike">
                <a:solidFill>
                  <a:srgbClr val="000000"/>
                </a:solidFill>
                <a:latin typeface="Segoe UI"/>
              </a:rPr>
              <a:t>realmente de mi lado”.  </a:t>
            </a:r>
            <a:r>
              <a:rPr b="0" lang="es-US" sz="2800" spc="-1" strike="noStrike">
                <a:solidFill>
                  <a:srgbClr val="000000"/>
                </a:solidFill>
                <a:latin typeface="Segoe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64" name="Picture 5" descr="husband wife.jpg"/>
          <p:cNvPicPr/>
          <p:nvPr/>
        </p:nvPicPr>
        <p:blipFill>
          <a:blip r:embed="rId1"/>
          <a:stretch/>
        </p:blipFill>
        <p:spPr>
          <a:xfrm>
            <a:off x="5423040" y="3675240"/>
            <a:ext cx="316044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Nuestra capacitación de voluntario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66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F6C87-01F4-4809-888C-64938B449968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CE00B-41DF-4107-A005-C61FA118FF02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0" name="TextBox 7"/>
          <p:cNvSpPr/>
          <p:nvPr/>
        </p:nvSpPr>
        <p:spPr>
          <a:xfrm>
            <a:off x="536400" y="1143000"/>
            <a:ext cx="844560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Wingdings"/>
              </a:rPr>
              <a:t>Cubrimos Medicare y opciones para personas menores de 65 años</a:t>
            </a:r>
            <a:endParaRPr b="0" lang="en-US" sz="26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Wingdings"/>
              </a:rPr>
              <a:t>Ofrecemos capacitación 10 meses por año</a:t>
            </a:r>
            <a:endParaRPr b="0" lang="en-US" sz="26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Wingdings"/>
              </a:rPr>
              <a:t>Concedemos a los voluntarios acceso a lo siguiente:</a:t>
            </a:r>
            <a:endParaRPr b="0" lang="en-US" sz="2600" spc="-1" strike="noStrike">
              <a:solidFill>
                <a:srgbClr val="000000"/>
              </a:solidFill>
              <a:latin typeface="News Gothic MT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Wingdings"/>
              </a:rPr>
              <a:t>Apoyo de personal profesional</a:t>
            </a:r>
            <a:endParaRPr b="0" lang="en-US" sz="2200" spc="-1" strike="noStrike">
              <a:solidFill>
                <a:srgbClr val="000000"/>
              </a:solidFill>
              <a:latin typeface="News Gothic MT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Wingdings"/>
              </a:rPr>
              <a:t>Sitio web solo para voluntarios</a:t>
            </a:r>
            <a:endParaRPr b="0" lang="en-US" sz="2200" spc="-1" strike="noStrike">
              <a:solidFill>
                <a:srgbClr val="000000"/>
              </a:solidFill>
              <a:latin typeface="News Gothic MT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Wingdings"/>
              </a:rPr>
              <a:t>Material de capacitación</a:t>
            </a:r>
            <a:endParaRPr b="0" lang="en-US" sz="2200" spc="-1" strike="noStrike">
              <a:solidFill>
                <a:srgbClr val="000000"/>
              </a:solidFill>
              <a:latin typeface="News Gothic MT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Wingdings"/>
              </a:rPr>
              <a:t>Presentaciones públicas</a:t>
            </a:r>
            <a:endParaRPr b="0" lang="en-US" sz="2200" spc="-1" strike="noStrike">
              <a:solidFill>
                <a:srgbClr val="000000"/>
              </a:solidFill>
              <a:latin typeface="News Gothic MT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Wingdings"/>
              </a:rPr>
              <a:t>Publicaciones</a:t>
            </a:r>
            <a:endParaRPr b="0" lang="en-US" sz="2200" spc="-1" strike="noStrike">
              <a:solidFill>
                <a:srgbClr val="000000"/>
              </a:solidFill>
              <a:latin typeface="News Gothic MT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Wingdings"/>
              </a:rPr>
              <a:t>Material de difusión</a:t>
            </a:r>
            <a:endParaRPr b="0" lang="en-US" sz="22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Wingdings"/>
              </a:rPr>
              <a:t>El voluntario debe hacer un examen de certificación en línea antes de trabajar con los clientes</a:t>
            </a:r>
            <a:endParaRPr b="0" lang="en-US" sz="26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Tipos de asesoramiento que ofrecemo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1877A9-B160-4D10-B19D-0FE6EE3CA08D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3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C3553-39EB-45D6-B4C8-B7EAF18B5255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1112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Inscripción abierta en Medicare (Parte D y Medicare Advantage)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lanes complementarios de Medicare (Medigap)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Cómo funciona Medicare con otros programa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Cómo obtener ayuda para pagar Medicare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La función del Seguro Social en Medicare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Opciones para personas menores de 65 año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20574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Nuestros patrocinadore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78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7A478-BAB3-4816-A50D-C328783821A7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1177920" y="639288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6103B-2F4E-4DFE-B42E-58770EF31CA3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887120" y="5665320"/>
            <a:ext cx="53672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2000" spc="-1" strike="noStrike">
                <a:solidFill>
                  <a:srgbClr val="000000"/>
                </a:solidFill>
                <a:latin typeface="Segoe UI"/>
                <a:ea typeface="Segoe UI"/>
              </a:rPr>
              <a:t>Nota: </a:t>
            </a:r>
            <a:r>
              <a:rPr b="0" lang="es-US" sz="2000" spc="-1" strike="noStrike">
                <a:solidFill>
                  <a:srgbClr val="000000"/>
                </a:solidFill>
                <a:latin typeface="Segoe UI"/>
                <a:ea typeface="Segoe UI"/>
              </a:rPr>
              <a:t>La estrella no representa la ubicación real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lvl="1" marL="1032120" indent="-393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83" name="Picture 9" descr="washington-county-map.gif"/>
          <p:cNvPicPr/>
          <p:nvPr/>
        </p:nvPicPr>
        <p:blipFill>
          <a:blip r:embed="rId1"/>
          <a:stretch/>
        </p:blipFill>
        <p:spPr>
          <a:xfrm>
            <a:off x="360360" y="1182600"/>
            <a:ext cx="8131320" cy="4267440"/>
          </a:xfrm>
          <a:prstGeom prst="rect">
            <a:avLst/>
          </a:prstGeom>
          <a:ln w="0">
            <a:noFill/>
          </a:ln>
        </p:spPr>
      </p:pic>
      <p:sp>
        <p:nvSpPr>
          <p:cNvPr id="684" name="5-Point Star 11"/>
          <p:cNvSpPr/>
          <p:nvPr/>
        </p:nvSpPr>
        <p:spPr>
          <a:xfrm>
            <a:off x="2874960" y="17161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5" name="5-Point Star 12"/>
          <p:cNvSpPr/>
          <p:nvPr/>
        </p:nvSpPr>
        <p:spPr>
          <a:xfrm>
            <a:off x="2874960" y="12589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6" name="5-Point Star 13"/>
          <p:cNvSpPr/>
          <p:nvPr/>
        </p:nvSpPr>
        <p:spPr>
          <a:xfrm>
            <a:off x="5389560" y="17924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7" name="5-Point Star 14"/>
          <p:cNvSpPr/>
          <p:nvPr/>
        </p:nvSpPr>
        <p:spPr>
          <a:xfrm>
            <a:off x="6608880" y="18684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8" name="5-Point Star 15"/>
          <p:cNvSpPr/>
          <p:nvPr/>
        </p:nvSpPr>
        <p:spPr>
          <a:xfrm>
            <a:off x="7294680" y="20210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89" name="5-Point Star 16"/>
          <p:cNvSpPr/>
          <p:nvPr/>
        </p:nvSpPr>
        <p:spPr>
          <a:xfrm>
            <a:off x="7904160" y="17924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0" name="5-Point Star 17"/>
          <p:cNvSpPr/>
          <p:nvPr/>
        </p:nvSpPr>
        <p:spPr>
          <a:xfrm>
            <a:off x="4475160" y="26305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1" name="5-Point Star 18"/>
          <p:cNvSpPr/>
          <p:nvPr/>
        </p:nvSpPr>
        <p:spPr>
          <a:xfrm>
            <a:off x="5465880" y="27828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2" name="5-Point Star 19"/>
          <p:cNvSpPr/>
          <p:nvPr/>
        </p:nvSpPr>
        <p:spPr>
          <a:xfrm>
            <a:off x="6684840" y="30114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3" name="5-Point Star 20"/>
          <p:cNvSpPr/>
          <p:nvPr/>
        </p:nvSpPr>
        <p:spPr>
          <a:xfrm>
            <a:off x="7751880" y="27068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4" name="5-Point Star 21"/>
          <p:cNvSpPr/>
          <p:nvPr/>
        </p:nvSpPr>
        <p:spPr>
          <a:xfrm>
            <a:off x="6608880" y="36972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5" name="5-Point Star 22"/>
          <p:cNvSpPr/>
          <p:nvPr/>
        </p:nvSpPr>
        <p:spPr>
          <a:xfrm>
            <a:off x="7675560" y="36972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6" name="5-Point Star 23"/>
          <p:cNvSpPr/>
          <p:nvPr/>
        </p:nvSpPr>
        <p:spPr>
          <a:xfrm>
            <a:off x="6151680" y="43070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7" name="5-Point Star 24"/>
          <p:cNvSpPr/>
          <p:nvPr/>
        </p:nvSpPr>
        <p:spPr>
          <a:xfrm>
            <a:off x="5541840" y="43070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8" name="5-Point Star 25"/>
          <p:cNvSpPr/>
          <p:nvPr/>
        </p:nvSpPr>
        <p:spPr>
          <a:xfrm>
            <a:off x="6684840" y="43830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9" name="5-Point Star 26"/>
          <p:cNvSpPr/>
          <p:nvPr/>
        </p:nvSpPr>
        <p:spPr>
          <a:xfrm>
            <a:off x="7370640" y="46116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0" name="5-Point Star 27"/>
          <p:cNvSpPr/>
          <p:nvPr/>
        </p:nvSpPr>
        <p:spPr>
          <a:xfrm>
            <a:off x="4322880" y="43830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1" name="5-Point Star 28"/>
          <p:cNvSpPr/>
          <p:nvPr/>
        </p:nvSpPr>
        <p:spPr>
          <a:xfrm>
            <a:off x="3865680" y="49165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2" name="5-Point Star 29"/>
          <p:cNvSpPr/>
          <p:nvPr/>
        </p:nvSpPr>
        <p:spPr>
          <a:xfrm>
            <a:off x="3103560" y="47642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3" name="5-Point Star 30"/>
          <p:cNvSpPr/>
          <p:nvPr/>
        </p:nvSpPr>
        <p:spPr>
          <a:xfrm>
            <a:off x="2265480" y="40784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4" name="5-Point Star 31"/>
          <p:cNvSpPr/>
          <p:nvPr/>
        </p:nvSpPr>
        <p:spPr>
          <a:xfrm>
            <a:off x="2722680" y="33926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5" name="5-Point Star 32"/>
          <p:cNvSpPr/>
          <p:nvPr/>
        </p:nvSpPr>
        <p:spPr>
          <a:xfrm>
            <a:off x="4475160" y="34686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6" name="5-Point Star 33"/>
          <p:cNvSpPr/>
          <p:nvPr/>
        </p:nvSpPr>
        <p:spPr>
          <a:xfrm>
            <a:off x="2874960" y="29354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7" name="5-Point Star 34"/>
          <p:cNvSpPr/>
          <p:nvPr/>
        </p:nvSpPr>
        <p:spPr>
          <a:xfrm>
            <a:off x="3027240" y="24019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8" name="5-Point Star 35"/>
          <p:cNvSpPr/>
          <p:nvPr/>
        </p:nvSpPr>
        <p:spPr>
          <a:xfrm>
            <a:off x="5618160" y="32400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09" name="5-Point Star 36"/>
          <p:cNvSpPr/>
          <p:nvPr/>
        </p:nvSpPr>
        <p:spPr>
          <a:xfrm>
            <a:off x="2494080" y="52214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0" name="5-Point Star 37"/>
          <p:cNvSpPr/>
          <p:nvPr/>
        </p:nvSpPr>
        <p:spPr>
          <a:xfrm>
            <a:off x="2341440" y="46879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1" name="5-Point Star 38"/>
          <p:cNvSpPr/>
          <p:nvPr/>
        </p:nvSpPr>
        <p:spPr>
          <a:xfrm>
            <a:off x="2112840" y="34686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2" name="5-Point Star 39"/>
          <p:cNvSpPr/>
          <p:nvPr/>
        </p:nvSpPr>
        <p:spPr>
          <a:xfrm>
            <a:off x="1579680" y="45356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3" name="5-Point Star 40"/>
          <p:cNvSpPr/>
          <p:nvPr/>
        </p:nvSpPr>
        <p:spPr>
          <a:xfrm>
            <a:off x="1198440" y="42307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4" name="5-Point Star 41"/>
          <p:cNvSpPr/>
          <p:nvPr/>
        </p:nvSpPr>
        <p:spPr>
          <a:xfrm>
            <a:off x="1198440" y="33926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5" name="5-Point Star 42"/>
          <p:cNvSpPr/>
          <p:nvPr/>
        </p:nvSpPr>
        <p:spPr>
          <a:xfrm>
            <a:off x="1808280" y="32400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6" name="5-Point Star 43"/>
          <p:cNvSpPr/>
          <p:nvPr/>
        </p:nvSpPr>
        <p:spPr>
          <a:xfrm>
            <a:off x="817560" y="27068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7" name="5-Point Star 44"/>
          <p:cNvSpPr/>
          <p:nvPr/>
        </p:nvSpPr>
        <p:spPr>
          <a:xfrm>
            <a:off x="741240" y="22496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8" name="5-Point Star 45"/>
          <p:cNvSpPr/>
          <p:nvPr/>
        </p:nvSpPr>
        <p:spPr>
          <a:xfrm>
            <a:off x="2341440" y="30114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9" name="5-Point Star 46"/>
          <p:cNvSpPr/>
          <p:nvPr/>
        </p:nvSpPr>
        <p:spPr>
          <a:xfrm>
            <a:off x="2112840" y="14875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20" name="5-Point Star 47"/>
          <p:cNvSpPr/>
          <p:nvPr/>
        </p:nvSpPr>
        <p:spPr>
          <a:xfrm>
            <a:off x="2417760" y="202104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70baf5"/>
          </a:solidFill>
          <a:ln w="9360">
            <a:solidFill>
              <a:srgbClr val="289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Nuestras funcione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22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6482AF-84E0-4215-8D15-2D7E6B160617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23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2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CC527-2914-46C5-BA0F-98203638825A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360360" y="1125360"/>
            <a:ext cx="8445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Director del programa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 lvl="1" marL="457200" indent="-34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Supervisor de consultores regionales de capacitación 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 lvl="1" marL="457200" indent="-34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Consultores regionales de capacitación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 lvl="1" marL="457200" indent="-34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Especialista en quejas 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 lvl="1" marL="457200" indent="-34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Redactor de currículum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 lvl="1" marL="457200" indent="-34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Coordinador de contratos y subvenciones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 lvl="1" marL="457200" indent="-34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Mentor de coordinadores de voluntarios y de difusión a nivel estatal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 lvl="1" marL="457200" indent="-34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Coordinador de comunicaciones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 lvl="1" marL="457200" indent="-34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Analista de gestión y apoyo administrativos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 lvl="1" marL="457200" indent="-34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Coordinadores de voluntarios 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 lvl="1" marL="457200" indent="-34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Voluntarios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1" descr=""/>
          <p:cNvPicPr/>
          <p:nvPr/>
        </p:nvPicPr>
        <p:blipFill>
          <a:blip r:embed="rId1"/>
          <a:srcRect l="0" t="7014" r="0" b="7550"/>
          <a:stretch/>
        </p:blipFill>
        <p:spPr>
          <a:xfrm>
            <a:off x="3998880" y="1584360"/>
            <a:ext cx="4803840" cy="3922560"/>
          </a:xfrm>
          <a:prstGeom prst="rect">
            <a:avLst/>
          </a:prstGeom>
          <a:ln w="0">
            <a:noFill/>
          </a:ln>
        </p:spPr>
      </p:pic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¿Quiere unirse a nuestro equipo?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2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B8783-E343-47D7-B94D-A3F9A30BFE9F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3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31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32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E28B1-7D76-4087-A0CC-EEF014236DE9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392040" y="1177560"/>
            <a:ext cx="60516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2800" spc="-1" strike="noStrike">
                <a:solidFill>
                  <a:srgbClr val="000000"/>
                </a:solidFill>
                <a:latin typeface="Segoe UI"/>
              </a:rPr>
              <a:t>Oportunidades para voluntarios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4" name="Rectangle 3"/>
          <p:cNvSpPr/>
          <p:nvPr/>
        </p:nvSpPr>
        <p:spPr>
          <a:xfrm>
            <a:off x="595440" y="1584360"/>
            <a:ext cx="480348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Wingdings"/>
              </a:rPr>
              <a:t>Discursos en público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Wingdings"/>
              </a:rPr>
              <a:t>Difusión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Wingdings"/>
              </a:rPr>
              <a:t>Asesoramiento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Wingdings"/>
              </a:rPr>
              <a:t>Especialidades temáticas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Wingdings"/>
              </a:rPr>
              <a:t>Función administrativa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Wingdings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Wingdings"/>
              </a:rPr>
              <a:t>Internet/informática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Cómo puede comunicarse con nosotro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36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09AE9-729D-48A0-A092-21422146D3C9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37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38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39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E50CE-97CF-4293-A26B-5268E6F30A28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1158840" y="1311120"/>
            <a:ext cx="7647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Teléfono: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Línea gratuita:  1-800-562-6900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TDD:  360-586-0241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Retransmisión de TDD:</a:t>
            </a:r>
            <a:r>
              <a:rPr b="1" lang="es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  </a:t>
            </a:r>
            <a:r>
              <a:rPr b="0" lang="es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1-800-833-6384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En la web: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000" spc="-1" strike="noStrike" u="sng">
                <a:solidFill>
                  <a:srgbClr val="0c42d7"/>
                </a:solidFill>
                <a:uFillTx/>
                <a:latin typeface="Segoe UI"/>
                <a:ea typeface="Segoe UI"/>
                <a:hlinkClick r:id="rId1"/>
              </a:rPr>
              <a:t>www.insurance.wa.gov/shiba</a:t>
            </a:r>
            <a:r>
              <a:rPr b="0" lang="es-US" sz="3000" spc="-1" strike="noStrike">
                <a:solidFill>
                  <a:srgbClr val="000000"/>
                </a:solidFill>
                <a:latin typeface="Segoe UI"/>
                <a:ea typeface="Segoe U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  <a:p>
            <a:pPr lvl="3" marL="20574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84678"/>
                </a:solidFill>
                <a:latin typeface="Segoe UI"/>
              </a:rPr>
              <a:t>¿Necesita ayuda con otras preguntas del seguro?</a:t>
            </a:r>
            <a:endParaRPr b="0" lang="en-US" sz="28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742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6FCEB-6341-402D-9292-239102EFD07D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43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4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4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D4319-2334-47D2-8E86-A2D316D713BD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360360" y="1052640"/>
            <a:ext cx="844560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En la Oficina del Comisionado de Seguros, también pueden ayudarlo si tiene preguntas, necesita información y quiere presentar quejas sobre todo tipo de seguros, como los siguientes: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7" name="Content Placeholder 2"/>
          <p:cNvSpPr/>
          <p:nvPr/>
        </p:nvSpPr>
        <p:spPr>
          <a:xfrm>
            <a:off x="2122560" y="2684520"/>
            <a:ext cx="2460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Wingdings"/>
              </a:rPr>
              <a:t>Hogar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Wingdings"/>
              </a:rPr>
              <a:t>Automotor 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Wingdings"/>
              </a:rPr>
              <a:t>Vida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48" name="Content Placeholder 2"/>
          <p:cNvSpPr/>
          <p:nvPr/>
        </p:nvSpPr>
        <p:spPr>
          <a:xfrm>
            <a:off x="4781520" y="2701800"/>
            <a:ext cx="2733840" cy="15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nualidades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Médico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¡Y más!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49" name="Content Placeholder 2"/>
          <p:cNvSpPr/>
          <p:nvPr/>
        </p:nvSpPr>
        <p:spPr>
          <a:xfrm>
            <a:off x="179280" y="4308480"/>
            <a:ext cx="878544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Llame a la Línea directa para consumidores de seguros: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1-800-562-6900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Visite nuestra web: </a:t>
            </a:r>
            <a:r>
              <a:rPr b="0" lang="es-US" sz="2800" spc="-1" strike="noStrike" u="sng">
                <a:solidFill>
                  <a:srgbClr val="0c42d7"/>
                </a:solidFill>
                <a:uFillTx/>
                <a:latin typeface="Segoe UI"/>
                <a:ea typeface="Segoe UI"/>
                <a:hlinkClick r:id="rId1"/>
              </a:rPr>
              <a:t>www.insurance.wa.gov</a:t>
            </a:r>
            <a:r>
              <a:rPr b="1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Declaración de la misión de SHIBA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60360" y="1773360"/>
            <a:ext cx="8445600" cy="28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sesores sobre los Beneficios del Seguro Médico a Nivel Estatal (Statewide Health Insurance Benefits Advisors, SHIBA) da información gratuita e imparcial </a:t>
            </a:r>
            <a:br>
              <a:rPr sz="2800"/>
            </a:b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sobre la cobertura de atención médica y el acceso a esta, para ayudar a mejorar la vida de todos los residentes del estado de Washington.  Fomentamos la participación comunitaria a través de la colaboración, el servicio y el voluntariado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11A05-26A2-416F-88BA-5DDE5EF428B0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5FDC1-706D-4595-BCC7-F5938EA261FC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¿Qué hacemos?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14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56AA4-5CA1-4C96-870A-61E8A99D92BD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5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6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390EA-4883-476F-8967-A8606E8BA279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87360" y="1125360"/>
            <a:ext cx="857736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Haciendo hincapié en Medicare, damos información </a:t>
            </a:r>
            <a:r>
              <a:rPr b="1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gratuita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 e </a:t>
            </a:r>
            <a:r>
              <a:rPr b="1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imparcial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 sobre la cobertura de la atención médica y el acceso a esta.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Capacitamos a voluntarios para asesorar </a:t>
            </a:r>
            <a:r>
              <a:rPr b="1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confidencialmente</a:t>
            </a: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 a los consumidores en sus propias comunidades sobre lo siguiente: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68184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Programas del Gobierno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 lvl="1" marL="68184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Segoe UI"/>
              </a:rPr>
              <a:t>Revisión del plan de recetas</a:t>
            </a:r>
            <a:endParaRPr b="0" lang="en-US" sz="2200" spc="-1" strike="noStrike">
              <a:solidFill>
                <a:srgbClr val="000000"/>
              </a:solidFill>
              <a:latin typeface="Segoe U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Contamos con 16 agencias patrocinadoras que prestan servicios en todos los condados.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marL="339480" indent="-3394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Dirigimos a 250 voluntarios a nivel estatal.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9" name="Rectangle 1"/>
          <p:cNvSpPr/>
          <p:nvPr/>
        </p:nvSpPr>
        <p:spPr>
          <a:xfrm>
            <a:off x="4184640" y="3565440"/>
            <a:ext cx="4572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4880" indent="-343080">
              <a:lnSpc>
                <a:spcPct val="12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Wingdings"/>
              </a:rPr>
              <a:t>Acceso al mercado</a:t>
            </a:r>
            <a:endParaRPr b="0" lang="en-US" sz="2200" spc="-1" strike="noStrike">
              <a:solidFill>
                <a:srgbClr val="000000"/>
              </a:solidFill>
              <a:latin typeface="News Gothic MT"/>
            </a:endParaRPr>
          </a:p>
          <a:p>
            <a:pPr lvl="1" marL="974880" indent="-34308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Segoe UI"/>
                <a:ea typeface="Wingdings"/>
              </a:rPr>
              <a:t>Seguro privado</a:t>
            </a:r>
            <a:endParaRPr b="0" lang="en-US" sz="22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60000" y="476280"/>
            <a:ext cx="8574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600" spc="-1" strike="noStrike">
                <a:solidFill>
                  <a:srgbClr val="084678"/>
                </a:solidFill>
                <a:latin typeface="Segoe UI"/>
              </a:rPr>
              <a:t>Subvención federal: difusión y asesoramiento de Medicare</a:t>
            </a:r>
            <a:endParaRPr b="0" lang="en-US" sz="2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21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B636A2-3FAD-4F04-8CFF-5E29C22D2CAA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2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2F044-CAF0-4ECA-AF0E-DB06BAD0C1BD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60360" y="1310760"/>
            <a:ext cx="8445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lvl="1" marL="560160" indent="-44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Impecable red de 54 SHIP a nivel nacional: 14,500 asesores (57 % de voluntarios)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lvl="1" marL="560160" indent="-44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Socio comunitario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lvl="1" marL="560160" indent="-44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Tres objetivos principales: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lvl="1" marL="560160" indent="-447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000" spc="-1" strike="noStrike">
                <a:solidFill>
                  <a:srgbClr val="000000"/>
                </a:solidFill>
                <a:latin typeface="Segoe UI"/>
                <a:ea typeface="Segoe UI"/>
              </a:rPr>
              <a:t>Ayuda con asesoramiento personalizado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lvl="1" marL="560160" indent="-447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000" spc="-1" strike="noStrike">
                <a:solidFill>
                  <a:srgbClr val="000000"/>
                </a:solidFill>
                <a:latin typeface="Segoe UI"/>
                <a:ea typeface="Segoe UI"/>
              </a:rPr>
              <a:t>Difusión comunitaria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lvl="1" marL="560160" indent="-447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000" spc="-1" strike="noStrike">
                <a:solidFill>
                  <a:srgbClr val="000000"/>
                </a:solidFill>
                <a:latin typeface="Segoe UI"/>
                <a:ea typeface="Segoe UI"/>
              </a:rPr>
              <a:t>Suministro de asesores capacitados y respaldados (voluntarios y remunerados)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  <a:p>
            <a:pPr lvl="1" marL="560160" indent="-44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Medidas de desempeño: a nivel estatal y en el condado.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lvl="2" marL="839880" indent="-335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000" spc="-1" strike="noStrike">
                <a:solidFill>
                  <a:srgbClr val="000000"/>
                </a:solidFill>
                <a:latin typeface="Segoe UI"/>
                <a:ea typeface="Segoe UI"/>
              </a:rPr>
              <a:t>Incluye cantidad de contactos, eventos, personas con bajos ingresos, personas con discapacidades, contactos rápidos y asesoramiento considerable, horarios de asesoramiento.</a:t>
            </a:r>
            <a:endParaRPr b="0" lang="en-US" sz="20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60000" y="328320"/>
            <a:ext cx="860436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100" spc="-1" strike="noStrike">
                <a:solidFill>
                  <a:srgbClr val="084678"/>
                </a:solidFill>
                <a:latin typeface="Segoe UI"/>
              </a:rPr>
              <a:t>Prestamos servicios a todos, pero nos dirigimos a</a:t>
            </a:r>
            <a:endParaRPr b="0" lang="en-US" sz="31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27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FDC46-31E5-4792-BCE2-245D0E692CBA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8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29" name="Footer Placeholder 4"/>
          <p:cNvSpPr/>
          <p:nvPr/>
        </p:nvSpPr>
        <p:spPr>
          <a:xfrm>
            <a:off x="109548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FB1C7-F67D-45DB-98B6-6E98856D0E97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60000" y="1052280"/>
            <a:ext cx="8783640" cy="51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376560" indent="-26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ersonas de todas las edades y procedencia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76560" indent="-26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ersonas con discapacidades y enfermedades específica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76560" indent="-26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ersonas mayores y prejubilada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76560" indent="-26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ersonas que tienen doble elegibilidad con Medicaid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76560" indent="-26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ersonas con necesidades de salud menta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76560" indent="-26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oblaciones étnicas y multilingüe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76560" indent="-26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ersonas sin seguro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76560" indent="-26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oblaciones rurale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76560" indent="-26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Personas con bajos ingreso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Cómo ayudamos a los consumidore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33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2F313-E322-4023-89C9-4497B5CEA718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4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5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009A6-74E5-4C56-A29D-CE2AFD495806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87360" y="1533240"/>
            <a:ext cx="8445600" cy="28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lvl="1" marL="339840" indent="-24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Evaluamos las necesidades de cobertura médica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39840" indent="-24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Determinamos la elegibilidad general para los programa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39840" indent="-24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Evaluamos y comparamos las pólizas/los programa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39840" indent="-24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Hacemos remisiones a otras agencias y programas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339840" indent="-24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Recopilamos e informamos posibles denuncias de fraude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0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Nuestros límites de recursos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39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10317-04F1-43DD-8965-1FD9FD39AC4A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0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1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2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54087-273D-4ABB-AD1C-407217533087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33320" y="1310760"/>
            <a:ext cx="76406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</a:rPr>
              <a:t>No podemos recomendar un plan, una compañía o un agente de seguros médicos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</a:rPr>
              <a:t>No ayudamos a resolver problemas de facturación médica.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</a:rPr>
              <a:t>No somos trabajadores sociales, pero hacemos lo siguiente: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Courier New"/>
              <a:buChar char="o"/>
              <a:tabLst>
                <a:tab algn="l" pos="628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</a:rPr>
              <a:t>Ayudamos con la inscripción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Courier New"/>
              <a:buChar char="o"/>
              <a:tabLst>
                <a:tab algn="l" pos="628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</a:rPr>
              <a:t>Llamamos al 1-800-Medicare en nombre de los clientes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Courier New"/>
              <a:buChar char="o"/>
              <a:tabLst>
                <a:tab algn="l" pos="628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Segoe UI"/>
              </a:rPr>
              <a:t>Ingresamos quejas de Medicare en nombre de los clientes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Información de SHIBA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45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1E821-0C0F-4103-8A0C-445C3516BC25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6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7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47AF6-EA90-4032-94A8-D9FC84BDED89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49200" y="1439640"/>
            <a:ext cx="8445600" cy="24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200" spc="-1" strike="noStrike">
                <a:solidFill>
                  <a:srgbClr val="000000"/>
                </a:solidFill>
                <a:latin typeface="Segoe UI"/>
                <a:ea typeface="Segoe UI"/>
              </a:rPr>
              <a:t>Durante 2022: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yudamos a más de 30,000 consumidores con asesoramiento individua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Hicimos más de 1,250 eventos de difusión en todo el estado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Capacitamos a más de 43,000 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consumidores en todo el estado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911880" indent="-347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50" name="Picture 10" descr="C:\Documents and Settings\donnaw\Local Settings\Temporary Internet Files\Content.IE5\34LP0ZPW\MP900422370[1].jpg"/>
          <p:cNvPicPr/>
          <p:nvPr/>
        </p:nvPicPr>
        <p:blipFill>
          <a:blip r:embed="rId1"/>
          <a:stretch/>
        </p:blipFill>
        <p:spPr>
          <a:xfrm>
            <a:off x="5892840" y="3933720"/>
            <a:ext cx="27446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60360" y="328680"/>
            <a:ext cx="8445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3600" spc="-1" strike="noStrike">
                <a:solidFill>
                  <a:srgbClr val="084678"/>
                </a:solidFill>
                <a:latin typeface="Segoe UI"/>
              </a:rPr>
              <a:t>Difusión comunitaria</a:t>
            </a:r>
            <a:endParaRPr b="0" lang="en-US" sz="3600" spc="-1" strike="noStrike">
              <a:solidFill>
                <a:srgbClr val="084678"/>
              </a:solidFill>
              <a:latin typeface="Segoe UI"/>
            </a:endParaRPr>
          </a:p>
        </p:txBody>
      </p:sp>
      <p:sp>
        <p:nvSpPr>
          <p:cNvPr id="652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1EFF96-7C08-4E14-9406-4F53A1B3D61A}" type="datetime3">
              <a:rPr b="0" lang="en-US" sz="1000" spc="-1" strike="noStrike">
                <a:solidFill>
                  <a:srgbClr val="404040"/>
                </a:solidFill>
                <a:latin typeface="Segoe UI"/>
                <a:ea typeface="News Gothic MT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53" name="Date Placeholder 3"/>
          <p:cNvSpPr/>
          <p:nvPr/>
        </p:nvSpPr>
        <p:spPr>
          <a:xfrm>
            <a:off x="5946840" y="631512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1158840" y="6315120"/>
            <a:ext cx="3622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SHIBA</a:t>
            </a:r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8166240" y="6315120"/>
            <a:ext cx="639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1B7D5-FD6C-4A90-A9E0-00BD166D9210}" type="slidenum">
              <a:rPr b="0" lang="en-US" sz="1000" spc="-1" strike="noStrike">
                <a:solidFill>
                  <a:srgbClr val="404040"/>
                </a:solidFill>
                <a:latin typeface="Segoe UI"/>
                <a:ea typeface="Wingding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87360" y="1549080"/>
            <a:ext cx="84456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168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Eventos de cumpleaños para personas que cumplen 65 años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57168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Clínicas y eventos de inscripción en Medicare a nivel estatal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57168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Clases sobre Medicare en</a:t>
            </a:r>
            <a:br>
              <a:rPr sz="2600"/>
            </a:b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colegios universitarios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57168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57168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¡Encuentre eventos de SHIBA en </a:t>
            </a:r>
            <a:br>
              <a:rPr sz="2600"/>
            </a:br>
            <a:r>
              <a:rPr b="0" lang="es-US" sz="2600" spc="-1" strike="noStrike">
                <a:solidFill>
                  <a:srgbClr val="000000"/>
                </a:solidFill>
                <a:latin typeface="Segoe UI"/>
                <a:ea typeface="Segoe UI"/>
              </a:rPr>
              <a:t>su área! Visite la siguiente página en línea: 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571680" indent="-4572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US" sz="2600" spc="-1" strike="noStrike">
                <a:solidFill>
                  <a:srgbClr val="084678"/>
                </a:solidFill>
                <a:latin typeface="Segoe UI"/>
                <a:ea typeface="Segoe UI"/>
              </a:rPr>
              <a:t>www.insurance.wa.gov/shiba-events-calendar</a:t>
            </a: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  <a:p>
            <a:pPr lvl="1" marL="57168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57" name="Picture 2" descr="147"/>
          <p:cNvPicPr/>
          <p:nvPr/>
        </p:nvPicPr>
        <p:blipFill>
          <a:blip r:embed="rId1"/>
          <a:srcRect l="0" t="8661" r="0" b="0"/>
          <a:stretch/>
        </p:blipFill>
        <p:spPr>
          <a:xfrm>
            <a:off x="5519880" y="2766960"/>
            <a:ext cx="29653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5T16:06:02Z</dcterms:created>
  <dc:creator>SHIBA</dc:creator>
  <dc:description/>
  <cp:keywords/>
  <dc:language>en-US</dc:language>
  <cp:lastModifiedBy>Wells, Donna (OIC)</cp:lastModifiedBy>
  <dcterms:modified xsi:type="dcterms:W3CDTF">2024-01-18T19:34:52Z</dcterms:modified>
  <cp:revision>115</cp:revision>
  <dc:subject>Public presentation about the SHIBA program</dc:subject>
  <dc:title>Asesores sobre los Beneficios del Seguro Médico a Nivel Estatal (SHIBA)</dc:title>
</cp:coreProperties>
</file>