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0359C-F6A1-4315-A00F-6BA6AD5F02DC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move the slid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48F1E-FF74-48A8-8CD1-2C73FDAA1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FF99C-808D-4B2C-9E45-DDA7CE871D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CFFD5-3ABE-4931-BCFA-F57563BCD8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CA4E3-A471-47AC-8D8B-B71CAB70BD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E2A8E-11B3-46D9-8139-606C603125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Cubrimos el estado con 16 patrocinadores, 5 consultores regionales de capacitación (Regional Training Consultant, RTC), 225 voluntari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4ED79-3B75-4850-90A7-A594DC205DB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Director del programa: enlace con los CMS, medidas de desempeño, control de calidad, cumplimiento de contact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Supervisor de consultores regionales de capacitación: administra a 6 capacitadores regionales y un redactor de currículum. Los consultores regionales de capacitación apoyan a los patrocinadores, capacitan a los voluntarios, ayudan a alcanzar el desempeño y toman casos difíciles.  Son expertos en temas (Subject Matter Expert, SME), como Dale y su capacitación sobre fraud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El coordinador de contratos y subvenciones redacta y supervisa los contratos de los patrocinadores, redacta y coordina las subvenciones del programa y redacta inform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El mentor de coordinadores de voluntarios (Volunteer Coordinator, VC) y de difusión supervisa los eventos de difusión a nivel estatal y asesora a los VC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El coordinador de comunicaciones ayuda al patrocinador local a promocionar los servicios de SHIBA, escribe contenido web, redacta y administra las publicaciones del program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Coordinadores de voluntarios: desarrollo de voluntarios, asesoramiento, event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Voluntarios: asesoramiento, eventos, apoy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85B28-DBE4-4D93-AA15-F53D3F5C02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CF193-C0E8-4F1A-A88D-6F56F95078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1200" spc="-1" strike="noStrike">
                <a:solidFill>
                  <a:srgbClr val="000000"/>
                </a:solidFill>
                <a:latin typeface="Arial"/>
              </a:rPr>
              <a:t>Si nos lla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odemos remitirlo para que reciba asesoramiento y asistencia lo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odemos darle respuestas simples por teléfono o programar una sesión de asesoramiento con u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1200" spc="-1" strike="noStrike">
                <a:solidFill>
                  <a:srgbClr val="000000"/>
                </a:solidFill>
                <a:latin typeface="Arial"/>
              </a:rPr>
              <a:t>En líne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uede ordenar, descargar o ver nuestras public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1200" spc="-1" strike="noStrike">
                <a:solidFill>
                  <a:srgbClr val="000000"/>
                </a:solidFill>
                <a:latin typeface="Arial"/>
              </a:rPr>
              <a:t>Mediante cualquiera de estos métodos de contac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uede encontrar su oficina local de SHIBA más cerc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Obtenga un orador de la línea telefónica de ayuda de SHIBA para su grup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Averigüe cómo puede ser voluntario de SHIB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7AFF7-DFE9-48E5-8F09-96CC4BAB35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7007D-BD81-48C6-9038-D6C35489C6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i muestra primero el video de SHIB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Como pudo observar en el video que acabamos de ver, SHIBA es un programa especial de la División de Protección al Consumidor de 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Oficina del Comisionado de Seguros del estado d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Gratuito = no cobramos por nuestros servici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Imparcial = no estamos afiliados a ningún plan, compañía ni producto de seguros médic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Realmente queremos llegar a las personas que normalmente no se comunicarían con nos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185F2-E14D-4D15-AE2B-F7CDAAFFC0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e contaremos un poco sobre la historia de nuestro progra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esupuesto de 500,000 millones de dólares de Medic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HIBA funciona desde 197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Fuimos el primer programa de este tipo en el paí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HIBA comenzó con un grupo de voluntarios del condado de Skag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Tenemos aproximadamente 400 voluntarios a nivel estatal y 20 agencias patrocinadoras loc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A nivel nacional, otros grupos reconocen a SHIBA como un modelo para el asesoramiento sobre los segu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Inspiramos el financiamiento federal para crear programas estatales de seguro médico en todos los estados y territorios de EE. U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ogramas del Gobiern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Ayuda para inscribi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Buscador de planes de recet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eríodo de inscripción abie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20 agencias, y la mayoría presta servicios en diversos cond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7CA8C-CE68-4B2B-B3AB-CF0834AF77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ograma Estatal de Asistencia con el Seguro Médico (State Health Insurance Assistance Program, SHIP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lamamos al SHIP SHIB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os Centros de Servicios de Medicare y Medicaid (Centers for Medicare &amp; Medicaid Services, CMS) nos llaman el socio comunitario, en las comunidades, cuando hacemos el trabaj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as medidas de desempeño son complejas:  ocho medidas, seis partes del condado, diferentes relevanci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as futuras concesiones de subvenciones incluirán el desempeño como parte de la fórmul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9D469-6EA1-48DB-B871-E630E3456CE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estamos servicios y ayudamos a aproximadamente más de 94,000 personas al año con asesoramiento y a otras 2,400 más mediante eventos públic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e damos un ejemplo de cómo ayudamos a las person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Uno de nuestros voluntarios conoció y asesoró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a un joven asiático con una discapacidad que tenía </a:t>
            </a:r>
            <a:r>
              <a:rPr b="1" lang="es-US" sz="1200" spc="-1" strike="noStrike">
                <a:solidFill>
                  <a:srgbClr val="000000"/>
                </a:solidFill>
                <a:latin typeface="Arial"/>
              </a:rPr>
              <a:t>muy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 poco conocimiento de Medicare y Medicaid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Antes de acercarse a SHIBA, varias personas y agencias lo habían enviado a muchos otros lugares para pedir ayuda, y estaba bastante preocupado porque no podía recibir la ayuda que necesitab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us ingresos estaban por debajo del Nivel Federal de Pobreza y no tenía bienes cuantificables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Tuvo que pedir prestados $490 solo para comprarse un solo medicamento para su afección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Nuestro voluntario investigó un poco en el sitio web de Medica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 y descubrió que este joven ya se había inscrito automáticamente en un plan de medicamentos recetados con subsidio por bajos ingresos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l cliente no sabía esto y no tenía tarjeta de identificación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l voluntario se comunicó con el personal del plan de medicamentos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ara obtener un formulario de reembolso y una tarjeta de identificación nueva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l voluntario también le dio indicaciones a este joven sobre cómo usar su tarjeta de identificación y el plan, y le dijo que le haría un seguimiento para asegurarse de que todo vaya bien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l joven se fue muy alivi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sta es solo una de las muchas formas en que ayudamos a las person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1200" spc="-1" strike="noStrike">
                <a:solidFill>
                  <a:srgbClr val="000000"/>
                </a:solidFill>
                <a:latin typeface="Arial"/>
              </a:rPr>
              <a:t>Nota para el orador:  Si lo prefiere, puede elegir su propio caso, solo recuerde omitir los nombres y otra información confide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C369A-A9A2-4EA9-BC0C-8A4082904B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odemos ayudarlo con lo siguien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eguro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ogramas del Gobier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lanes relacionados con el empl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Opciones de cuidado prolong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oblemas con discapacida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Fraude y abu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eguro médico y de jubil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Medicamentos receta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C9CD3-EF08-4D31-B36C-55A0B1EB00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Mencione la identificación única que usan los voluntarios (no todos), según su fun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os voluntarios requieren la verificación de antecede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spcAft>
                <a:spcPts val="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43B45-BFCB-45E4-81C1-A8C41F6444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9E02A-214B-4188-AB30-D187EF2FDD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35055-C39D-4F45-A417-17D3E6AC788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93C-C075-4609-B045-1521574D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2D1-1EC1-4E04-8B70-D74EF84D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BC22A8-7936-4C2E-A9DA-14E858C9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A32BCA-A71C-42E6-8F0D-9390AA50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9E23FD-134F-4EEC-B3AC-DAAFB90C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9FA5D-66EE-47E7-8D26-3D7DE8D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3281CD-8AAC-4012-B504-98599E33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7F62BD-7D0B-4557-A6DD-963A0E60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C80864-BB4D-4FF5-854C-3C2213ED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7F0C20-8C79-40B8-88F8-89AF5DFE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F1AED6-52C3-4BBB-B05B-56F20A6F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F6B37-744F-4F94-8887-D11F4CDF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0F4-1B28-4987-A581-8364FF73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176FF1-E430-4ECB-8C72-937EF17B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69820F-C718-4187-A30C-D252390F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D6B281-ECF3-441D-BEE2-737E0640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B93958-86E1-48CD-BE61-59065E28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78102F-AFAB-48BE-8DCC-49BF536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6EF56-0B2D-40DA-A0BC-A40749F5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4A4838-45E4-4081-88B3-6B0D62A5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AB343B-C506-4556-8592-5D9E77A1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189DC9-A85A-414A-8B0D-4D474877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26A6F6-1D8E-4475-8EBD-B711F068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89C-0CCF-4FB4-8F7E-7F4BF5A6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43145C-3231-45FC-A83F-7D31A67F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BF3334-F209-42B9-B6BE-9978DD71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5E5204-7B8E-420A-98CC-9F5D7D77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B047BE-1F11-4F06-A649-92EE16EF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B23E7F-439B-489D-85E4-14A48700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09BE2A-3180-4DC8-9CE7-9498514E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36A70E-D3AE-4C55-BCC7-B4B935C8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7C5572-5D56-4747-B722-CA45CCF0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F383ED-A353-4CD8-8026-5BBB57C6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0CE983-18F2-4732-B9E9-31C9E7CE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F9CA78-ECCF-4008-875A-FACEC015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4C13AD-8124-4EFE-8DB2-7F039DB0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47EDE6-C5EA-43C7-98B3-CD2F760E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FF0FE-ACDC-4047-8688-A10D8230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55B1E-6574-419A-AC0B-BEBB2977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B3852-9C76-49E5-957A-631EAFB4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BB2CC-8EBC-4235-8FB3-0B52B610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1A679-D84A-45AC-9DC6-8C17E0C3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70E45-31FC-4ADF-9F8C-6014FB41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24734-8625-4827-A5DD-67F47899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A8BF7-17FE-4121-98C8-2386B11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D8E2F-0B33-4703-8B39-B0761F0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D0570-7ACD-4206-A016-A49B8B01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CD3CD-FFCD-47DA-B57D-78F4EFF2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77CC6-276B-4783-AECF-639BC483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2F2C21-82F7-49B2-9378-25F98F5B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BB7DCE-C8DA-452B-9DA3-F1A74288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8112CD-4527-47C4-891D-4A6C5A07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6C8D0A-7A17-4FA1-8E9E-8959B843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630908-1A2E-4376-BF1A-57D0A418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F6D8CD-1942-4D8B-8A91-BFC44F09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3F6CA6-2314-4D35-9F93-B71E69D3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441106-43EF-4345-9EB3-25BA88B0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E54619-901F-45E1-B640-A91E112D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C7267F-62E9-4E02-B184-A7CE730A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74CA3D-DBE1-43AF-A0CF-D0272E12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F187C3-635E-4F5C-91FD-B93F82E3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1AF-4E94-43F0-9B5C-94507754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B4A-D17D-4906-A904-4360A011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ED7B-3724-49B8-B5CA-2F5B8CDB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E2B3-B70E-45CB-B374-F900B6C7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582B-C39A-437D-8CC1-0C0D40AB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8E3-BDC5-4FC0-A7F1-EDA71C91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B4A1-E12C-408A-8F3F-F035A7F3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137B-0BAC-46B2-AFF0-3EC24C61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9325-F881-4312-B959-5797954B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3D05-8361-47BC-95F2-B85A2614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927E-6104-4959-AF23-D7F5C3EF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6762-F8B0-49E1-875C-96181F51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92B9-9C81-4802-8BC0-FD94B69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554D-132F-480C-9EC1-A7C20C64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4F79-755A-449E-8105-426F091D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2F68-BB19-4130-B172-CF209FC0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3E9-3134-4193-99F8-360DC06D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62A9-BF10-4288-929A-08EFF0ED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F611-72F5-4EEB-BFBB-F82B2794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A71F-9AEA-4B65-8882-6127732A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0572-339E-4C41-BDC6-FAFA2D94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31A2-8222-4B58-B03A-30DC6E9D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6B568-512D-453B-84D1-800D2754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E7071-80B2-453B-B602-4DC3B5F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00B8-3A63-4F8F-85FE-445ADA5A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B8E5-2AB0-4A53-B68D-620D093F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A38F-EFD5-41DB-9455-0730AE5D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A29-1392-43C1-85E0-C4F4D3D8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F490-B3E7-4257-93F8-72A9DD12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B98B9-A960-4907-B2EA-EF07D744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C917B-C868-4291-BEB8-E01880B8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27BF-AAFC-42AD-B414-D8D0F771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C5D93-B368-41CC-84FA-EA78DA99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D84E8-AA51-489B-AED0-DC16EF4F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C7810-DF28-4254-84CD-D2033494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D7535-9532-4400-887D-3EA25AFE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3587A-F196-42A3-841C-8BEAABB4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973F6-E0FF-441F-A664-75E68D03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CE7-B8A6-42AD-A5E8-A28A01B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A953E-0697-4C30-96FA-C27EF6FE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8736-631C-422F-A774-498B4690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BAAD-3971-4635-AEC1-7385376E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C2156-9809-439C-8EE2-3F9FB73D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3E50-44D1-4DCD-8B23-5B19643A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20DAD-98C5-4E6C-927C-7B684346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483C7-15F2-4693-93AC-FF024D1F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BCE1A-475A-4A7D-9BB4-924B7B33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C7C5F-24AA-48AE-A0CE-DE86A13D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A018-706E-45E3-9DFF-FF676553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E2C-02FF-43E9-AFCE-525C30D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6E27-9896-4BF2-A612-A28D0D6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E92C9-5C40-4378-B5BC-7475FA83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29992-0555-4F16-977F-7749F45B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C82D-B721-404D-9FC0-341BFEBF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6BCB-B403-4EA6-9A3A-3CC7B695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4E4B7-8833-46E6-A6AB-9C7F0E0C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32181-A6A9-4DE0-982C-B9B32A24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C7EA8-AE49-4D5D-81CE-766E4708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C4E7E-0BD3-47AD-B012-FFB7F336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A60B7-7296-4982-8F91-DBC9CB94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F8E-BE9C-4766-90D0-86A370FC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17B34-F75C-4F78-80AC-3650043E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452EF-16CD-4075-8A15-72CF02FB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5FFBB-C034-4842-9881-62032905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09C7A-7786-40CD-842F-C41ECBDD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D1CD7-ACE0-42D2-834F-70EAAB33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BFABC-E12D-4404-A70C-328934A6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8AF99-893A-4685-B23C-D4F05A4E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CA18A1-F6DA-4DBF-B4C8-AE132BA7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9C32EF-FA1B-4545-8343-3804B706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6F8F6-77EB-48DA-9B22-7D514989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D9557-FD3F-4609-8D3C-1451E0C11BA9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D9697-927F-4845-918A-8D16B2BA356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417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18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19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4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F93CD-4E2A-446B-A000-D1DA7898BDA7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5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6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2636E-BBE3-4BFB-AD67-C3445B2E252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462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64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7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44524-E5AE-4E12-BE42-0EDDA409D7CB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8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9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82FCA-76A0-4B6E-87AB-9C6F70BE132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507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08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509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30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F1A75-26DC-41A9-BDD1-CD34748D9D7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dt" idx="3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AD6DD-087C-4EA4-B815-D24A03FDACF0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553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555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3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471F4-EEBD-4793-B96F-64E498AEEEDF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4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5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C1169-D243-43F9-8C48-1D649B8BADC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3846600"/>
            <a:ext cx="9144000" cy="30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47" name="Rectangle 7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9" name="Picture 16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9" descr="C:\Documents and Settings\ab29\Local Settings\Temporary Internet Files\Content.IE5\8SIXVW2N\MP900409640[1].jpg"/>
          <p:cNvPicPr/>
          <p:nvPr/>
        </p:nvPicPr>
        <p:blipFill>
          <a:blip r:embed="rId3"/>
          <a:srcRect l="52223" t="7862" r="0" b="12820"/>
          <a:stretch/>
        </p:blipFill>
        <p:spPr>
          <a:xfrm>
            <a:off x="4784760" y="3240"/>
            <a:ext cx="2128680" cy="353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ab29\Local Settings\Temporary Internet Files\Content.IE5\7ZND71FB\MP900309115[1].jpg"/>
          <p:cNvPicPr/>
          <p:nvPr/>
        </p:nvPicPr>
        <p:blipFill>
          <a:blip r:embed="rId4"/>
          <a:srcRect l="3227" t="0" r="0" b="3337"/>
          <a:stretch/>
        </p:blipFill>
        <p:spPr>
          <a:xfrm>
            <a:off x="2473200" y="3240"/>
            <a:ext cx="2354400" cy="353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C:\Documents and Settings\ab29\Local Settings\Temporary Internet Files\Content.IE5\I0WIJ97D\MP900438813[1].jpg"/>
          <p:cNvPicPr/>
          <p:nvPr/>
        </p:nvPicPr>
        <p:blipFill>
          <a:blip r:embed="rId5"/>
          <a:srcRect l="0" t="0" r="0" b="4700"/>
          <a:stretch/>
        </p:blipFill>
        <p:spPr>
          <a:xfrm>
            <a:off x="0" y="-7920"/>
            <a:ext cx="2575080" cy="35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ispanic over 65 couple.JPG"/>
          <p:cNvPicPr/>
          <p:nvPr/>
        </p:nvPicPr>
        <p:blipFill>
          <a:blip r:embed="rId6"/>
          <a:srcRect l="45940" t="-12" r="11772" b="1211"/>
          <a:stretch/>
        </p:blipFill>
        <p:spPr>
          <a:xfrm>
            <a:off x="6870600" y="7920"/>
            <a:ext cx="2273400" cy="3525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62200" y="521604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84678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91421-3292-4FED-8E4C-C8A8FDC2F9B1}" type="datetime">
              <a:rPr b="0" lang="en-US" sz="1100" spc="-1" strike="noStrike">
                <a:solidFill>
                  <a:srgbClr val="084678"/>
                </a:solidFill>
                <a:latin typeface="Segoe UI"/>
                <a:ea typeface="News Gothic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5340240"/>
            <a:chOff x="0" y="0"/>
            <a:chExt cx="9144000" cy="5340240"/>
          </a:xfrm>
        </p:grpSpPr>
        <p:sp>
          <p:nvSpPr>
            <p:cNvPr id="94" name="Rectangle 4"/>
            <p:cNvSpPr/>
            <p:nvPr/>
          </p:nvSpPr>
          <p:spPr>
            <a:xfrm>
              <a:off x="0" y="0"/>
              <a:ext cx="9144000" cy="534024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5" name="Right Triangle 7"/>
            <p:cNvSpPr/>
            <p:nvPr/>
          </p:nvSpPr>
          <p:spPr>
            <a:xfrm>
              <a:off x="0" y="1065240"/>
              <a:ext cx="8148600" cy="42750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97" name="Rectangle 10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99" name="Picture 18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3562200" y="323172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84678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13CF7-E366-4E5C-8DC7-CC0416B749B4}" type="datetime">
              <a:rPr b="0" lang="en-US" sz="1400" spc="-1" strike="noStrike">
                <a:solidFill>
                  <a:srgbClr val="084678"/>
                </a:solidFill>
                <a:latin typeface="Segoe UI"/>
                <a:ea typeface="News Gothic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4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4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0" y="0"/>
            <a:ext cx="9144000" cy="3846600"/>
            <a:chOff x="0" y="0"/>
            <a:chExt cx="9144000" cy="3846600"/>
          </a:xfrm>
        </p:grpSpPr>
        <p:sp>
          <p:nvSpPr>
            <p:cNvPr id="144" name="Rectangle 2"/>
            <p:cNvSpPr/>
            <p:nvPr/>
          </p:nvSpPr>
          <p:spPr>
            <a:xfrm>
              <a:off x="0" y="0"/>
              <a:ext cx="9144000" cy="3846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5" name="Right Triangle 7"/>
            <p:cNvSpPr/>
            <p:nvPr/>
          </p:nvSpPr>
          <p:spPr>
            <a:xfrm>
              <a:off x="0" y="766800"/>
              <a:ext cx="5870520" cy="30798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DF50F-7881-42D0-BBBC-A5C6A735933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dt" idx="7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250BA-37E2-42FC-A4E7-AAB081D5742F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88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90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9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E855F-B5DC-4948-AD44-0D9D1FF610F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dt" idx="10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F5E3D-E00E-48BA-B813-BED82D46F6FE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1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34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36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2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79C59-11B2-40E1-BE26-B8B41D10011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dt" idx="13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F1370-47B6-47FC-A799-FEA146DE0905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4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8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8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8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5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47394-ABFD-4ADE-8400-EF36D842991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dt" idx="16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3580F-91EB-4A3B-A0D5-675F2DF6E7F8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17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26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28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8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C9AF6-4892-4996-BD95-2ED4D6FD7BF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dt" idx="19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52E8C-8E82-4A8F-A4C2-68DB9827C100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0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72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74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F81E1-3BA6-4D8B-9406-CB20AF0AB0E0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5096B-9B08-42F6-A14D-F3A12228649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surance.wa.gov/shiba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surance.wa.gov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40920" y="3754440"/>
            <a:ext cx="846468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Asesores sobre los Beneficios </a:t>
            </a:r>
            <a:br>
              <a:rPr sz="3600"/>
            </a:b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delSeguro Médico a </a:t>
            </a:r>
            <a:br>
              <a:rPr sz="3600"/>
            </a:b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Nivel Estatal (SHIBA)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5" name="TextBox 1"/>
          <p:cNvSpPr/>
          <p:nvPr/>
        </p:nvSpPr>
        <p:spPr>
          <a:xfrm>
            <a:off x="6659640" y="595008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1400" spc="-1" strike="noStrike">
                <a:solidFill>
                  <a:srgbClr val="084678"/>
                </a:solidFill>
                <a:latin typeface="Calibri"/>
                <a:ea typeface="Calibri"/>
              </a:rPr>
              <a:t>Revisado en mayo de 2023</a:t>
            </a:r>
            <a:endParaRPr b="0" lang="en-US" sz="14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06" name="Picture 1" descr="A round blue and orange label with text and balloons&#10;&#10;Description automatically generated"/>
          <p:cNvPicPr/>
          <p:nvPr/>
        </p:nvPicPr>
        <p:blipFill>
          <a:blip r:embed="rId1"/>
          <a:stretch/>
        </p:blipFill>
        <p:spPr>
          <a:xfrm>
            <a:off x="468360" y="3645000"/>
            <a:ext cx="186372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Testimonios de consumidor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7B261-AF17-4328-9895-11D510A6D4B7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736F2-F5F0-4A6E-B710-02D2F343E8A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60360" y="1311120"/>
            <a:ext cx="8445600" cy="35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“</a:t>
            </a: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Excelente servicio. Respondieron todas mis preguntas Y me respondieron casi de inmediato”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“</a:t>
            </a: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¡Realmente aprecio el consejo experto que recibí!”. 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“</a:t>
            </a: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SHIBA es magnífico. </a:t>
            </a:r>
            <a:br>
              <a:rPr sz="2800"/>
            </a:b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Qué alivio tener a alguien </a:t>
            </a:r>
            <a:br>
              <a:rPr sz="2800"/>
            </a:b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realmente de mi lado”.  </a:t>
            </a: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64" name="Picture 5" descr="husband wife.jpg"/>
          <p:cNvPicPr/>
          <p:nvPr/>
        </p:nvPicPr>
        <p:blipFill>
          <a:blip r:embed="rId1"/>
          <a:stretch/>
        </p:blipFill>
        <p:spPr>
          <a:xfrm>
            <a:off x="5423040" y="3675240"/>
            <a:ext cx="316044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Nuestra capacitación de voluntario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6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C12CF-06C3-45E1-81FA-5C30F787BAF6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C31B9-A70E-4312-8140-B5BC5BFDE40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536400" y="1143000"/>
            <a:ext cx="8445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Wingdings"/>
              </a:rPr>
              <a:t>Cubrimos Medicare y opciones para personas menores de 65 años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Wingdings"/>
              </a:rPr>
              <a:t>Ofrecemos capacitación 10 meses por año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Wingdings"/>
              </a:rPr>
              <a:t>Concedemos a los voluntarios acceso a lo siguiente: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Apoyo de personal profesional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Sitio web solo para voluntarios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Material de capacitación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Presentaciones públicas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Publicaciones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Material de difusión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Wingdings"/>
              </a:rPr>
              <a:t>El voluntario debe hacer un examen de certificación en línea antes de trabajar con los clientes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Tipos de asesoramiento que ofrecemo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48AAC-5D31-4FC3-9466-E128F19A8B5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D1442-37DC-4E8B-81EA-1E157E64EEC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1112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Inscripción abierta en Medicare (Parte D y Medicare Advantage)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lanes complementarios de Medicare (Medigap)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ómo funciona Medicare con otros program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ómo obtener ayuda para pagar Medicar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La función del Seguro Social en Medicar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Opciones para personas menores de 65 año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20574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Nuestros patrocinador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F83B8-9252-4982-8FCE-7370C2D8AD07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1177920" y="639288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87724-CD90-4A6C-8DD1-004FA27EFA5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887120" y="5665320"/>
            <a:ext cx="5367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Nota: </a:t>
            </a: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La estrella no representa la ubicación real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1032120" indent="-39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83" name="Picture 9" descr="washington-county-map.gif"/>
          <p:cNvPicPr/>
          <p:nvPr/>
        </p:nvPicPr>
        <p:blipFill>
          <a:blip r:embed="rId1"/>
          <a:stretch/>
        </p:blipFill>
        <p:spPr>
          <a:xfrm>
            <a:off x="360360" y="1182600"/>
            <a:ext cx="8131320" cy="4267440"/>
          </a:xfrm>
          <a:prstGeom prst="rect">
            <a:avLst/>
          </a:prstGeom>
          <a:ln w="0">
            <a:noFill/>
          </a:ln>
        </p:spPr>
      </p:pic>
      <p:sp>
        <p:nvSpPr>
          <p:cNvPr id="684" name="5-Point Star 11"/>
          <p:cNvSpPr/>
          <p:nvPr/>
        </p:nvSpPr>
        <p:spPr>
          <a:xfrm>
            <a:off x="2874960" y="17161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5" name="5-Point Star 12"/>
          <p:cNvSpPr/>
          <p:nvPr/>
        </p:nvSpPr>
        <p:spPr>
          <a:xfrm>
            <a:off x="2874960" y="1258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6" name="5-Point Star 13"/>
          <p:cNvSpPr/>
          <p:nvPr/>
        </p:nvSpPr>
        <p:spPr>
          <a:xfrm>
            <a:off x="5389560" y="17924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7" name="5-Point Star 14"/>
          <p:cNvSpPr/>
          <p:nvPr/>
        </p:nvSpPr>
        <p:spPr>
          <a:xfrm>
            <a:off x="6608880" y="1868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8" name="5-Point Star 15"/>
          <p:cNvSpPr/>
          <p:nvPr/>
        </p:nvSpPr>
        <p:spPr>
          <a:xfrm>
            <a:off x="7294680" y="20210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9" name="5-Point Star 16"/>
          <p:cNvSpPr/>
          <p:nvPr/>
        </p:nvSpPr>
        <p:spPr>
          <a:xfrm>
            <a:off x="7904160" y="17924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0" name="5-Point Star 17"/>
          <p:cNvSpPr/>
          <p:nvPr/>
        </p:nvSpPr>
        <p:spPr>
          <a:xfrm>
            <a:off x="4475160" y="2630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1" name="5-Point Star 18"/>
          <p:cNvSpPr/>
          <p:nvPr/>
        </p:nvSpPr>
        <p:spPr>
          <a:xfrm>
            <a:off x="5465880" y="27828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2" name="5-Point Star 19"/>
          <p:cNvSpPr/>
          <p:nvPr/>
        </p:nvSpPr>
        <p:spPr>
          <a:xfrm>
            <a:off x="6684840" y="3011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3" name="5-Point Star 20"/>
          <p:cNvSpPr/>
          <p:nvPr/>
        </p:nvSpPr>
        <p:spPr>
          <a:xfrm>
            <a:off x="7751880" y="27068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4" name="5-Point Star 21"/>
          <p:cNvSpPr/>
          <p:nvPr/>
        </p:nvSpPr>
        <p:spPr>
          <a:xfrm>
            <a:off x="6608880" y="36972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5" name="5-Point Star 22"/>
          <p:cNvSpPr/>
          <p:nvPr/>
        </p:nvSpPr>
        <p:spPr>
          <a:xfrm>
            <a:off x="7675560" y="36972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6" name="5-Point Star 23"/>
          <p:cNvSpPr/>
          <p:nvPr/>
        </p:nvSpPr>
        <p:spPr>
          <a:xfrm>
            <a:off x="6151680" y="43070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7" name="5-Point Star 24"/>
          <p:cNvSpPr/>
          <p:nvPr/>
        </p:nvSpPr>
        <p:spPr>
          <a:xfrm>
            <a:off x="5541840" y="43070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8" name="5-Point Star 25"/>
          <p:cNvSpPr/>
          <p:nvPr/>
        </p:nvSpPr>
        <p:spPr>
          <a:xfrm>
            <a:off x="6684840" y="43830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9" name="5-Point Star 26"/>
          <p:cNvSpPr/>
          <p:nvPr/>
        </p:nvSpPr>
        <p:spPr>
          <a:xfrm>
            <a:off x="7370640" y="46116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0" name="5-Point Star 27"/>
          <p:cNvSpPr/>
          <p:nvPr/>
        </p:nvSpPr>
        <p:spPr>
          <a:xfrm>
            <a:off x="4322880" y="43830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1" name="5-Point Star 28"/>
          <p:cNvSpPr/>
          <p:nvPr/>
        </p:nvSpPr>
        <p:spPr>
          <a:xfrm>
            <a:off x="3865680" y="4916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2" name="5-Point Star 29"/>
          <p:cNvSpPr/>
          <p:nvPr/>
        </p:nvSpPr>
        <p:spPr>
          <a:xfrm>
            <a:off x="3103560" y="47642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3" name="5-Point Star 30"/>
          <p:cNvSpPr/>
          <p:nvPr/>
        </p:nvSpPr>
        <p:spPr>
          <a:xfrm>
            <a:off x="2265480" y="40784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4" name="5-Point Star 31"/>
          <p:cNvSpPr/>
          <p:nvPr/>
        </p:nvSpPr>
        <p:spPr>
          <a:xfrm>
            <a:off x="2722680" y="33926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5" name="5-Point Star 32"/>
          <p:cNvSpPr/>
          <p:nvPr/>
        </p:nvSpPr>
        <p:spPr>
          <a:xfrm>
            <a:off x="4475160" y="34686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6" name="5-Point Star 33"/>
          <p:cNvSpPr/>
          <p:nvPr/>
        </p:nvSpPr>
        <p:spPr>
          <a:xfrm>
            <a:off x="2874960" y="29354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7" name="5-Point Star 34"/>
          <p:cNvSpPr/>
          <p:nvPr/>
        </p:nvSpPr>
        <p:spPr>
          <a:xfrm>
            <a:off x="3027240" y="2401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8" name="5-Point Star 35"/>
          <p:cNvSpPr/>
          <p:nvPr/>
        </p:nvSpPr>
        <p:spPr>
          <a:xfrm>
            <a:off x="5618160" y="32400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9" name="5-Point Star 36"/>
          <p:cNvSpPr/>
          <p:nvPr/>
        </p:nvSpPr>
        <p:spPr>
          <a:xfrm>
            <a:off x="2494080" y="52214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0" name="5-Point Star 37"/>
          <p:cNvSpPr/>
          <p:nvPr/>
        </p:nvSpPr>
        <p:spPr>
          <a:xfrm>
            <a:off x="2341440" y="4687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1" name="5-Point Star 38"/>
          <p:cNvSpPr/>
          <p:nvPr/>
        </p:nvSpPr>
        <p:spPr>
          <a:xfrm>
            <a:off x="2112840" y="34686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2" name="5-Point Star 39"/>
          <p:cNvSpPr/>
          <p:nvPr/>
        </p:nvSpPr>
        <p:spPr>
          <a:xfrm>
            <a:off x="1579680" y="45356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3" name="5-Point Star 40"/>
          <p:cNvSpPr/>
          <p:nvPr/>
        </p:nvSpPr>
        <p:spPr>
          <a:xfrm>
            <a:off x="1198440" y="42307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4" name="5-Point Star 41"/>
          <p:cNvSpPr/>
          <p:nvPr/>
        </p:nvSpPr>
        <p:spPr>
          <a:xfrm>
            <a:off x="1198440" y="33926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5" name="5-Point Star 42"/>
          <p:cNvSpPr/>
          <p:nvPr/>
        </p:nvSpPr>
        <p:spPr>
          <a:xfrm>
            <a:off x="1808280" y="32400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6" name="5-Point Star 43"/>
          <p:cNvSpPr/>
          <p:nvPr/>
        </p:nvSpPr>
        <p:spPr>
          <a:xfrm>
            <a:off x="817560" y="27068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7" name="5-Point Star 44"/>
          <p:cNvSpPr/>
          <p:nvPr/>
        </p:nvSpPr>
        <p:spPr>
          <a:xfrm>
            <a:off x="741240" y="22496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8" name="5-Point Star 45"/>
          <p:cNvSpPr/>
          <p:nvPr/>
        </p:nvSpPr>
        <p:spPr>
          <a:xfrm>
            <a:off x="2341440" y="3011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9" name="5-Point Star 46"/>
          <p:cNvSpPr/>
          <p:nvPr/>
        </p:nvSpPr>
        <p:spPr>
          <a:xfrm>
            <a:off x="2112840" y="1487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0" name="5-Point Star 47"/>
          <p:cNvSpPr/>
          <p:nvPr/>
        </p:nvSpPr>
        <p:spPr>
          <a:xfrm>
            <a:off x="2417760" y="20210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Nuestras funcion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2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0BE36-EE19-475D-A49A-58EB7404B556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87385-3904-41C2-9422-E166ACB4825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60360" y="1125360"/>
            <a:ext cx="8445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Director del programa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Supervisor de consultores regionales de capacitación 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Consultores regionales de capacitación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Especialista en quejas 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Redactor de currículum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Coordinador de contratos y subvenciones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Mentor de coordinadores de voluntarios y de difusión a nivel estatal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Coordinador de comunicaciones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Analista de gestión y apoyo administrativos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Coordinadores de voluntarios 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Voluntarios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1" descr=""/>
          <p:cNvPicPr/>
          <p:nvPr/>
        </p:nvPicPr>
        <p:blipFill>
          <a:blip r:embed="rId1"/>
          <a:srcRect l="0" t="7014" r="0" b="7550"/>
          <a:stretch/>
        </p:blipFill>
        <p:spPr>
          <a:xfrm>
            <a:off x="3998880" y="1584360"/>
            <a:ext cx="4803840" cy="3922560"/>
          </a:xfrm>
          <a:prstGeom prst="rect">
            <a:avLst/>
          </a:prstGeom>
          <a:ln w="0">
            <a:noFill/>
          </a:ln>
        </p:spPr>
      </p:pic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¿Quiere unirse a nuestro equipo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2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FF1C8-E9A1-406B-A1E2-2EAB48B4FE4F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DE92D-D7A3-46EC-97BD-6903C27B985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92040" y="1177560"/>
            <a:ext cx="60516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800" spc="-1" strike="noStrike">
                <a:solidFill>
                  <a:srgbClr val="000000"/>
                </a:solidFill>
                <a:latin typeface="Segoe UI"/>
              </a:rPr>
              <a:t>Oportunidades para voluntarios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595440" y="1584360"/>
            <a:ext cx="480348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Discursos en público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Asesoramiento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Especialidades temáticas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Función administrativa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Internet/informática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Cómo puede comunicarse con nosotro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3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91490-CD8F-458B-A225-EA8A99421224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51A01-0CC8-487C-8579-EC7356A3E11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158840" y="1311120"/>
            <a:ext cx="7647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Teléfono: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Línea gratuita:  1-800-562-6900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TDD:  360-586-0241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Retransmisión de TDD:</a:t>
            </a:r>
            <a:r>
              <a:rPr b="1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  </a:t>
            </a:r>
            <a:r>
              <a:rPr b="0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1-800-833-6384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En la web: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000" spc="-1" strike="noStrike" u="sng">
                <a:solidFill>
                  <a:srgbClr val="0c42d7"/>
                </a:solidFill>
                <a:uFillTx/>
                <a:latin typeface="Segoe UI"/>
                <a:ea typeface="Segoe UI"/>
                <a:hlinkClick r:id="rId1"/>
              </a:rPr>
              <a:t>www.insurance.wa.gov/shiba</a:t>
            </a:r>
            <a:r>
              <a:rPr b="0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 lvl="3" marL="20574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84678"/>
                </a:solidFill>
                <a:latin typeface="Segoe UI"/>
              </a:rPr>
              <a:t>¿Necesita ayuda con otras preguntas del seguro?</a:t>
            </a:r>
            <a:endParaRPr b="0" lang="en-US" sz="28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4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1878A-A2F7-4B8D-9769-C5E37146158D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B3A24-4158-4EBF-A9B0-C25E802E424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60360" y="1052640"/>
            <a:ext cx="84456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En la Oficina del Comisionado de Seguros, también pueden ayudarlo si tiene preguntas, necesita información y quiere presentar quejas sobre todo tipo de seguros, como los siguientes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Content Placeholder 2"/>
          <p:cNvSpPr/>
          <p:nvPr/>
        </p:nvSpPr>
        <p:spPr>
          <a:xfrm>
            <a:off x="2122560" y="2684520"/>
            <a:ext cx="2460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Wingdings"/>
              </a:rPr>
              <a:t>Hogar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Wingdings"/>
              </a:rPr>
              <a:t>Automotor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Wingdings"/>
              </a:rPr>
              <a:t>Vida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8" name="Content Placeholder 2"/>
          <p:cNvSpPr/>
          <p:nvPr/>
        </p:nvSpPr>
        <p:spPr>
          <a:xfrm>
            <a:off x="4781520" y="2701800"/>
            <a:ext cx="273384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ualidades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Médico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¡Y más!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9" name="Content Placeholder 2"/>
          <p:cNvSpPr/>
          <p:nvPr/>
        </p:nvSpPr>
        <p:spPr>
          <a:xfrm>
            <a:off x="179280" y="4308480"/>
            <a:ext cx="878544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Llame a la Línea directa para consumidores de seguros: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1-800-562-6900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Visite nuestra web: </a:t>
            </a:r>
            <a:r>
              <a:rPr b="0" lang="es-US" sz="2800" spc="-1" strike="noStrike" u="sng">
                <a:solidFill>
                  <a:srgbClr val="0c42d7"/>
                </a:solidFill>
                <a:uFillTx/>
                <a:latin typeface="Segoe UI"/>
                <a:ea typeface="Segoe UI"/>
                <a:hlinkClick r:id="rId1"/>
              </a:rPr>
              <a:t>www.insurance.wa.gov</a:t>
            </a:r>
            <a:r>
              <a:rPr b="1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Declaración de la misión de 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60360" y="1773360"/>
            <a:ext cx="8445600" cy="28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sesores sobre los Beneficios del Seguro Médico a Nivel Estatal (Statewide Health Insurance Benefits Advisors, SHIBA) da información gratuita e imparcial </a:t>
            </a:r>
            <a:br>
              <a:rPr sz="2800"/>
            </a:b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sobre la cobertura de atención médica y el acceso a esta, para ayudar a mejorar la vida de todos los residentes del estado de Washington.  Fomentamos la participación comunitaria a través de la colaboración, el servicio y el voluntariado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106EC-A6F2-45E0-B9FC-9A4983433AC3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88630-A950-469B-BA72-C957E960895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¿Qué hacemos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BC982-D486-4C6F-9073-E1DBC11B4468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97E78-CAF9-49CD-9430-52AE623CC84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7360" y="1125360"/>
            <a:ext cx="85773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Haciendo hincapié en Medicare, damos información </a:t>
            </a:r>
            <a:r>
              <a:rPr b="1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gratuita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e </a:t>
            </a:r>
            <a:r>
              <a:rPr b="1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imparcial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sobre la cobertura de la atención médica y el acceso a esta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apacitamos a voluntarios para asesorar </a:t>
            </a:r>
            <a:r>
              <a:rPr b="1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onfidencialmente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a los consumidores en sus propias comunidades sobre lo siguiente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68184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Programas del Gobierno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68184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Revisión del plan de recetas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ontamos con 16 agencias patrocinadoras que prestan servicios en todos los condados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marL="339480" indent="-3394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Dirigimos a 250 voluntarios a nivel estatal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Rectangle 1"/>
          <p:cNvSpPr/>
          <p:nvPr/>
        </p:nvSpPr>
        <p:spPr>
          <a:xfrm>
            <a:off x="4184640" y="3565440"/>
            <a:ext cx="4572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4880" indent="-343080">
              <a:lnSpc>
                <a:spcPct val="12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Acceso al mercado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9748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Seguro privado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60000" y="476280"/>
            <a:ext cx="8574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84678"/>
                </a:solidFill>
                <a:latin typeface="Segoe UI"/>
              </a:rPr>
              <a:t>Subvención federal: difusión y asesoramiento de Medicare</a:t>
            </a:r>
            <a:endParaRPr b="0" lang="en-US" sz="2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212FE-6712-4DB2-B786-C1EF40EC58F6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A170C-3182-4AAE-9D27-F4FF2673A72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1" marL="560160" indent="-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Impecable red de 54 SHIP a nivel nacional: 14,500 asesores (57 % de voluntarios)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Socio comunitario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Tres objetivos principales: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Ayuda con asesoramiento personalizado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Difusión comunitaria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Suministro de asesores capacitados y respaldados (voluntarios y remunerados)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Medidas de desempeño: a nivel estatal y en el condado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2" marL="839880" indent="-335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Incluye cantidad de contactos, eventos, personas con bajos ingresos, personas con discapacidades, contactos rápidos y asesoramiento considerable, horarios de asesoramiento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60000" y="328320"/>
            <a:ext cx="860436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100" spc="-1" strike="noStrike">
                <a:solidFill>
                  <a:srgbClr val="084678"/>
                </a:solidFill>
                <a:latin typeface="Segoe UI"/>
              </a:rPr>
              <a:t>Prestamos servicios a todos, pero nos dirigimos a</a:t>
            </a:r>
            <a:endParaRPr b="0" lang="en-US" sz="31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91A37-9442-40C3-9149-EC14F226094D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1095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B7D8D-31D8-4937-AA86-CB2FF62F62B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60000" y="1052280"/>
            <a:ext cx="878364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de todas las edades y procedenci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con discapacidades y enfermedades específic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mayores y prejubilad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que tienen doble elegibilidad con Medicaid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con necesidades de salud menta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oblaciones étnicas y multilingü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sin seguro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oblaciones rural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con bajos ingreso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Cómo ayudamos a los consumidor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7A92D-0967-48FE-BD49-7004F2267ECB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E73E6-482F-48BC-92E0-A9BBAD9E8F6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7360" y="1533240"/>
            <a:ext cx="8445600" cy="28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lvl="1" marL="3398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Evaluamos las necesidades de cobertura médica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398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Determinamos la elegibilidad general para los program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398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Evaluamos y comparamos las pólizas/los program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398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acemos remisiones a otras agencias y program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398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Recopilamos e informamos posibles denuncias de fraud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Nuestros límites de recurso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A8263-DE73-41E8-AC03-806B5D712C87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8C74A-87E6-48AD-95C8-424003BCD25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3320" y="1310760"/>
            <a:ext cx="76406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No podemos recomendar un plan, una compañía o un agente de seguros médico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No ayudamos a resolver problemas de facturación médica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No somos trabajadores sociales, pero hacemos lo siguient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Courier New"/>
              <a:buChar char="o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</a:rPr>
              <a:t>Ayudamos con la inscripción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Courier New"/>
              <a:buChar char="o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</a:rPr>
              <a:t>Llamamos al 1-800-Medicare en nombre de los clientes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Courier New"/>
              <a:buChar char="o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</a:rPr>
              <a:t>Ingresamos quejas de Medicare en nombre de los clientes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Información de 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FB8FA-C529-439D-BC7E-ACAFD8F34223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B4D70-AFD4-4A8C-A122-DAF3F064E2B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49200" y="1439640"/>
            <a:ext cx="8445600" cy="24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Segoe UI"/>
                <a:ea typeface="Segoe UI"/>
              </a:rPr>
              <a:t>Durante 2022: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yudamos a más de 30,000 consumidores con asesoramiento individua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icimos más de 1,250 eventos de difusión en todo el estado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apacitamos a más de 43,000 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onsumidores en todo el estado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911880" indent="-34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50" name="Picture 10" descr="C:\Documents and Settings\donnaw\Local Settings\Temporary Internet Files\Content.IE5\34LP0ZPW\MP900422370[1].jpg"/>
          <p:cNvPicPr/>
          <p:nvPr/>
        </p:nvPicPr>
        <p:blipFill>
          <a:blip r:embed="rId1"/>
          <a:stretch/>
        </p:blipFill>
        <p:spPr>
          <a:xfrm>
            <a:off x="5892840" y="3933720"/>
            <a:ext cx="27446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Difusión comunitari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5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39742-724A-402C-B927-8D88BF7EB4A9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FDECB-7126-4C4A-ABE5-01DBE8DF67F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7360" y="1549080"/>
            <a:ext cx="84456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Eventos de cumpleaños para personas que cumplen 65 años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línicas y eventos de inscripción en Medicare a nivel estatal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lases sobre Medicare en</a:t>
            </a:r>
            <a:br>
              <a:rPr sz="2600"/>
            </a:b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olegios universitarios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¡Encuentre eventos de SHIBA en </a:t>
            </a:r>
            <a:br>
              <a:rPr sz="2600"/>
            </a:b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su área! Visite la siguiente página en línea: 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84678"/>
                </a:solidFill>
                <a:latin typeface="Segoe UI"/>
                <a:ea typeface="Segoe UI"/>
              </a:rPr>
              <a:t>www.insurance.wa.gov/shiba-events-calendar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57" name="Picture 2" descr="147"/>
          <p:cNvPicPr/>
          <p:nvPr/>
        </p:nvPicPr>
        <p:blipFill>
          <a:blip r:embed="rId1"/>
          <a:srcRect l="0" t="8661" r="0" b="0"/>
          <a:stretch/>
        </p:blipFill>
        <p:spPr>
          <a:xfrm>
            <a:off x="5519880" y="2766960"/>
            <a:ext cx="29653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06:02Z</dcterms:created>
  <dc:creator>SHIBA</dc:creator>
  <dc:description/>
  <cp:keywords/>
  <dc:language>en-US</dc:language>
  <cp:lastModifiedBy>Wells, Donna (OIC)</cp:lastModifiedBy>
  <dcterms:modified xsi:type="dcterms:W3CDTF">2024-01-18T19:34:52Z</dcterms:modified>
  <cp:revision>115</cp:revision>
  <dc:subject>Public presentation about the SHIBA program</dc:subject>
  <dc:title>Asesores sobre los Beneficios del Seguro Médico a Nivel Estatal (SHIBA)</dc:title>
</cp:coreProperties>
</file>