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73897-75FD-46A2-9B72-E6AD6A895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48434-8748-4647-B636-305BDAE98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3CA7E-4293-454B-9F6F-7E5A668B0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A060A-1A6B-4F38-92BF-779E17AD9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92AD8-7647-426B-B5AF-DCD00AF2C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D66F0-3562-4FB5-BF57-C24F1DB6F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F78E4-A8E9-4433-B258-310142ADB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6E540-BDB5-416F-B6E6-0CB6E2CDF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D9ED7-BAC9-4B82-ABC0-26DDABC98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F7F6A-528A-4AEC-85BB-3C4C6F126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45B06-C685-4C34-8808-A5F78E6CF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F69F8-E044-4950-B48A-784D3506C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7614F-D17A-4E9C-9509-AF2E4E897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2EEB8-1C58-4A66-B05F-A9A5DA986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3B84A-CD8C-471D-BA3A-EEC7EB813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21E7A-17B0-4FDB-99CF-4251D1F7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5B38E-4143-48D7-8AE7-B7ACB8CD3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D40E7-71D5-402F-8C60-A266C0294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IC does more than Medicare and SHIBA!  If you have other insurance questions, give the Insurance Commissioner’s office a cal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9B08F-D967-4320-808F-46334198C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6, a small group of volunteers, known then as Health Insurance Referral Services, were part of a pilot program in Mount Vernon (Skagit County), which was funded by the local RSVP. They helped counsel senior citizens on health insurance, Medicare and Medicai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8, David Walker, the OIC’s Deputy Commissioner for Consumer Protection, took notice of this group and helped the group become SHIBA, which then stood for Senior Health Insurance Benefits Advis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the spring of 1979, the state’s Insurance Commissioner Dick Marquardt, officially endorsed SHIBA as a statewide project with the Office of the Insurance Commissioner. At that time, it had 25 active SHIBA units statewide with a total of 250 volunte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Later on, SHIBA inspired the federal government in 1990 to create a model, called the national State Health Insurance Programs (SHIPs). Today, there are SHIPs in all 50 states, plus Puerto Rico, Guam, the District of Columbia and the US Virgin Islands.</a:t>
            </a: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90C4C-6534-4D77-9139-8FB71E8CB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F0190-4BB1-48E4-B272-376D1422B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8F59B-7DEB-4030-ABAB-BC22EF0E5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B9346-7D42-49ED-8DC6-0E4C9A497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8944B-E8A2-4507-8D4F-CF6A8AA2C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7F0EA-88B6-478E-8CB2-23E8BAA2A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08541-ED96-4A64-87C9-E8AA87C3C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DAD-6636-49A4-97B3-EB607833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69F-F8B9-4573-9BAA-505C48F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CAA7F8-083E-4435-AB7B-F2F109E9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A72C0-3104-46A3-8534-D0E5207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0736A-5B84-4848-A74A-7C4E184B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80C70-3717-4AB9-9298-B51029D9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2FDD0-7776-489F-9264-DA01C882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DB19FB-C7B0-4762-ADFC-7E63D35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363D2-3064-469F-B859-D366C612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39073-E679-4C6C-88D1-95F21907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06677-1272-46F4-9464-9D563CFB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359-67FA-4B4A-AD17-50D4E637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80A-4B6C-4437-81CC-A964EE70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E66-14E0-4A46-99E5-90F7D763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B0E-C24A-407E-A9CB-239002B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EB9D9-8ACD-4E26-8B03-3279F8FE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2839D-BFB2-4338-A36C-B5E5C817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60289-915A-4EBE-8358-F3B8235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AC1-8A98-4CC1-8529-46480737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E063F-EF06-4D89-8C25-B29161E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C51AF-5C01-4ACB-9559-7775A4D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4BA93-7B3E-4FBE-B514-40B7D286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A22F5-F550-433E-B6D8-D8D59C87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C9737-5CC1-46D6-B39D-174439C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84171-6E80-4B4D-9FDF-624D2A5C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D199B-67EF-4544-88CC-DFEF6159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BA666-C845-4CE9-BACD-BF299EEC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1066F-7750-4D83-BEBC-14E1E5CD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8C2B8-0B24-4D82-AC2E-0C91CEDB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002-24DE-4ECD-972C-D14F1018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956DE-C9B9-4752-983A-CF4BDC4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A03C1-EE5B-41FD-988C-8228EDD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8C852-554F-484C-BFF3-24DAC54F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83DAB-D96B-449D-A516-321D5B42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DC240-7D05-4D77-96A7-6192AEC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A3F85-2026-4476-9570-28FD388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B7E68-E4AB-4D7F-85E7-291BD10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D2521-E535-4D39-9482-D9A81F9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108D1-1100-4960-B161-DD199E5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18CB5-256B-4035-97D3-CF57903A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FD3-6736-4E5E-AB5F-840FA804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095C3-A883-4029-83D1-9CE484C1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599F8-5719-45FF-86F3-03F062C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06D99-4F12-443B-AC29-C434684D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495E8-EF8E-4124-B8BC-B444CA2B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8A09A-F822-4FB1-B6A5-3329594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8AB71-E469-4F45-B553-AA9D5993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3A92C-57F5-4581-937E-4C0842BC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B2E3F-CF1C-4455-9173-A356FEF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F1FAF-F1F7-4859-871C-C00F75E2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787D7-FC5B-4853-A300-B493A83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920-3D1C-46E2-8D47-DA8DA32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A2FA0-92F6-41FF-9D38-063F7D9D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DBD3E-0FA4-4DFF-B850-4AEEFDC4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6CFE1-8F5E-43D1-A4C0-88FFBC7A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48875-295C-4399-90FE-057FA078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037EF-8B4B-4FCB-A615-868BC35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22CFE-1361-4734-8FD7-F94D602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2B3BD-C866-464F-B33A-501DE5B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0F5A9-0E4B-459F-853F-FF650DC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715C1-57DD-46D3-8CA6-53D4449B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4A582-EF0C-495C-A296-EA63DD0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846-5AE3-41B6-8105-EE68790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B8924-6F3F-4690-85DE-A6795BE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3C0CC-1BAB-470E-B12F-2FB2F8D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6AC0D4-B2BD-40A0-8FFF-ED9EA17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6AE8F-A243-4297-9DFD-48A0B936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BB074-53B4-4A3E-B844-8636A3C4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52958-C505-4382-A40A-149E5353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C7558-5FF9-4EE4-8776-C6462F2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0BF14-DD3E-4F2E-B947-CB7CA630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E776A-C16A-473C-99D7-762F708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4247C-C1B5-44C6-8244-8085D64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467-8543-435B-8D7E-D290DE3E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7CDE1-7F6B-4E91-97E9-8A9D9DDE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B22AD-8AE3-4ADC-9D57-DDC8455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AD498-C872-40C5-B5E9-A4113451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3AA72-1EE1-46F2-BD33-5FF59DF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E5D73-401A-4AC5-9112-677B6E08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76473-0894-42F9-A9C6-D7240B8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6BC75-4AE4-4FC7-B4B6-FADC0CFE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78ED4-5C3A-4B6A-80C9-2DEBFCCA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66DCD-95E4-44FF-9806-324B908F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0A9899-4EBA-407F-99AE-A2C518C5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58CF4-4AA6-40F9-B174-9BE21A9AE96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0DC1B-E07D-433E-B44E-2E10350DA36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47" name="Rectangle 7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9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9" descr="C:\Documents and Settings\ab29\Local Settings\Temporary Internet Files\Content.IE5\8SIXVW2N\MP900409640[1].jpg"/>
          <p:cNvPicPr/>
          <p:nvPr/>
        </p:nvPicPr>
        <p:blipFill>
          <a:blip r:embed="rId3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b29\Local Settings\Temporary Internet Files\Content.IE5\7ZND71FB\MP900309115[1].jpg"/>
          <p:cNvPicPr/>
          <p:nvPr/>
        </p:nvPicPr>
        <p:blipFill>
          <a:blip r:embed="rId4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ab29\Local Settings\Temporary Internet Files\Content.IE5\I0WIJ97D\MP900438813[1].jpg"/>
          <p:cNvPicPr/>
          <p:nvPr/>
        </p:nvPicPr>
        <p:blipFill>
          <a:blip r:embed="rId5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ispanic over 65 couple.JPG"/>
          <p:cNvPicPr/>
          <p:nvPr/>
        </p:nvPicPr>
        <p:blipFill>
          <a:blip r:embed="rId6"/>
          <a:srcRect l="0" t="-10" r="0" b="0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2006D-E8B2-4785-A8EA-81CA5B7CAD64}" type="datetime3">
              <a:rPr b="0" lang="en-US" sz="1100" spc="-1" strike="noStrike">
                <a:solidFill>
                  <a:srgbClr val="084678"/>
                </a:solidFill>
                <a:latin typeface="Segoe UI"/>
                <a:ea typeface="Segoe UI"/>
              </a:rPr>
              <a:t>July 30,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94" name="Rectangle 2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5" name="Right Triangle 7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97" name="Rectangle 10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9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139E5-866E-4BBD-8193-93D8946A89E4}" type="datetime3">
              <a:rPr b="0" lang="en-US" sz="1400" spc="-1" strike="noStrike">
                <a:solidFill>
                  <a:srgbClr val="084678"/>
                </a:solidFill>
                <a:latin typeface="Segoe UI"/>
                <a:ea typeface="Segoe UI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4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44" name="Rectangle 2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5" name="Right Triangle 7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6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DBDA8-4895-494D-AB1A-0DCDB8F70AD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7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8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59BA1-71C8-4B94-BFB5-8315B6D3C9B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8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90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E5BB4-534C-4B4E-A370-EE2B9BD806C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1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1F522-CBE5-44F6-B670-FDEB62244F8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34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6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2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D2623-EFDC-4CD8-8933-AF0DDC1B4DD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3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4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2E8E3-BA71-473C-91B5-99D44ACA0CC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8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8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5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98418-B5C3-4D7C-8C23-C1881C95575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6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7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019CE-898D-45A6-B7B8-9DDEE97A920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6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8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8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22FD3-49DF-4703-810B-A5F88970175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9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AC112-0ED7-4DB1-B354-B8DC406F215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7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7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0B761-EB79-43AA-909A-BC73F5E1728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08208-4BD4-41DE-B879-221FE394951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nsurance.wa.gov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25120" y="3838320"/>
            <a:ext cx="713268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read </a:t>
            </a:r>
            <a:br>
              <a:rPr sz="3600"/>
            </a:b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Summary Notices and Explanation of Benefit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6816600" y="5921280"/>
            <a:ext cx="21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3b62"/>
                </a:solidFill>
                <a:latin typeface="Segoe UI"/>
                <a:ea typeface="Segoe UI"/>
              </a:rPr>
              <a:t>Revised – Jan. 23, 2024</a:t>
            </a: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26" name="Picture 1" descr="A round blue and orange label with text and balloons&#10;&#10;Description automatically generated"/>
          <p:cNvPicPr/>
          <p:nvPr/>
        </p:nvPicPr>
        <p:blipFill>
          <a:blip r:embed="rId1"/>
          <a:stretch/>
        </p:blipFill>
        <p:spPr>
          <a:xfrm>
            <a:off x="285840" y="3610080"/>
            <a:ext cx="1865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68240" y="1230480"/>
            <a:ext cx="7629480" cy="4833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ample MS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CB63B-FF63-4402-A342-8D3BF74774C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E6502-1314-4A83-9D45-EBB1371FC60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406440"/>
            <a:ext cx="84456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0658A-A5EA-4108-B607-84C19D42163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617AA-9749-40AC-933E-4DAD40FFB15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44600" y="1482840"/>
            <a:ext cx="8277120" cy="52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Before starting, check to make sure the denial is not an error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400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•</a:t>
            </a:r>
            <a:r>
              <a:rPr b="1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Sometimes, the bill the provider sends to Medicare is incorrectly filed, which results in a denial of service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The provider’s office can correct the error by contacting the company that processed the Medicare claim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425520"/>
            <a:ext cx="84456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C1CB6-24F9-44A9-BB79-CD4B52272CE9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19F1E-5E48-4D1B-A935-29DBF7A6DB3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33440" y="1327320"/>
            <a:ext cx="7926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tart the appeal by filling out the shaded area on the last page of the MSN.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Ask your provider to write a letter of support that explains why you need the care and addresses the plan’s denial reas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nd copies of letters - do NOT send origina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ail copies to the address by the date indicated on the last p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3720" y="44280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E0B57-D2C4-4A10-8D9B-24EE39A2DD5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8EC32-A09C-4B1E-95D6-150DBE1A401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698400" y="1073160"/>
            <a:ext cx="7585200" cy="4989600"/>
          </a:xfrm>
          <a:prstGeom prst="rect">
            <a:avLst/>
          </a:prstGeom>
          <a:ln w="0">
            <a:noFill/>
          </a:ln>
        </p:spPr>
      </p:pic>
      <p:sp>
        <p:nvSpPr>
          <p:cNvPr id="48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2F3C0-640F-4DE6-9E7C-458F147BB78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BAB9F-3A43-4AB0-B8D6-F416CBA62B6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60360" y="1337760"/>
            <a:ext cx="84456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You can appeal Medicare’s decision to deny coverag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There are multiple levels to the appeal proces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If an appeal is denied, you can appeal to the next leve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You can request a good cause extension if you miss the appeal deadline (file as normal with an explanation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xplanation of Benefits (EOBs)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5" name="Slide Number Placeholder 7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697BF-532A-4821-B5F0-90F8BB8D5A7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A6092-9498-4C7D-8D28-68823F87F1F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at is an EOB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4D853-137F-4B4B-B51A-B9929F547FB4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4A1FF-D8D8-45F5-907A-2390AFA98AC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60360" y="1310760"/>
            <a:ext cx="8445600" cy="49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28600">
              <a:spcBef>
                <a:spcPts val="2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only receive an EOB if you have an MA plan or a Medicare Part D drug pla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not a bil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a summary of the services or items you have received and how much you may owe for them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 tells you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ow much your provider bille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approved amount your plan will pay.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ow much you have to pa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ips for understanding your EOB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49200" y="1437840"/>
            <a:ext cx="844560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you have an MA plan or Medicare Part D drug plan, your plan will send you your EOBs monthl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’ll only receive an EOB if you received servic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ach insurance plan has its own format, but should include information such as claim number, date of service, amount the provider billed the plan, etc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29941-9BDD-45F8-B2BC-418ACF3FCD5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D0E22-D329-4D1D-B7FD-CF2D1C8475B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ips for understanding your EOB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9632A-AC78-46ED-ADD4-56E16DE7C2C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E5E3F-F321-4CD3-9600-17F905E9CFB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60000" y="1197000"/>
            <a:ext cx="82789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ad the definitions and descriptions of services carefull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view the Notes section, including any footnotes where the plan explains its payment decis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an MA or Medicare Part D plan rejects a covered service or prescription drug you received, you should appea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e the “Where to go for Help” section on the last page of your EOB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ample EOB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95348-683D-4456-96F8-1C9902E70EE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84841-9AEE-4B1D-B880-FB930821F91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1460520" y="1219320"/>
            <a:ext cx="6008760" cy="4925880"/>
          </a:xfrm>
          <a:prstGeom prst="rect">
            <a:avLst/>
          </a:prstGeom>
          <a:ln w="0">
            <a:noFill/>
          </a:ln>
        </p:spPr>
      </p:pic>
      <p:sp>
        <p:nvSpPr>
          <p:cNvPr id="51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HIBA missio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12880" y="1725480"/>
            <a:ext cx="78213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HIBA provide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free, unbiased information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about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health care coverage and acces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help improve the lives of all Washington state residents.  We cultivate community commitment through partnership, service and volunteering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EAA85-8E5F-41CD-94CA-11BD217404E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93B54-EC01-459A-852E-C733244A187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63A17-B65C-47C5-8099-355CE8930D9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60000" y="1429920"/>
            <a:ext cx="8342280" cy="41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Before starting, check to make sure the denial is not an error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Sometimes, the bill the provider sends to your MA plan is filed incorrectly, resulting in a denial of service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The provider’s office can correct the error by contacting the company that processed the claim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BF538-8C49-487D-8A65-C30E2043DFE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778CF-74B9-4892-9D31-90E06D4EA10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60360" y="1225440"/>
            <a:ext cx="8577360" cy="47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tart an appeal by sending a letter to the plan’s grievances and appeals department that explains why you need the service or item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6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sk the doctor to write a letter of support that explains why you need the care and addresses the plan’s denial reas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6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end copies of letters - do NOT send origina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Date Placeholder 3"/>
          <p:cNvSpPr/>
          <p:nvPr/>
        </p:nvSpPr>
        <p:spPr>
          <a:xfrm>
            <a:off x="6032520" y="6348240"/>
            <a:ext cx="2133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AC03C-C881-43B9-AA7F-35E822273AF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7817C-612F-4EC6-899E-42B62F61317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C1BF0-1E43-49D9-AE41-D351CD8EFC9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760" y="1242720"/>
            <a:ext cx="81010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appeal the MA or drug plan’s decision to deny cover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re are multiple levels to the appeal proces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an appeal is denied, you can appeal to the next leve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request a good cause extension if you miss the appeal deadline (file as normal with an explanation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at else you need to know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E4796-A9A7-49BC-A2AB-7270CBFB291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5" name="Slide Number Placeholder 7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16E13-CFB2-45D1-A126-16408C74053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7520" y="472680"/>
            <a:ext cx="844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Learn about Medicare’s coverage rul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AFE04-8504-4037-805D-051C6D79B11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7EE90-6572-426B-9E1E-129A29F0A31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60360" y="1390320"/>
            <a:ext cx="8445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To learn more about Original Medicare’s coverage of a service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Call 1-800-MEDICARE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(1-800-633-4227)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Visit Medicare.gov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Read the relevant sections in the Medicare &amp; You handbook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Contact your local SHIBA office at 1-800-562-6900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ere to go for hel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60000" y="1318680"/>
            <a:ext cx="81709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egoe UI"/>
            </a:endParaRPr>
          </a:p>
          <a:p>
            <a:pPr lvl="1" marL="46188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For questions about your MSN, call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1-800-MEDICARE (1-800-633-4227)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46188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For questions about your EOB, call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Your insurance plan - the phone number is located on the back of your plan’s insurance card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46188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If you do not think you received the service, item or medication outlined on your MSN or EOB, contact your provider to inquire about a possible error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5946840" y="6321600"/>
            <a:ext cx="2133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FC76A-B6D7-4C27-8860-F55397546BB1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142B5-C8DA-47AF-9049-A73B782180D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Volunteer for SHIBA!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37680" y="1355400"/>
            <a:ext cx="559764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275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Do you want to help explain health care  benefits or options to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Friends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Neighbors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You community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Help people become better informed consumers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9" name="Date Placeholder 3"/>
          <p:cNvSpPr/>
          <p:nvPr/>
        </p:nvSpPr>
        <p:spPr>
          <a:xfrm>
            <a:off x="5946840" y="6321600"/>
            <a:ext cx="2133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85A59-2659-4C79-A4EB-FB8BAFD41E8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133CE-EBBC-46F6-B003-5420B80230C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830920" y="1368360"/>
            <a:ext cx="2975040" cy="37846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4"/>
          <p:cNvSpPr/>
          <p:nvPr/>
        </p:nvSpPr>
        <p:spPr>
          <a:xfrm>
            <a:off x="581040" y="5256360"/>
            <a:ext cx="79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Become a volunteer! Call: </a:t>
            </a:r>
            <a:r>
              <a:rPr b="1" lang="en-US" sz="2800" spc="-1" strike="noStrike">
                <a:solidFill>
                  <a:srgbClr val="084678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84678"/>
                </a:solidFill>
                <a:latin typeface="Segoe UI"/>
              </a:rPr>
              <a:t>Need help with other insurance questions?</a:t>
            </a:r>
            <a:endParaRPr b="0" lang="en-US" sz="35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E0D13-C037-4813-B45F-C1137D3317C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FED8E-6EEA-4E5B-84B4-C632254CFA6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0360" y="1311120"/>
            <a:ext cx="8445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The Office of the Insurance Commissioner can also help you with questions, information and complaints about all types of insurance, such as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Content Placeholder 2"/>
          <p:cNvSpPr/>
          <p:nvPr/>
        </p:nvSpPr>
        <p:spPr>
          <a:xfrm>
            <a:off x="2122560" y="2684520"/>
            <a:ext cx="246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omeowner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uto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9" name="Content Placeholder 2"/>
          <p:cNvSpPr/>
          <p:nvPr/>
        </p:nvSpPr>
        <p:spPr>
          <a:xfrm>
            <a:off x="4781520" y="2701800"/>
            <a:ext cx="27338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nuiti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0" name="Content Placeholder 2"/>
          <p:cNvSpPr/>
          <p:nvPr/>
        </p:nvSpPr>
        <p:spPr>
          <a:xfrm>
            <a:off x="512640" y="4308480"/>
            <a:ext cx="8029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ll our Insurance Consumer Hotline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On the web at: </a:t>
            </a: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SHIBA celebrates 45 year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72960" y="1198440"/>
            <a:ext cx="80740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SHIBA celebrates 45 years of helping people on Medicare!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6, a small group of volunteers, known as Health Insurance Referral Services, were part of a pilot program in Mount Vernon. They helped counsel senior citizens on health insurance, Medicare and Medicaid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8, the OIC’s Consumer Protection Deputy Commissioner helped the group become SHIBA, which then stood for Senior Health Insurance Benefits Advisors.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9, the state’s Insurance Commissioner Dick Marquardt, officially endorsed SHIBA as a statewide project with the Office of the Insurance Commissioner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Later on, SHIBA inspired the federal government in 1990 to create a model, called the national State Health Insurance Programs (SHIPs)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Today, there are SHIPs in all 50 states, plus Puerto Rico, Guam, the District of Columbia and the US Virgin Islands.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D29FA-448A-46AB-A65C-64D42E41CA9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AEA71-1133-45C4-B373-4568E195F30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he Senior Medicare Patrol (SMP) missio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983040" y="1306440"/>
            <a:ext cx="43718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The SMP mission: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2ba3f"/>
                </a:solidFill>
                <a:latin typeface="Segoe UI"/>
              </a:rPr>
              <a:t>Empower and assist Medicare beneficiaries, their families, and caregiver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Segoe UI"/>
              </a:rPr>
              <a:t>to prevent, detect, and report health care fraud, errors, and abuse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n-US" sz="2800" spc="-1" strike="noStrike">
                <a:solidFill>
                  <a:srgbClr val="2897f1"/>
                </a:solidFill>
                <a:latin typeface="Segoe UI"/>
              </a:rPr>
              <a:t>through outreach, counseling and education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16497-D79B-4080-9127-51C0F1A8362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BE5B8-B615-447A-8DAA-C857B7D41E3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446040" y="1211400"/>
            <a:ext cx="2981520" cy="4626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9"/>
          <p:cNvSpPr/>
          <p:nvPr/>
        </p:nvSpPr>
        <p:spPr>
          <a:xfrm>
            <a:off x="914400" y="3054240"/>
            <a:ext cx="197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 Gothic MT"/>
                <a:ea typeface="Segoe UI"/>
              </a:rPr>
              <a:t>Prevent Detect Report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43" name="Picture 2" descr="A picture containing text, clipart&#10;&#10;Description automatically generated"/>
          <p:cNvPicPr/>
          <p:nvPr/>
        </p:nvPicPr>
        <p:blipFill>
          <a:blip r:embed="rId2"/>
          <a:stretch/>
        </p:blipFill>
        <p:spPr>
          <a:xfrm>
            <a:off x="1125360" y="4535640"/>
            <a:ext cx="1622520" cy="765000"/>
          </a:xfrm>
          <a:prstGeom prst="rect">
            <a:avLst/>
          </a:prstGeom>
          <a:ln w="0">
            <a:noFill/>
          </a:ln>
        </p:spPr>
      </p:pic>
      <p:sp>
        <p:nvSpPr>
          <p:cNvPr id="44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9200" y="3430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oday’s overview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60360" y="1392120"/>
            <a:ext cx="84456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ake sense of your Medicare Summary Notices (MSNs) from Medicar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ake sense of your Explanation of Benefits (EOBs) from your Medicare Advantage (MA) or drug pla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elpful information about Medicare cover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nd out about volunteer opportuniti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'll wrap up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8F11E-949B-4D70-9708-002EAAC00B7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68E4E-E4F6-463A-BBC0-C141D2D0836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Important ter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BCF50-086C-474B-8CEA-765D15CFE62F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F9467-5902-444D-A824-2E1E63EC887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0360" y="1668240"/>
            <a:ext cx="8445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Appeal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a formal request to Medicare, an MA or RX plan, to review a service or item coverage decis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Coinsurance/Copayment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amount you must pay for each service or item. Coinsurance is a percentage of the total cost. A copayment or copay is a fixed amoun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Deductible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amount you must spend on health care or drugs before your insurance begins to pa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Summary Notice (MSN)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6" name="Slide Number Placeholder 7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52270-C4B1-4DD8-A8E2-C5B2F92908E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539FF-2589-431A-9AEC-9BE76002B34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at is an MSN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FE80C-F6FE-4B4D-AFBE-A3781948B4A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BF03C-BA8F-43F4-88C3-50BE694CE64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60360" y="1014480"/>
            <a:ext cx="8445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It's not a bill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It's a notice that people with Original Medicare get in the mail every 3 months for their Medicare Part A- and B-covered service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The MSN shows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All your services or supplies that providers and suppliers bill to Medicare during the 3-month period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What Medicare paid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The maximum amount you may owe the provider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If Original Medicare will not pay for care you received, you will find this out when you receive your Medicare Summary Notice (MSN)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7640" y="414360"/>
            <a:ext cx="862956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84678"/>
                </a:solidFill>
                <a:latin typeface="Segoe UI"/>
              </a:rPr>
              <a:t>Tips for understanding your MSN</a:t>
            </a:r>
            <a:endParaRPr b="0" lang="en-US" sz="33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6DE34-C025-4F3D-A942-7CEFB07D038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2083A-DE92-43CF-9DDF-E24DA70B652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77640" y="1112400"/>
            <a:ext cx="835164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also view your MSNs online at medicare.gov when you open an accoun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ad the definitions and descriptions of services carefull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view the Notes section where Medicare explains its payment decision or gives other important informat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Medicare rejects a covered service you received, you should appea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e the “Where to go for Help” section on the last p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Segoe UI"/>
            </a:endParaRPr>
          </a:p>
          <a:p>
            <a:pPr lvl="1" marL="74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/>
  <dc:language>en-US</dc:language>
  <cp:lastModifiedBy>Wells, Donna (OIC)</cp:lastModifiedBy>
  <cp:lastPrinted>2019-07-31T19:39:20Z</cp:lastPrinted>
  <dcterms:modified xsi:type="dcterms:W3CDTF">2024-01-23T21:51:56Z</dcterms:modified>
  <cp:revision>361</cp:revision>
  <dc:subject>Public slide show about how to read a Medicare Summary Notice and an Explanation of Benefits</dc:subject>
  <dc:title>How to read a Medicare Summary Notice and Explanation of Benefits</dc:title>
</cp:coreProperties>
</file>