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1EAAC-3F46-44EF-8279-3DBE140B8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67ED4-F7E3-40CD-8E83-F5F6F9590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51A01-84FD-4AA5-BB3F-0CB3927C3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29E27-185B-44BD-B59E-C7C0E9ACC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A898B-3551-4848-A30E-971FBF6E5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2C4E0-08A1-4387-B338-18B8829DF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0D80B-E066-4B70-9F1F-E93191204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3F784-0982-43DC-84B3-6AE53E2ED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0F305-0BA6-4AD8-AB4A-B75E98862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849B5-BAB1-4BE2-BF00-A41BF8334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A2281-AFA4-4609-9EB8-42DAE71DF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0B033-A3A4-4AE3-AA29-DD35D0EBC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036BE-29DC-4390-AFA2-D3729A200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2EC3F-6C5A-4087-B687-995A98A84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9283B-368D-4EC2-804D-1E8A35547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C041F-A561-467E-9A64-1DC3545B0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E78E7-BAB9-4612-A8D6-C505384C9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74E1D-2A33-4CBB-BED2-A83DD2D4B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IC does more than Medicare and SHIBA!  If you have other insurance questions, give the Insurance Commissioner’s office a cal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91FBF-D1BB-4B0F-87D5-351BC406A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6, a small group of volunteers, known then as Health Insurance Referral Services, were part of a pilot program in Mount Vernon (Skagit County), which was funded by the local RSVP. They helped counsel senior citizens on health insurance, Medicare and Medicai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8, David Walker, the OIC’s Deputy Commissioner for Consumer Protection, took notice of this group and helped the group become SHIBA, which then stood for Senior Health Insurance Benefits Advis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the spring of 1979, the state’s Insurance Commissioner Dick Marquardt, officially endorsed SHIBA as a statewide project with the Office of the Insurance Commissioner. At that time, it had 25 active SHIBA units statewide with a total of 250 volunte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Later on, SHIBA inspired the federal government in 1990 to create a model, called the national State Health Insurance Programs (SHIPs). Today, there are SHIPs in all 50 states, plus Puerto Rico, Guam, the District of Columbia and the US Virgin Islands.</a:t>
            </a:r>
            <a:r>
              <a:rPr b="0" lang="en-US" sz="1200" spc="-1" strike="noStrike">
                <a:solidFill>
                  <a:srgbClr val="000000"/>
                </a:solidFill>
                <a:latin typeface="Segoe UI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3BC9C-A47F-4E8B-BC02-D36121BED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39B49-F355-41D4-88E9-6E7E0AB15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D4999-9FCD-46CE-ACCE-6EB588684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54426-9FF3-4523-8E91-841AB5CAA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E6E3B-2A40-4322-8304-54C53BC9D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81E8E-C35C-4BD5-A8D1-83F6750AF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079EE-59A5-49A1-9DD6-08237504C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8BF-EF0E-4554-B4B9-5BBBCBED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59A-6FA4-42BB-A64B-5E2AA4B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A9C7D-3B9E-4C5F-BA34-DB7D1A72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050DE9-ADA8-4255-B305-FE0D846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209F24-0844-4367-9A83-F5102A70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EF91E-2F76-4058-870F-16739AD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668C97-485C-4414-BCE4-90E2E14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AFD544-7B90-4B11-B9B8-FFFB22E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29B3EA-BD4D-4BF7-A656-3098709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E1BBE-C54B-48D3-8961-9FDAE624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47923-0019-4821-B7D3-E4C03D69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80A-2A3E-4C64-9EF2-A44855DC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729-F937-4FA3-863C-3C1A3F55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5C6-5B9E-4906-A7F9-443140AA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CCF-5C54-4840-8695-4D7AD0D7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A2976-6C8C-44B3-8FA5-C1334145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319AA-4146-4DD0-ACCF-1B1714B6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A0CD1-6BF2-4EE2-9E2C-F007BEAF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452-EC06-4890-BD2B-F4E2926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83425-88A8-43E2-814D-A7E109F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3CB6D-D2D9-4385-94E3-05F54230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ABCEA-B448-49B1-81BC-9C2D82A3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1448C-38CB-4B29-AAB9-0838EEE2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63BAC-CD52-4343-8277-4AB310C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B29E8-EE61-4D7D-8D0A-DCD7C62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ACE48-BBAD-4634-910E-B7572568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3ECDF-8655-4A71-8AE0-D9CE5BA5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CCFEC-D338-4FE4-AEA6-19E96AD3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57CF4-A543-434E-8CC1-2DFDE2E3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8BF-59A7-43F4-A1FA-49676061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8C562-61BA-4D5A-9FA2-41BAEF7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EF71B-0674-417C-924B-B1F9F9A9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FDE60-4DBB-4D08-A5DB-BC76215C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910D6-0665-4706-969D-18BB76F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17EF6-1B83-408B-A38B-EAACC098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08D9E-A5CB-4357-AC72-C2A04E9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9F7A3-F967-402A-8C71-E5A347D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823A7-3DA7-461E-8329-65FB982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E29A0-CA7F-4DEF-88FC-9F840613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02A56-F150-41F4-8F7C-755E1801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9AA-2BC1-455D-8E0B-16E21DB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0112C-A0AE-4E71-98AB-4E95749F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1B685-E930-4264-8333-DCB206E7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8E2F3-8923-43B7-9B3F-601CFC8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44576-5EF1-45AD-AF1D-C853BF50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C3498-4D7E-4C91-B2B1-27C4AFF1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9B988-EBBF-4B6D-824F-DCCF8BAC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C6072-7F2E-44BC-9062-D4489D9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A7CD0-E4E2-4D74-A729-848A5BCD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1B855-E849-496A-B0C3-F9C9E67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396C2-2964-455D-A966-F5D5972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A55-FEBC-4687-ABBC-346E3FC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6778F-E52D-4C95-804D-121F629E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95676-9C16-4324-9A9F-14B12A48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B8730-9852-4480-B37D-10C26421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47959-3D45-4B59-A049-B703A9EE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A158F-12C1-4A2A-AE41-D4330B09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8963B-DA6C-459F-8B0D-B7F1C58F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29C56-D731-4FB9-AC43-4AE6444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5A324-A2C8-479A-9954-5CF9C8C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6D8B3-75C3-447D-89BA-3D6A1F57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E2AE3-44AF-4746-A6A2-4A632A1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469-DEDE-499B-95E0-8697A31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E14EE-0E45-46B0-B1ED-EB0EFEA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309CE-ED80-4A4D-8640-1139593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4BCE2-C8AB-4CBD-8716-BE4B1A6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42E5C-1828-44AC-BAC7-FF07A9A1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BB68D-8181-4B52-9960-BE31AB8A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3B9F8-1311-4163-9F03-0B5B5C94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F408E-9BB1-4024-8CA1-BBCB3945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67F47-F7F5-4C04-9806-8B947E46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1ABF0-15B2-4888-B2B5-E985BC7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97E22-E602-47F0-9622-6E46B1B0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8AE-D4C6-4014-BDD3-EFF29C3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B25CA-A506-438C-9D41-B58FD6E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1462B-D503-4AF9-A537-380BFCC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2402A-3A4E-4C12-8F17-BE9FFA9C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8BC35-FEB2-44F4-A623-EC6DE63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3A526-CEC6-4739-91B8-707C9882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2E4BE-DCA9-4CC2-BCFC-17046900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CE54C-6F46-49F4-81B6-D4EC33D2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61FEBC-FF5A-40FB-A6F9-53913DF5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D7160-BACD-441D-8476-7F124C5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1B415-1134-4817-B460-18F38F4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FEA4B-C053-4A52-9FBB-E56C4EC8A85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45F27-9310-44E6-A3F6-EB82938AFFE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47" name="Rectangle 7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9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9" descr="C:\Documents and Settings\ab29\Local Settings\Temporary Internet Files\Content.IE5\8SIXVW2N\MP900409640[1].jpg"/>
          <p:cNvPicPr/>
          <p:nvPr/>
        </p:nvPicPr>
        <p:blipFill>
          <a:blip r:embed="rId3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b29\Local Settings\Temporary Internet Files\Content.IE5\7ZND71FB\MP900309115[1].jpg"/>
          <p:cNvPicPr/>
          <p:nvPr/>
        </p:nvPicPr>
        <p:blipFill>
          <a:blip r:embed="rId4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ab29\Local Settings\Temporary Internet Files\Content.IE5\I0WIJ97D\MP900438813[1].jpg"/>
          <p:cNvPicPr/>
          <p:nvPr/>
        </p:nvPicPr>
        <p:blipFill>
          <a:blip r:embed="rId5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ispanic over 65 couple.JPG"/>
          <p:cNvPicPr/>
          <p:nvPr/>
        </p:nvPicPr>
        <p:blipFill>
          <a:blip r:embed="rId6"/>
          <a:srcRect l="0" t="-10" r="0" b="0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8C3E1-3A26-4B26-A61F-C8D6BFC6A48D}" type="datetime3">
              <a:rPr b="0" lang="en-US" sz="1100" spc="-1" strike="noStrike">
                <a:solidFill>
                  <a:srgbClr val="084678"/>
                </a:solidFill>
                <a:latin typeface="Segoe UI"/>
                <a:ea typeface="Segoe UI"/>
              </a:rPr>
              <a:t>July 30,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94" name="Rectangle 2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5" name="Right Triangle 7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97" name="Rectangle 10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9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F4AA9-75AF-4C53-843A-C3DBA9704CEB}" type="datetime3">
              <a:rPr b="0" lang="en-US" sz="1400" spc="-1" strike="noStrike">
                <a:solidFill>
                  <a:srgbClr val="084678"/>
                </a:solidFill>
                <a:latin typeface="Segoe UI"/>
                <a:ea typeface="Segoe UI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4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44" name="Rectangle 2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5" name="Right Triangle 7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6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22AC8-DA62-4AD4-AA39-E2F0E01CBFA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7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8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FBFFD-97F3-4EF2-BC59-CB152A3E0F8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8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90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CD60E-2DA4-494F-8BD8-1A5E874FA00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1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C0BAD-D312-4328-A3EE-4AD8C524418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34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6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2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DA1AB-5F6D-47BC-A53C-E3C52ED5FA6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3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4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7903A-120D-4EB5-B492-1E81236E1BB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8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8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5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85F26-C868-4E59-8273-6D7EC11FDFA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6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7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69409-B6C8-492F-BFB2-75F9F8A0491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6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8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8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A6DE1-E15B-4D0B-8CBF-680CA42F765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9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FECC6-E8F4-4BCD-BAE1-E6C3226DB77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7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7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28C65-E548-4308-BBD8-B14D73DA626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DD8B7-7C74-4E3F-856B-011A835DA7A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nsurance.wa.gov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25120" y="3838320"/>
            <a:ext cx="713268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read </a:t>
            </a:r>
            <a:br>
              <a:rPr sz="3600"/>
            </a:b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Summary Notices and Explanation of Benefit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6816600" y="5921280"/>
            <a:ext cx="21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3b62"/>
                </a:solidFill>
                <a:latin typeface="Segoe UI"/>
                <a:ea typeface="Segoe UI"/>
              </a:rPr>
              <a:t>Revised – Jan. 23, 2024</a:t>
            </a: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26" name="Picture 1" descr="A round blue and orange label with text and balloons&#10;&#10;Description automatically generated"/>
          <p:cNvPicPr/>
          <p:nvPr/>
        </p:nvPicPr>
        <p:blipFill>
          <a:blip r:embed="rId1"/>
          <a:stretch/>
        </p:blipFill>
        <p:spPr>
          <a:xfrm>
            <a:off x="285840" y="3610080"/>
            <a:ext cx="1865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68240" y="1230480"/>
            <a:ext cx="7629480" cy="4833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ample MS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28623-9002-42C3-B757-077B0BBD9772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BAE95-4466-4E23-AB6E-20E4DD3B0CB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406440"/>
            <a:ext cx="84456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23AE0-6CA3-43AE-BF28-A116CA354422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47AA7-F933-4D7F-8544-D5C4FB13BC7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44600" y="1482840"/>
            <a:ext cx="8277120" cy="52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Before starting, check to make sure the denial is not an error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400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•</a:t>
            </a:r>
            <a:r>
              <a:rPr b="1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Sometimes, the bill the provider sends to Medicare is incorrectly filed, which results in a denial of service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51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•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The provider’s office can correct the error by contacting the company that processed the Medicare claim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425520"/>
            <a:ext cx="84456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0803E-0955-462B-9804-E7D840C1E3B9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0877B-EF62-40FE-B967-4AD1C64F4C7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33440" y="1327320"/>
            <a:ext cx="79264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Start the appeal by filling out the shaded area on the last page of the MSN.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Ask your provider to write a letter of support that explains why you need the care and addresses the plan’s denial reas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nd copies of letters - do NOT send origina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ail copies to the address by the date indicated on the last p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3720" y="44280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995BA-6B03-4E48-85A4-46E2126029D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7DB8A-51C5-46B9-BE0A-3FA6B049BB5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698400" y="1073160"/>
            <a:ext cx="7585200" cy="4989600"/>
          </a:xfrm>
          <a:prstGeom prst="rect">
            <a:avLst/>
          </a:prstGeom>
          <a:ln w="0">
            <a:noFill/>
          </a:ln>
        </p:spPr>
      </p:pic>
      <p:sp>
        <p:nvSpPr>
          <p:cNvPr id="48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CD7FD-FF55-4DDF-8372-88D9BE84371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0DFB7-337A-439F-8E38-75DB8BCB1AC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60360" y="1337760"/>
            <a:ext cx="84456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You can appeal Medicare’s decision to deny coverag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There are multiple levels to the appeal proces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If an appeal is denied, you can appeal to the next leve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rial"/>
              </a:rPr>
              <a:t>You can request a good cause extension if you miss the appeal deadline (file as normal with an explanation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xplanation of Benefits (EOBs)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5" name="Slide Number Placeholder 7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B88D1-93EB-4AF8-B113-527BB799832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E94BF-41EE-444D-902A-B0ED8DC8019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at is an EOB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44CBD-D05F-4688-915B-DE652EEC829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C96BA-421C-4FF4-95B2-9FF9CC03357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60360" y="1310760"/>
            <a:ext cx="8445600" cy="49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28600">
              <a:spcBef>
                <a:spcPts val="2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only receive an EOB if you have an MA plan or a Medicare Part D drug pla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not a bil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a summary of the services or items you have received and how much you may owe for them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 tells you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ow much your provider bille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approved amount your plan will pay.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ow much you have to pa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399960" indent="-228600"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ips for understanding your EOB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49200" y="1437840"/>
            <a:ext cx="844560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you have an MA plan or Medicare Part D drug plan, your plan will send you your EOBs monthl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’ll only receive an EOB if you received servic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06800" indent="-406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ach insurance plan has its own format, but should include information such as claim number, date of service, amount the provider billed the plan, etc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06ADE-7886-4D58-9941-68CFA21BE1B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AA9DC-9005-42CF-8906-54CE5AE44E1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ips for understanding your EOB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858C1-56AE-4B71-BC5C-AC2034A4AFD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12D7E-45F1-467A-B721-3F185A6299D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60000" y="1197000"/>
            <a:ext cx="82789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ad the definitions and descriptions of services carefull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view the Notes section, including any footnotes where the plan explains its payment decis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an MA or Medicare Part D plan rejects a covered service or prescription drug you received, you should appea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98520" indent="-398520">
              <a:spcBef>
                <a:spcPts val="9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e the “Where to go for Help” section on the last page of your EOB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ample EOB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1B62-3625-4A4D-ACDF-0DDB84AFED5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520C1-2889-4253-9145-98EBA9ED5E1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1460520" y="1219320"/>
            <a:ext cx="6008760" cy="4925880"/>
          </a:xfrm>
          <a:prstGeom prst="rect">
            <a:avLst/>
          </a:prstGeom>
          <a:ln w="0">
            <a:noFill/>
          </a:ln>
        </p:spPr>
      </p:pic>
      <p:sp>
        <p:nvSpPr>
          <p:cNvPr id="51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HIBA missio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12880" y="1725480"/>
            <a:ext cx="78213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HIBA provide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free, unbiased information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about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health care coverage and acces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help improve the lives of all Washington state residents.  We cultivate community commitment through partnership, service and volunteering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30869-DB5C-4EA8-833E-CD02926FD57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06F1B-C35E-43B7-BB3C-6D3C548D896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3FA4C-C06C-45F8-AB9C-A95A14C0A83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60000" y="1429920"/>
            <a:ext cx="8342280" cy="41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Before starting, check to make sure the denial is not an error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Sometimes, the bill the provider sends to your MA plan is filed incorrectly, resulting in a denial of service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The provider’s office can correct the error by contacting the company that processed the claim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FAA5E-1A1E-483B-ABC6-B91B45D1EF5B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D3DC4-DCC6-4D83-B864-144EE81FE3F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60360" y="1225440"/>
            <a:ext cx="8577360" cy="47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tart an appeal by sending a letter to the plan’s grievances and appeals department that explains why you need the service or item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6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sk the doctor to write a letter of support that explains why you need the care and addresses the plan’s denial reas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6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end copies of letters - do NOT send origina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Date Placeholder 3"/>
          <p:cNvSpPr/>
          <p:nvPr/>
        </p:nvSpPr>
        <p:spPr>
          <a:xfrm>
            <a:off x="6032520" y="6348240"/>
            <a:ext cx="2133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C2811-D061-4B9C-9EE5-CD2A9D169B1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ow to handle denied clai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21421-BED5-4D4D-82F0-E04A4D6CF90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30EC6-E224-4E12-8CC7-1709D292B62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760" y="1242720"/>
            <a:ext cx="81010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appeal the MA or drug plan’s decision to deny cover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re are multiple levels to the appeal proces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an appeal is denied, you can appeal to the next leve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request a good cause extension if you miss the appeal deadline (file as normal with an explanation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at else you need to know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4128E-B871-4F16-9692-FCD6C8DBD19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5" name="Slide Number Placeholder 7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109B6-2F0D-4FC4-A1CA-309545E367F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7520" y="472680"/>
            <a:ext cx="844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Learn about Medicare’s coverage rul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969E0-C46E-4E7C-8DD9-2297E7F82E4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97649-2E55-43EA-B6A8-EA1961D5C18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60360" y="1390320"/>
            <a:ext cx="8445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To learn more about Original Medicare’s coverage of a service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Call 1-800-MEDICARE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(1-800-633-4227)</a:t>
            </a: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Visit Medicare.gov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Read the relevant sections in the Medicare &amp; You handbook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egoe UI"/>
              </a:rPr>
              <a:t>Contact your local SHIBA office at 1-800-562-6900.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ere to go for hel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60000" y="1318680"/>
            <a:ext cx="81709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egoe UI"/>
            </a:endParaRPr>
          </a:p>
          <a:p>
            <a:pPr lvl="1" marL="46188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For questions about your MSN, call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1-800-MEDICARE (1-800-633-4227)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46188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For questions about your EOB, call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Your insurance plan - the phone number is located on the back of your plan’s insurance card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46188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If you do not think you received the service, item or medication outlined on your MSN or EOB, contact your provider to inquire about a possible error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5946840" y="6321600"/>
            <a:ext cx="2133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714E6-9891-482F-867A-41A183B4734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1A365-BB29-4F27-8ACD-EAEF64C34F4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Volunteer for SHIBA!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37680" y="1355400"/>
            <a:ext cx="559764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275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tabLst>
                <a:tab algn="l" pos="0"/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Do you want to help explain health care  benefits or options to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Friends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Neighbors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You community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Help people become better informed consumers?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338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9" name="Date Placeholder 3"/>
          <p:cNvSpPr/>
          <p:nvPr/>
        </p:nvSpPr>
        <p:spPr>
          <a:xfrm>
            <a:off x="5946840" y="6321600"/>
            <a:ext cx="2133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8AC70-B1DF-4B92-BB7B-C219E71AF1C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CEDAF-518A-4470-AD03-BE77ACB7787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830920" y="1368360"/>
            <a:ext cx="2975040" cy="37846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4"/>
          <p:cNvSpPr/>
          <p:nvPr/>
        </p:nvSpPr>
        <p:spPr>
          <a:xfrm>
            <a:off x="581040" y="5256360"/>
            <a:ext cx="79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Become a volunteer! Call: </a:t>
            </a:r>
            <a:r>
              <a:rPr b="1" lang="en-US" sz="2800" spc="-1" strike="noStrike">
                <a:solidFill>
                  <a:srgbClr val="084678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84678"/>
                </a:solidFill>
                <a:latin typeface="Segoe UI"/>
              </a:rPr>
              <a:t>Need help with other insurance questions?</a:t>
            </a:r>
            <a:endParaRPr b="0" lang="en-US" sz="35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91DE3-FCF4-4405-AB5E-CCD84C5F7E9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81685-1AEF-4872-95E5-763BB665E0F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0360" y="1311120"/>
            <a:ext cx="8445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The Office of the Insurance Commissioner can also help you with questions, information and complaints about all types of insurance, such as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Content Placeholder 2"/>
          <p:cNvSpPr/>
          <p:nvPr/>
        </p:nvSpPr>
        <p:spPr>
          <a:xfrm>
            <a:off x="2122560" y="2684520"/>
            <a:ext cx="246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omeowner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uto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9" name="Content Placeholder 2"/>
          <p:cNvSpPr/>
          <p:nvPr/>
        </p:nvSpPr>
        <p:spPr>
          <a:xfrm>
            <a:off x="4781520" y="2701800"/>
            <a:ext cx="27338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nuiti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0" name="Content Placeholder 2"/>
          <p:cNvSpPr/>
          <p:nvPr/>
        </p:nvSpPr>
        <p:spPr>
          <a:xfrm>
            <a:off x="512640" y="4308480"/>
            <a:ext cx="8029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ll our Insurance Consumer Hotline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On the web at: </a:t>
            </a: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SHIBA celebrates 45 year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72960" y="1198440"/>
            <a:ext cx="80740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SHIBA celebrates 45 years of helping people on Medicare!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6, a small group of volunteers, known as Health Insurance Referral Services, were part of a pilot program in Mount Vernon. They helped counsel senior citizens on health insurance, Medicare and Medicaid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8, the OIC’s Consumer Protection Deputy Commissioner helped the group become SHIBA, which then stood for Senior Health Insurance Benefits Advisors.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In 1979, the state’s Insurance Commissioner Dick Marquardt, officially endorsed SHIBA as a statewide project with the Office of the Insurance Commissioner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Later on, SHIBA inspired the federal government in 1990 to create a model, called the national State Health Insurance Programs (SHIPs). 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Today, there are SHIPs in all 50 states, plus Puerto Rico, Guam, the District of Columbia and the US Virgin Islands.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D01D7-F0D4-4A79-9254-FFCAF96E177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EFCFF-FCC6-4B52-86D5-C5105872A77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he Senior Medicare Patrol (SMP) missio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983040" y="1306440"/>
            <a:ext cx="43718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The SMP mission: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2ba3f"/>
                </a:solidFill>
                <a:latin typeface="Segoe UI"/>
              </a:rPr>
              <a:t>Empower and assist Medicare beneficiaries, their families, and caregiver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Segoe UI"/>
              </a:rPr>
              <a:t>to prevent, detect, and report health care fraud, errors, and abuse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1" lang="en-US" sz="2800" spc="-1" strike="noStrike">
                <a:solidFill>
                  <a:srgbClr val="2897f1"/>
                </a:solidFill>
                <a:latin typeface="Segoe UI"/>
              </a:rPr>
              <a:t>through outreach, counseling and education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31D31-CF5C-4E99-B794-6ABB440FB5E1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B54B3-7285-487E-BC0A-490826224A9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446040" y="1211400"/>
            <a:ext cx="2981520" cy="4626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9"/>
          <p:cNvSpPr/>
          <p:nvPr/>
        </p:nvSpPr>
        <p:spPr>
          <a:xfrm>
            <a:off x="914400" y="3054240"/>
            <a:ext cx="197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 Gothic MT"/>
                <a:ea typeface="Segoe UI"/>
              </a:rPr>
              <a:t>Prevent Detect Report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43" name="Picture 2" descr="A picture containing text, clipart&#10;&#10;Description automatically generated"/>
          <p:cNvPicPr/>
          <p:nvPr/>
        </p:nvPicPr>
        <p:blipFill>
          <a:blip r:embed="rId2"/>
          <a:stretch/>
        </p:blipFill>
        <p:spPr>
          <a:xfrm>
            <a:off x="1125360" y="4535640"/>
            <a:ext cx="1622520" cy="765000"/>
          </a:xfrm>
          <a:prstGeom prst="rect">
            <a:avLst/>
          </a:prstGeom>
          <a:ln w="0">
            <a:noFill/>
          </a:ln>
        </p:spPr>
      </p:pic>
      <p:sp>
        <p:nvSpPr>
          <p:cNvPr id="44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9200" y="3430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oday’s overview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60360" y="1392120"/>
            <a:ext cx="84456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ake sense of your Medicare Summary Notices (MSNs) from Medicar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ake sense of your Explanation of Benefits (EOBs) from your Medicare Advantage (MA) or drug pla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elpful information about Medicare cover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nd out about volunteer opportuniti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'll wrap up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2C5C3-DB96-46FC-9332-7C2678BE511F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6CCB3-C4E8-47ED-A0D3-DB81E6E79C3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Important term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B7D6F-FEC7-4EA1-9236-788F839128D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A4680-39BE-4036-8C4C-4B1FE976812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0360" y="1668240"/>
            <a:ext cx="8445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Appeal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a formal request to Medicare, an MA or RX plan, to review a service or item coverage decis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Coinsurance/Copayment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amount you must pay for each service or item. Coinsurance is a percentage of the total cost. A copayment or copay is a fixed amoun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Deductible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amount you must spend on health care or drugs before your insurance begins to pa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Summary Notice (MSN)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6" name="Slide Number Placeholder 7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9C7D1-313B-458C-BE71-51FEF732FDA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35C40-9B7F-456E-BA55-F4530CA127F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What is an MSN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CC16C-5E7B-46F9-8C32-E53162F2BECF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0E62A-F344-4574-9DFF-5A1D74F0E04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60360" y="1014480"/>
            <a:ext cx="8445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It's not a bill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It's a notice that people with Original Medicare get in the mail every 3 months for their Medicare Part A- and B-covered service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The MSN shows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All your services or supplies that providers and suppliers bill to Medicare during the 3-month period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What Medicare paid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The maximum amount you may owe the provider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167760" indent="-167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If Original Medicare will not pay for care you received, you will find this out when you receive your Medicare Summary Notice (MSN)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7640" y="414360"/>
            <a:ext cx="862956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84678"/>
                </a:solidFill>
                <a:latin typeface="Segoe UI"/>
              </a:rPr>
              <a:t>Tips for understanding your MSN</a:t>
            </a:r>
            <a:endParaRPr b="0" lang="en-US" sz="33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C5AF5-7355-4D1D-8F45-2AE638E4B4D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9BCD4-D2FD-49B9-9046-FEDF1809E7A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77640" y="1112400"/>
            <a:ext cx="835164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also view your MSNs online at medicare.gov when you open an accoun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ad the definitions and descriptions of services carefull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view the Notes section where Medicare explains its payment decision or gives other important informat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Medicare rejects a covered service you received, you should appea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e the “Where to go for Help” section on the last pa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Segoe UI"/>
            </a:endParaRPr>
          </a:p>
          <a:p>
            <a:pPr lvl="1" marL="74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How to read MSNs and EOBs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/>
  <dc:language>en-US</dc:language>
  <cp:lastModifiedBy>Wells, Donna (OIC)</cp:lastModifiedBy>
  <cp:lastPrinted>2019-07-31T19:39:20Z</cp:lastPrinted>
  <dcterms:modified xsi:type="dcterms:W3CDTF">2024-01-23T21:51:56Z</dcterms:modified>
  <cp:revision>361</cp:revision>
  <dc:subject>Public slide show about how to read a Medicare Summary Notice and an Explanation of Benefits</dc:subject>
  <dc:title>How to read a Medicare Summary Notice and Explanation of Benefits</dc:title>
</cp:coreProperties>
</file>